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17.jpeg" ContentType="image/jpeg"/>
  <Override PartName="/ppt/media/image2.jpeg" ContentType="image/jpeg"/>
  <Override PartName="/ppt/media/image10.png" ContentType="image/png"/>
  <Override PartName="/ppt/media/image27.jpeg" ContentType="image/jpeg"/>
  <Override PartName="/ppt/media/image28.jpeg" ContentType="image/jpeg"/>
  <Override PartName="/ppt/media/image15.png" ContentType="image/png"/>
  <Override PartName="/ppt/media/image26.jpeg" ContentType="image/jpeg"/>
  <Override PartName="/ppt/media/image25.jpeg" ContentType="image/jpeg"/>
  <Override PartName="/ppt/media/image24.png" ContentType="image/png"/>
  <Override PartName="/ppt/media/image18.jpeg" ContentType="image/jpeg"/>
  <Override PartName="/ppt/media/image23.png" ContentType="image/png"/>
  <Override PartName="/ppt/media/image22.png" ContentType="image/png"/>
  <Override PartName="/ppt/media/image19.png" ContentType="image/png"/>
  <Override PartName="/ppt/media/image21.png" ContentType="image/png"/>
  <Override PartName="/ppt/media/image16.jpeg" ContentType="image/jpeg"/>
  <Override PartName="/ppt/media/image14.png" ContentType="image/png"/>
  <Override PartName="/ppt/media/image5.png" ContentType="image/png"/>
  <Override PartName="/ppt/media/image2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</p:sldIdLst>
  <p:sldSz cx="12196763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41320" y="590400"/>
            <a:ext cx="10515600" cy="63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41320" y="1600200"/>
            <a:ext cx="10515600" cy="20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841320" y="3834000"/>
            <a:ext cx="10515600" cy="20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41320" y="590400"/>
            <a:ext cx="10515600" cy="63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41320" y="1600200"/>
            <a:ext cx="5131440" cy="20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29800" y="1600200"/>
            <a:ext cx="5131440" cy="20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841320" y="3834000"/>
            <a:ext cx="5131440" cy="20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229800" y="3834000"/>
            <a:ext cx="5131440" cy="20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1320" y="590400"/>
            <a:ext cx="10515600" cy="63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41320" y="1600200"/>
            <a:ext cx="3385800" cy="20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96680" y="1600200"/>
            <a:ext cx="3385800" cy="20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952400" y="1600200"/>
            <a:ext cx="3385800" cy="20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841320" y="3834000"/>
            <a:ext cx="3385800" cy="20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396680" y="3834000"/>
            <a:ext cx="3385800" cy="20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7952400" y="3834000"/>
            <a:ext cx="3385800" cy="20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841320" y="590400"/>
            <a:ext cx="10515600" cy="63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841320" y="1600200"/>
            <a:ext cx="10515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41320" y="590400"/>
            <a:ext cx="10515600" cy="63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41320" y="1600200"/>
            <a:ext cx="1051560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41320" y="590400"/>
            <a:ext cx="10515600" cy="63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841320" y="1600200"/>
            <a:ext cx="513144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229800" y="1600200"/>
            <a:ext cx="513144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41320" y="590400"/>
            <a:ext cx="10515600" cy="63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841320" y="590400"/>
            <a:ext cx="10515600" cy="29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1320" y="590400"/>
            <a:ext cx="10515600" cy="63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41320" y="1600200"/>
            <a:ext cx="5131440" cy="20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229800" y="1600200"/>
            <a:ext cx="513144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841320" y="3834000"/>
            <a:ext cx="5131440" cy="20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41320" y="590400"/>
            <a:ext cx="10515600" cy="63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841320" y="1600200"/>
            <a:ext cx="10515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1320" y="590400"/>
            <a:ext cx="10515600" cy="63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41320" y="1600200"/>
            <a:ext cx="513144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229800" y="1600200"/>
            <a:ext cx="5131440" cy="20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229800" y="3834000"/>
            <a:ext cx="5131440" cy="20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41320" y="590400"/>
            <a:ext cx="10515600" cy="63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41320" y="1600200"/>
            <a:ext cx="5131440" cy="20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229800" y="1600200"/>
            <a:ext cx="5131440" cy="20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841320" y="3834000"/>
            <a:ext cx="10515600" cy="20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41320" y="590400"/>
            <a:ext cx="10515600" cy="63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41320" y="1600200"/>
            <a:ext cx="10515600" cy="20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841320" y="3834000"/>
            <a:ext cx="10515600" cy="20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41320" y="590400"/>
            <a:ext cx="10515600" cy="63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41320" y="1600200"/>
            <a:ext cx="5131440" cy="20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29800" y="1600200"/>
            <a:ext cx="5131440" cy="20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841320" y="3834000"/>
            <a:ext cx="5131440" cy="20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6229800" y="3834000"/>
            <a:ext cx="5131440" cy="20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41320" y="590400"/>
            <a:ext cx="10515600" cy="63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41320" y="1600200"/>
            <a:ext cx="3385800" cy="20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396680" y="1600200"/>
            <a:ext cx="3385800" cy="20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952400" y="1600200"/>
            <a:ext cx="3385800" cy="20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841320" y="3834000"/>
            <a:ext cx="3385800" cy="20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4396680" y="3834000"/>
            <a:ext cx="3385800" cy="20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7952400" y="3834000"/>
            <a:ext cx="3385800" cy="20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41320" y="590400"/>
            <a:ext cx="10515600" cy="63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841320" y="1600200"/>
            <a:ext cx="10515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41320" y="590400"/>
            <a:ext cx="10515600" cy="63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41320" y="1600200"/>
            <a:ext cx="1051560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41320" y="590400"/>
            <a:ext cx="10515600" cy="63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41320" y="1600200"/>
            <a:ext cx="513144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229800" y="1600200"/>
            <a:ext cx="513144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41320" y="590400"/>
            <a:ext cx="10515600" cy="63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841320" y="590400"/>
            <a:ext cx="10515600" cy="63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841320" y="1600200"/>
            <a:ext cx="1051560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841320" y="590400"/>
            <a:ext cx="10515600" cy="29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41320" y="590400"/>
            <a:ext cx="10515600" cy="63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41320" y="1600200"/>
            <a:ext cx="5131440" cy="20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229800" y="1600200"/>
            <a:ext cx="513144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841320" y="3834000"/>
            <a:ext cx="5131440" cy="20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41320" y="590400"/>
            <a:ext cx="10515600" cy="63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41320" y="1600200"/>
            <a:ext cx="513144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6229800" y="1600200"/>
            <a:ext cx="5131440" cy="20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29800" y="3834000"/>
            <a:ext cx="5131440" cy="20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41320" y="590400"/>
            <a:ext cx="10515600" cy="63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41320" y="1600200"/>
            <a:ext cx="5131440" cy="20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6229800" y="1600200"/>
            <a:ext cx="5131440" cy="20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841320" y="3834000"/>
            <a:ext cx="10515600" cy="20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41320" y="590400"/>
            <a:ext cx="10515600" cy="63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41320" y="1600200"/>
            <a:ext cx="10515600" cy="20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841320" y="3834000"/>
            <a:ext cx="10515600" cy="20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41320" y="590400"/>
            <a:ext cx="10515600" cy="63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41320" y="1600200"/>
            <a:ext cx="5131440" cy="20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229800" y="1600200"/>
            <a:ext cx="5131440" cy="20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841320" y="3834000"/>
            <a:ext cx="5131440" cy="20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6229800" y="3834000"/>
            <a:ext cx="5131440" cy="20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41320" y="590400"/>
            <a:ext cx="10515600" cy="63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41320" y="1600200"/>
            <a:ext cx="3385800" cy="20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396680" y="1600200"/>
            <a:ext cx="3385800" cy="20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7952400" y="1600200"/>
            <a:ext cx="3385800" cy="20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841320" y="3834000"/>
            <a:ext cx="3385800" cy="20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4396680" y="3834000"/>
            <a:ext cx="3385800" cy="20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7952400" y="3834000"/>
            <a:ext cx="3385800" cy="20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41320" y="590400"/>
            <a:ext cx="10515600" cy="63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841320" y="1600200"/>
            <a:ext cx="10515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41320" y="590400"/>
            <a:ext cx="10515600" cy="63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41320" y="1600200"/>
            <a:ext cx="1051560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41320" y="590400"/>
            <a:ext cx="10515600" cy="63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841320" y="1600200"/>
            <a:ext cx="513144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229800" y="1600200"/>
            <a:ext cx="513144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41320" y="590400"/>
            <a:ext cx="10515600" cy="63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41320" y="1600200"/>
            <a:ext cx="513144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6229800" y="1600200"/>
            <a:ext cx="513144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41320" y="590400"/>
            <a:ext cx="10515600" cy="63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841320" y="590400"/>
            <a:ext cx="10515600" cy="29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41320" y="590400"/>
            <a:ext cx="10515600" cy="63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41320" y="1600200"/>
            <a:ext cx="5131440" cy="20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229800" y="1600200"/>
            <a:ext cx="513144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841320" y="3834000"/>
            <a:ext cx="5131440" cy="20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41320" y="590400"/>
            <a:ext cx="10515600" cy="63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41320" y="1600200"/>
            <a:ext cx="513144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229800" y="1600200"/>
            <a:ext cx="5131440" cy="20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229800" y="3834000"/>
            <a:ext cx="5131440" cy="20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41320" y="590400"/>
            <a:ext cx="10515600" cy="63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41320" y="1600200"/>
            <a:ext cx="5131440" cy="20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229800" y="1600200"/>
            <a:ext cx="5131440" cy="20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841320" y="3834000"/>
            <a:ext cx="10515600" cy="20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41320" y="590400"/>
            <a:ext cx="10515600" cy="63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41320" y="1600200"/>
            <a:ext cx="10515600" cy="20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841320" y="3834000"/>
            <a:ext cx="10515600" cy="20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41320" y="590400"/>
            <a:ext cx="10515600" cy="63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41320" y="1600200"/>
            <a:ext cx="5131440" cy="20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6229800" y="1600200"/>
            <a:ext cx="5131440" cy="20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841320" y="3834000"/>
            <a:ext cx="5131440" cy="20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6229800" y="3834000"/>
            <a:ext cx="5131440" cy="20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41320" y="590400"/>
            <a:ext cx="10515600" cy="63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841320" y="1600200"/>
            <a:ext cx="3385800" cy="20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396680" y="1600200"/>
            <a:ext cx="3385800" cy="20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7952400" y="1600200"/>
            <a:ext cx="3385800" cy="20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841320" y="3834000"/>
            <a:ext cx="3385800" cy="20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4396680" y="3834000"/>
            <a:ext cx="3385800" cy="20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7952400" y="3834000"/>
            <a:ext cx="3385800" cy="20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1320" y="590400"/>
            <a:ext cx="10515600" cy="63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41320" y="590400"/>
            <a:ext cx="10515600" cy="63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841320" y="1600200"/>
            <a:ext cx="10515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41320" y="590400"/>
            <a:ext cx="10515600" cy="63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41320" y="1600200"/>
            <a:ext cx="1051560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1320" y="590400"/>
            <a:ext cx="10515600" cy="63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41320" y="1600200"/>
            <a:ext cx="513144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6229800" y="1600200"/>
            <a:ext cx="513144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41320" y="590400"/>
            <a:ext cx="10515600" cy="63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841320" y="590400"/>
            <a:ext cx="10515600" cy="29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1320" y="590400"/>
            <a:ext cx="10515600" cy="63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41320" y="1600200"/>
            <a:ext cx="5131440" cy="20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6229800" y="1600200"/>
            <a:ext cx="513144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841320" y="3834000"/>
            <a:ext cx="5131440" cy="20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1320" y="590400"/>
            <a:ext cx="10515600" cy="63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41320" y="1600200"/>
            <a:ext cx="513144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6229800" y="1600200"/>
            <a:ext cx="5131440" cy="20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229800" y="3834000"/>
            <a:ext cx="5131440" cy="20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41320" y="590400"/>
            <a:ext cx="10515600" cy="63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41320" y="1600200"/>
            <a:ext cx="5131440" cy="20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6229800" y="1600200"/>
            <a:ext cx="5131440" cy="20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841320" y="3834000"/>
            <a:ext cx="10515600" cy="20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41320" y="590400"/>
            <a:ext cx="10515600" cy="63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841320" y="1600200"/>
            <a:ext cx="10515600" cy="20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841320" y="3834000"/>
            <a:ext cx="10515600" cy="20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41320" y="590400"/>
            <a:ext cx="10515600" cy="63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41320" y="1600200"/>
            <a:ext cx="5131440" cy="20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6229800" y="1600200"/>
            <a:ext cx="5131440" cy="20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841320" y="3834000"/>
            <a:ext cx="5131440" cy="20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6229800" y="3834000"/>
            <a:ext cx="5131440" cy="20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841320" y="590400"/>
            <a:ext cx="10515600" cy="29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41320" y="590400"/>
            <a:ext cx="10515600" cy="63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41320" y="1600200"/>
            <a:ext cx="3385800" cy="20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396680" y="1600200"/>
            <a:ext cx="3385800" cy="20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7952400" y="1600200"/>
            <a:ext cx="3385800" cy="20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841320" y="3834000"/>
            <a:ext cx="3385800" cy="20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4396680" y="3834000"/>
            <a:ext cx="3385800" cy="20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7952400" y="3834000"/>
            <a:ext cx="3385800" cy="20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1320" y="590400"/>
            <a:ext cx="10515600" cy="63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841320" y="1600200"/>
            <a:ext cx="10515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1320" y="590400"/>
            <a:ext cx="10515600" cy="63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41320" y="1600200"/>
            <a:ext cx="1051560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41320" y="590400"/>
            <a:ext cx="10515600" cy="63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41320" y="1600200"/>
            <a:ext cx="513144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6229800" y="1600200"/>
            <a:ext cx="513144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41320" y="590400"/>
            <a:ext cx="10515600" cy="63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841320" y="590400"/>
            <a:ext cx="10515600" cy="29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41320" y="590400"/>
            <a:ext cx="10515600" cy="63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41320" y="1600200"/>
            <a:ext cx="5131440" cy="20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6229800" y="1600200"/>
            <a:ext cx="513144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841320" y="3834000"/>
            <a:ext cx="5131440" cy="20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41320" y="590400"/>
            <a:ext cx="10515600" cy="63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841320" y="1600200"/>
            <a:ext cx="513144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229800" y="1600200"/>
            <a:ext cx="5131440" cy="20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229800" y="3834000"/>
            <a:ext cx="5131440" cy="20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41320" y="590400"/>
            <a:ext cx="10515600" cy="63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41320" y="1600200"/>
            <a:ext cx="5131440" cy="20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6229800" y="1600200"/>
            <a:ext cx="5131440" cy="20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41320" y="3834000"/>
            <a:ext cx="10515600" cy="20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1320" y="590400"/>
            <a:ext cx="10515600" cy="63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41320" y="1600200"/>
            <a:ext cx="5131440" cy="20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229800" y="1600200"/>
            <a:ext cx="513144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841320" y="3834000"/>
            <a:ext cx="5131440" cy="20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41320" y="590400"/>
            <a:ext cx="10515600" cy="63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41320" y="1600200"/>
            <a:ext cx="10515600" cy="20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841320" y="3834000"/>
            <a:ext cx="10515600" cy="20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41320" y="590400"/>
            <a:ext cx="10515600" cy="63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41320" y="1600200"/>
            <a:ext cx="5131440" cy="20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229800" y="1600200"/>
            <a:ext cx="5131440" cy="20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841320" y="3834000"/>
            <a:ext cx="5131440" cy="20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6229800" y="3834000"/>
            <a:ext cx="5131440" cy="20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41320" y="590400"/>
            <a:ext cx="10515600" cy="63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41320" y="1600200"/>
            <a:ext cx="3385800" cy="20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396680" y="1600200"/>
            <a:ext cx="3385800" cy="20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7952400" y="1600200"/>
            <a:ext cx="3385800" cy="20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841320" y="3834000"/>
            <a:ext cx="3385800" cy="20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4396680" y="3834000"/>
            <a:ext cx="3385800" cy="20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7952400" y="3834000"/>
            <a:ext cx="3385800" cy="20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41320" y="590400"/>
            <a:ext cx="10515600" cy="63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41320" y="1600200"/>
            <a:ext cx="513144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9800" y="1600200"/>
            <a:ext cx="5131440" cy="20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229800" y="3834000"/>
            <a:ext cx="5131440" cy="20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41320" y="590400"/>
            <a:ext cx="10515600" cy="63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41320" y="1600200"/>
            <a:ext cx="5131440" cy="20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9800" y="1600200"/>
            <a:ext cx="5131440" cy="20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841320" y="3834000"/>
            <a:ext cx="10515600" cy="20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4.png"/><Relationship Id="rId17" Type="http://schemas.openxmlformats.org/officeDocument/2006/relationships/image" Target="../media/image14.png"/><Relationship Id="rId18" Type="http://schemas.openxmlformats.org/officeDocument/2006/relationships/slideLayout" Target="../slideLayouts/slideLayout61.xml"/><Relationship Id="rId19" Type="http://schemas.openxmlformats.org/officeDocument/2006/relationships/slideLayout" Target="../slideLayouts/slideLayout62.xml"/><Relationship Id="rId20" Type="http://schemas.openxmlformats.org/officeDocument/2006/relationships/slideLayout" Target="../slideLayouts/slideLayout63.xml"/><Relationship Id="rId21" Type="http://schemas.openxmlformats.org/officeDocument/2006/relationships/slideLayout" Target="../slideLayouts/slideLayout64.xml"/><Relationship Id="rId22" Type="http://schemas.openxmlformats.org/officeDocument/2006/relationships/slideLayout" Target="../slideLayouts/slideLayout65.xml"/><Relationship Id="rId23" Type="http://schemas.openxmlformats.org/officeDocument/2006/relationships/slideLayout" Target="../slideLayouts/slideLayout66.xml"/><Relationship Id="rId24" Type="http://schemas.openxmlformats.org/officeDocument/2006/relationships/slideLayout" Target="../slideLayouts/slideLayout67.xml"/><Relationship Id="rId25" Type="http://schemas.openxmlformats.org/officeDocument/2006/relationships/slideLayout" Target="../slideLayouts/slideLayout68.xml"/><Relationship Id="rId26" Type="http://schemas.openxmlformats.org/officeDocument/2006/relationships/slideLayout" Target="../slideLayouts/slideLayout69.xml"/><Relationship Id="rId27" Type="http://schemas.openxmlformats.org/officeDocument/2006/relationships/slideLayout" Target="../slideLayouts/slideLayout70.xml"/><Relationship Id="rId28" Type="http://schemas.openxmlformats.org/officeDocument/2006/relationships/slideLayout" Target="../slideLayouts/slideLayout71.xml"/><Relationship Id="rId29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1320" y="590400"/>
            <a:ext cx="10515600" cy="63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41320" y="1600200"/>
            <a:ext cx="1051560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1aa0d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1aa0d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1aa0d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1aa0d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1aa0d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41320" y="590400"/>
            <a:ext cx="10515600" cy="63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841320" y="1600200"/>
            <a:ext cx="1051560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1aa0d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1aa0d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1aa0d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1aa0d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1aa0d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reeform 5"/>
          <p:cNvSpPr/>
          <p:nvPr/>
        </p:nvSpPr>
        <p:spPr>
          <a:xfrm>
            <a:off x="11047320" y="0"/>
            <a:ext cx="457200" cy="549360"/>
          </a:xfrm>
          <a:custGeom>
            <a:avLst/>
            <a:gdLst/>
            <a:ahLst/>
            <a:rect l="l" t="t" r="r" b="b"/>
            <a:pathLst>
              <a:path w="675" h="800">
                <a:moveTo>
                  <a:pt x="675" y="800"/>
                </a:moveTo>
                <a:lnTo>
                  <a:pt x="334" y="666"/>
                </a:lnTo>
                <a:lnTo>
                  <a:pt x="0" y="800"/>
                </a:lnTo>
                <a:lnTo>
                  <a:pt x="0" y="0"/>
                </a:lnTo>
                <a:lnTo>
                  <a:pt x="675" y="0"/>
                </a:lnTo>
                <a:lnTo>
                  <a:pt x="675" y="800"/>
                </a:lnTo>
                <a:close/>
              </a:path>
            </a:pathLst>
          </a:custGeom>
          <a:solidFill>
            <a:srgbClr val="1aa0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a0da"/>
              </a:solidFill>
              <a:latin typeface="Arial"/>
            </a:endParaRPr>
          </a:p>
        </p:txBody>
      </p:sp>
      <p:sp>
        <p:nvSpPr>
          <p:cNvPr id="77" name="TextBox 19"/>
          <p:cNvSpPr/>
          <p:nvPr/>
        </p:nvSpPr>
        <p:spPr>
          <a:xfrm>
            <a:off x="11047320" y="95400"/>
            <a:ext cx="44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8f8f8"/>
                </a:solidFill>
                <a:latin typeface="微软雅黑"/>
                <a:ea typeface="微软雅黑"/>
              </a:rPr>
              <a:t>*</a:t>
            </a:r>
            <a:endParaRPr b="0" lang="en-US" sz="1400" spc="-1" strike="noStrike">
              <a:solidFill>
                <a:srgbClr val="1aa0da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1320" y="590400"/>
            <a:ext cx="10515600" cy="63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841320" y="1600200"/>
            <a:ext cx="1051560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1aa0d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1aa0d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1aa0d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1aa0d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1aa0d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41320" y="590400"/>
            <a:ext cx="10515600" cy="63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841320" y="1600200"/>
            <a:ext cx="1051560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1aa0d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1aa0d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1aa0d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1aa0d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1aa0d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41320" y="590400"/>
            <a:ext cx="10515600" cy="63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841320" y="1600200"/>
            <a:ext cx="1051560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1aa0d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1aa0d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1aa0d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1aa0d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1aa0d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2" descr="PPECLOGO-eff-0-1"/>
          <p:cNvPicPr/>
          <p:nvPr/>
        </p:nvPicPr>
        <p:blipFill>
          <a:blip r:embed="rId2"/>
          <a:stretch/>
        </p:blipFill>
        <p:spPr>
          <a:xfrm>
            <a:off x="4148280" y="2886120"/>
            <a:ext cx="1060200" cy="79992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3" descr="PPECLOGO-eff-0-2"/>
          <p:cNvPicPr/>
          <p:nvPr/>
        </p:nvPicPr>
        <p:blipFill>
          <a:blip r:embed="rId3"/>
          <a:stretch/>
        </p:blipFill>
        <p:spPr>
          <a:xfrm>
            <a:off x="8431200" y="2757600"/>
            <a:ext cx="1096920" cy="83952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4" descr="PPECLOGO-eff-0-3"/>
          <p:cNvPicPr/>
          <p:nvPr/>
        </p:nvPicPr>
        <p:blipFill>
          <a:blip r:embed="rId4"/>
          <a:stretch/>
        </p:blipFill>
        <p:spPr>
          <a:xfrm>
            <a:off x="1039680" y="1447920"/>
            <a:ext cx="3014640" cy="237636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5" descr="PPECLOGO-eff-0-1"/>
          <p:cNvPicPr/>
          <p:nvPr/>
        </p:nvPicPr>
        <p:blipFill>
          <a:blip r:embed="rId5"/>
          <a:stretch/>
        </p:blipFill>
        <p:spPr>
          <a:xfrm>
            <a:off x="4467240" y="3770280"/>
            <a:ext cx="525600" cy="39708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6" descr="PPECLOGO-eff-0-1"/>
          <p:cNvPicPr/>
          <p:nvPr/>
        </p:nvPicPr>
        <p:blipFill>
          <a:blip r:embed="rId6"/>
          <a:stretch/>
        </p:blipFill>
        <p:spPr>
          <a:xfrm>
            <a:off x="7377120" y="2903400"/>
            <a:ext cx="401760" cy="30348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8" descr="PPECLOGO-eff-0-2"/>
          <p:cNvPicPr/>
          <p:nvPr/>
        </p:nvPicPr>
        <p:blipFill>
          <a:blip r:embed="rId7"/>
          <a:stretch/>
        </p:blipFill>
        <p:spPr>
          <a:xfrm>
            <a:off x="5278320" y="2575080"/>
            <a:ext cx="982800" cy="75060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9" descr="PPECLOGO-eff-5-4"/>
          <p:cNvPicPr/>
          <p:nvPr/>
        </p:nvPicPr>
        <p:blipFill>
          <a:blip r:embed="rId8"/>
          <a:stretch/>
        </p:blipFill>
        <p:spPr>
          <a:xfrm>
            <a:off x="3262320" y="3206880"/>
            <a:ext cx="1477800" cy="112392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0" descr="PPECLOGO-eff-5-2"/>
          <p:cNvPicPr/>
          <p:nvPr/>
        </p:nvPicPr>
        <p:blipFill>
          <a:blip r:embed="rId9"/>
          <a:stretch/>
        </p:blipFill>
        <p:spPr>
          <a:xfrm>
            <a:off x="5353200" y="3446640"/>
            <a:ext cx="1834920" cy="143496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11" descr="PPECLOGO-eff-5-4"/>
          <p:cNvPicPr/>
          <p:nvPr/>
        </p:nvPicPr>
        <p:blipFill>
          <a:blip r:embed="rId10"/>
          <a:stretch/>
        </p:blipFill>
        <p:spPr>
          <a:xfrm>
            <a:off x="9887040" y="2725560"/>
            <a:ext cx="1117440" cy="85104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2" descr="PPECLOGO-eff-0-1"/>
          <p:cNvPicPr/>
          <p:nvPr/>
        </p:nvPicPr>
        <p:blipFill>
          <a:blip r:embed="rId11"/>
          <a:stretch/>
        </p:blipFill>
        <p:spPr>
          <a:xfrm>
            <a:off x="7943760" y="3624120"/>
            <a:ext cx="522360" cy="39384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13" descr="PPECLOGO-eff-0-1"/>
          <p:cNvPicPr/>
          <p:nvPr/>
        </p:nvPicPr>
        <p:blipFill>
          <a:blip r:embed="rId12"/>
          <a:stretch/>
        </p:blipFill>
        <p:spPr>
          <a:xfrm>
            <a:off x="11256840" y="2365200"/>
            <a:ext cx="522360" cy="39240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14" descr="PPECLOGO-eff2-1-2"/>
          <p:cNvPicPr/>
          <p:nvPr/>
        </p:nvPicPr>
        <p:blipFill>
          <a:blip r:embed="rId13"/>
          <a:stretch/>
        </p:blipFill>
        <p:spPr>
          <a:xfrm>
            <a:off x="2054160" y="2795760"/>
            <a:ext cx="1698840" cy="14284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15" descr="PPECLOGO-eff2-1-3"/>
          <p:cNvPicPr/>
          <p:nvPr/>
        </p:nvPicPr>
        <p:blipFill>
          <a:blip r:embed="rId14"/>
          <a:stretch/>
        </p:blipFill>
        <p:spPr>
          <a:xfrm>
            <a:off x="3984480" y="2786040"/>
            <a:ext cx="436680" cy="36504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16" descr="PPECLOGO-eff2-1-4"/>
          <p:cNvPicPr/>
          <p:nvPr/>
        </p:nvPicPr>
        <p:blipFill>
          <a:blip r:embed="rId15"/>
          <a:stretch/>
        </p:blipFill>
        <p:spPr>
          <a:xfrm>
            <a:off x="8520120" y="3325680"/>
            <a:ext cx="703080" cy="58608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17" descr="PPECLOGO-eff2-1-3"/>
          <p:cNvPicPr/>
          <p:nvPr/>
        </p:nvPicPr>
        <p:blipFill>
          <a:blip r:embed="rId16"/>
          <a:stretch/>
        </p:blipFill>
        <p:spPr>
          <a:xfrm>
            <a:off x="9240840" y="2909880"/>
            <a:ext cx="360360" cy="30168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8" descr="PPECLOGO-eff2-1-3"/>
          <p:cNvPicPr/>
          <p:nvPr/>
        </p:nvPicPr>
        <p:blipFill>
          <a:blip r:embed="rId17"/>
          <a:stretch/>
        </p:blipFill>
        <p:spPr>
          <a:xfrm>
            <a:off x="9745560" y="3446640"/>
            <a:ext cx="282600" cy="236520"/>
          </a:xfrm>
          <a:prstGeom prst="rect">
            <a:avLst/>
          </a:prstGeom>
          <a:ln w="0">
            <a:noFill/>
          </a:ln>
        </p:spPr>
      </p:pic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41320" y="590400"/>
            <a:ext cx="10515600" cy="63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841320" y="1600200"/>
            <a:ext cx="1051560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1aa0d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1aa0d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1aa0d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1aa0d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1aa0d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18"/>
    <p:sldLayoutId id="2147483715" r:id="rId19"/>
    <p:sldLayoutId id="2147483716" r:id="rId20"/>
    <p:sldLayoutId id="2147483717" r:id="rId21"/>
    <p:sldLayoutId id="2147483718" r:id="rId22"/>
    <p:sldLayoutId id="2147483719" r:id="rId23"/>
    <p:sldLayoutId id="2147483720" r:id="rId24"/>
    <p:sldLayoutId id="2147483721" r:id="rId25"/>
    <p:sldLayoutId id="2147483722" r:id="rId26"/>
    <p:sldLayoutId id="2147483723" r:id="rId27"/>
    <p:sldLayoutId id="2147483724" r:id="rId28"/>
    <p:sldLayoutId id="2147483725" r:id="rId2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9.jpeg"/><Relationship Id="rId6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Freeform 7"/>
          <p:cNvSpPr/>
          <p:nvPr/>
        </p:nvSpPr>
        <p:spPr>
          <a:xfrm>
            <a:off x="2868480" y="4876920"/>
            <a:ext cx="503280" cy="442800"/>
          </a:xfrm>
          <a:custGeom>
            <a:avLst/>
            <a:gdLst/>
            <a:ahLst/>
            <a:rect l="l" t="t" r="r" b="b"/>
            <a:pathLst>
              <a:path w="613" h="537">
                <a:moveTo>
                  <a:pt x="472" y="18"/>
                </a:moveTo>
                <a:lnTo>
                  <a:pt x="539" y="134"/>
                </a:lnTo>
                <a:cubicBezTo>
                  <a:pt x="561" y="172"/>
                  <a:pt x="583" y="210"/>
                  <a:pt x="605" y="248"/>
                </a:cubicBezTo>
                <a:cubicBezTo>
                  <a:pt x="612" y="260"/>
                  <a:pt x="613" y="273"/>
                  <a:pt x="606" y="287"/>
                </a:cubicBezTo>
                <a:lnTo>
                  <a:pt x="539" y="403"/>
                </a:lnTo>
                <a:cubicBezTo>
                  <a:pt x="518" y="441"/>
                  <a:pt x="496" y="479"/>
                  <a:pt x="474" y="517"/>
                </a:cubicBezTo>
                <a:cubicBezTo>
                  <a:pt x="466" y="529"/>
                  <a:pt x="456" y="536"/>
                  <a:pt x="440" y="537"/>
                </a:cubicBezTo>
                <a:lnTo>
                  <a:pt x="307" y="537"/>
                </a:lnTo>
                <a:cubicBezTo>
                  <a:pt x="263" y="537"/>
                  <a:pt x="219" y="537"/>
                  <a:pt x="175" y="537"/>
                </a:cubicBezTo>
                <a:cubicBezTo>
                  <a:pt x="161" y="537"/>
                  <a:pt x="149" y="532"/>
                  <a:pt x="141" y="519"/>
                </a:cubicBezTo>
                <a:lnTo>
                  <a:pt x="74" y="403"/>
                </a:lnTo>
                <a:cubicBezTo>
                  <a:pt x="52" y="365"/>
                  <a:pt x="30" y="327"/>
                  <a:pt x="8" y="289"/>
                </a:cubicBezTo>
                <a:cubicBezTo>
                  <a:pt x="1" y="277"/>
                  <a:pt x="0" y="264"/>
                  <a:pt x="7" y="250"/>
                </a:cubicBezTo>
                <a:lnTo>
                  <a:pt x="74" y="134"/>
                </a:lnTo>
                <a:cubicBezTo>
                  <a:pt x="96" y="96"/>
                  <a:pt x="117" y="58"/>
                  <a:pt x="139" y="20"/>
                </a:cubicBezTo>
                <a:cubicBezTo>
                  <a:pt x="147" y="8"/>
                  <a:pt x="157" y="1"/>
                  <a:pt x="173" y="0"/>
                </a:cubicBezTo>
                <a:lnTo>
                  <a:pt x="307" y="0"/>
                </a:lnTo>
                <a:cubicBezTo>
                  <a:pt x="350" y="0"/>
                  <a:pt x="394" y="0"/>
                  <a:pt x="438" y="0"/>
                </a:cubicBezTo>
                <a:cubicBezTo>
                  <a:pt x="452" y="0"/>
                  <a:pt x="464" y="5"/>
                  <a:pt x="472" y="18"/>
                </a:cubicBezTo>
                <a:close/>
              </a:path>
            </a:pathLst>
          </a:custGeom>
          <a:solidFill>
            <a:srgbClr val="1aa0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a0da"/>
              </a:solidFill>
              <a:latin typeface="Arial"/>
            </a:endParaRPr>
          </a:p>
        </p:txBody>
      </p:sp>
      <p:sp>
        <p:nvSpPr>
          <p:cNvPr id="247" name="Freeform 8"/>
          <p:cNvSpPr/>
          <p:nvPr/>
        </p:nvSpPr>
        <p:spPr>
          <a:xfrm>
            <a:off x="2990880" y="5002200"/>
            <a:ext cx="264960" cy="192240"/>
          </a:xfrm>
          <a:custGeom>
            <a:avLst/>
            <a:gdLst/>
            <a:ahLst/>
            <a:rect l="l" t="t" r="r" b="b"/>
            <a:pathLst>
              <a:path w="322" h="233">
                <a:moveTo>
                  <a:pt x="269" y="0"/>
                </a:moveTo>
                <a:lnTo>
                  <a:pt x="53" y="0"/>
                </a:lnTo>
                <a:cubicBezTo>
                  <a:pt x="24" y="0"/>
                  <a:pt x="0" y="23"/>
                  <a:pt x="0" y="52"/>
                </a:cubicBezTo>
                <a:lnTo>
                  <a:pt x="0" y="181"/>
                </a:lnTo>
                <a:cubicBezTo>
                  <a:pt x="0" y="210"/>
                  <a:pt x="24" y="233"/>
                  <a:pt x="53" y="233"/>
                </a:cubicBezTo>
                <a:lnTo>
                  <a:pt x="269" y="233"/>
                </a:lnTo>
                <a:cubicBezTo>
                  <a:pt x="298" y="233"/>
                  <a:pt x="322" y="210"/>
                  <a:pt x="322" y="181"/>
                </a:cubicBezTo>
                <a:lnTo>
                  <a:pt x="322" y="52"/>
                </a:lnTo>
                <a:cubicBezTo>
                  <a:pt x="322" y="23"/>
                  <a:pt x="298" y="0"/>
                  <a:pt x="269" y="0"/>
                </a:cubicBezTo>
                <a:close/>
                <a:moveTo>
                  <a:pt x="101" y="101"/>
                </a:moveTo>
                <a:cubicBezTo>
                  <a:pt x="113" y="101"/>
                  <a:pt x="124" y="91"/>
                  <a:pt x="124" y="78"/>
                </a:cubicBezTo>
                <a:cubicBezTo>
                  <a:pt x="124" y="65"/>
                  <a:pt x="113" y="55"/>
                  <a:pt x="101" y="55"/>
                </a:cubicBezTo>
                <a:cubicBezTo>
                  <a:pt x="88" y="55"/>
                  <a:pt x="78" y="65"/>
                  <a:pt x="78" y="78"/>
                </a:cubicBezTo>
                <a:cubicBezTo>
                  <a:pt x="78" y="91"/>
                  <a:pt x="88" y="101"/>
                  <a:pt x="101" y="101"/>
                </a:cubicBezTo>
                <a:close/>
                <a:moveTo>
                  <a:pt x="141" y="166"/>
                </a:moveTo>
                <a:lnTo>
                  <a:pt x="144" y="128"/>
                </a:lnTo>
                <a:cubicBezTo>
                  <a:pt x="145" y="117"/>
                  <a:pt x="134" y="108"/>
                  <a:pt x="121" y="108"/>
                </a:cubicBezTo>
                <a:lnTo>
                  <a:pt x="109" y="108"/>
                </a:lnTo>
                <a:cubicBezTo>
                  <a:pt x="109" y="109"/>
                  <a:pt x="109" y="114"/>
                  <a:pt x="106" y="117"/>
                </a:cubicBezTo>
                <a:cubicBezTo>
                  <a:pt x="106" y="117"/>
                  <a:pt x="111" y="142"/>
                  <a:pt x="109" y="151"/>
                </a:cubicBezTo>
                <a:cubicBezTo>
                  <a:pt x="108" y="154"/>
                  <a:pt x="104" y="163"/>
                  <a:pt x="100" y="163"/>
                </a:cubicBezTo>
                <a:cubicBezTo>
                  <a:pt x="96" y="163"/>
                  <a:pt x="93" y="154"/>
                  <a:pt x="92" y="151"/>
                </a:cubicBezTo>
                <a:cubicBezTo>
                  <a:pt x="91" y="142"/>
                  <a:pt x="97" y="117"/>
                  <a:pt x="97" y="117"/>
                </a:cubicBezTo>
                <a:cubicBezTo>
                  <a:pt x="96" y="116"/>
                  <a:pt x="94" y="115"/>
                  <a:pt x="94" y="108"/>
                </a:cubicBezTo>
                <a:lnTo>
                  <a:pt x="80" y="108"/>
                </a:lnTo>
                <a:cubicBezTo>
                  <a:pt x="68" y="108"/>
                  <a:pt x="56" y="117"/>
                  <a:pt x="57" y="129"/>
                </a:cubicBezTo>
                <a:lnTo>
                  <a:pt x="60" y="166"/>
                </a:lnTo>
                <a:cubicBezTo>
                  <a:pt x="70" y="176"/>
                  <a:pt x="86" y="176"/>
                  <a:pt x="101" y="176"/>
                </a:cubicBezTo>
                <a:cubicBezTo>
                  <a:pt x="115" y="176"/>
                  <a:pt x="132" y="175"/>
                  <a:pt x="141" y="166"/>
                </a:cubicBezTo>
                <a:close/>
                <a:moveTo>
                  <a:pt x="165" y="191"/>
                </a:moveTo>
                <a:lnTo>
                  <a:pt x="165" y="191"/>
                </a:lnTo>
                <a:lnTo>
                  <a:pt x="36" y="191"/>
                </a:lnTo>
                <a:lnTo>
                  <a:pt x="36" y="42"/>
                </a:lnTo>
                <a:lnTo>
                  <a:pt x="165" y="42"/>
                </a:lnTo>
                <a:lnTo>
                  <a:pt x="165" y="191"/>
                </a:lnTo>
                <a:close/>
                <a:moveTo>
                  <a:pt x="249" y="73"/>
                </a:moveTo>
                <a:lnTo>
                  <a:pt x="249" y="73"/>
                </a:lnTo>
                <a:lnTo>
                  <a:pt x="193" y="73"/>
                </a:lnTo>
                <a:cubicBezTo>
                  <a:pt x="186" y="73"/>
                  <a:pt x="181" y="67"/>
                  <a:pt x="181" y="60"/>
                </a:cubicBezTo>
                <a:cubicBezTo>
                  <a:pt x="181" y="54"/>
                  <a:pt x="186" y="48"/>
                  <a:pt x="193" y="48"/>
                </a:cubicBezTo>
                <a:lnTo>
                  <a:pt x="249" y="48"/>
                </a:lnTo>
                <a:cubicBezTo>
                  <a:pt x="256" y="48"/>
                  <a:pt x="261" y="54"/>
                  <a:pt x="261" y="60"/>
                </a:cubicBezTo>
                <a:cubicBezTo>
                  <a:pt x="261" y="67"/>
                  <a:pt x="256" y="73"/>
                  <a:pt x="249" y="73"/>
                </a:cubicBezTo>
                <a:close/>
                <a:moveTo>
                  <a:pt x="302" y="123"/>
                </a:moveTo>
                <a:lnTo>
                  <a:pt x="302" y="123"/>
                </a:lnTo>
                <a:cubicBezTo>
                  <a:pt x="302" y="128"/>
                  <a:pt x="297" y="133"/>
                  <a:pt x="292" y="133"/>
                </a:cubicBezTo>
                <a:lnTo>
                  <a:pt x="191" y="133"/>
                </a:lnTo>
                <a:cubicBezTo>
                  <a:pt x="186" y="133"/>
                  <a:pt x="181" y="128"/>
                  <a:pt x="181" y="123"/>
                </a:cubicBezTo>
                <a:cubicBezTo>
                  <a:pt x="181" y="117"/>
                  <a:pt x="186" y="113"/>
                  <a:pt x="191" y="113"/>
                </a:cubicBezTo>
                <a:lnTo>
                  <a:pt x="292" y="113"/>
                </a:lnTo>
                <a:cubicBezTo>
                  <a:pt x="297" y="113"/>
                  <a:pt x="302" y="117"/>
                  <a:pt x="302" y="123"/>
                </a:cubicBezTo>
                <a:close/>
                <a:moveTo>
                  <a:pt x="302" y="163"/>
                </a:moveTo>
                <a:lnTo>
                  <a:pt x="302" y="163"/>
                </a:lnTo>
                <a:cubicBezTo>
                  <a:pt x="302" y="169"/>
                  <a:pt x="297" y="173"/>
                  <a:pt x="292" y="173"/>
                </a:cubicBezTo>
                <a:lnTo>
                  <a:pt x="191" y="173"/>
                </a:lnTo>
                <a:cubicBezTo>
                  <a:pt x="186" y="173"/>
                  <a:pt x="181" y="169"/>
                  <a:pt x="181" y="163"/>
                </a:cubicBezTo>
                <a:cubicBezTo>
                  <a:pt x="181" y="157"/>
                  <a:pt x="186" y="153"/>
                  <a:pt x="191" y="153"/>
                </a:cubicBezTo>
                <a:lnTo>
                  <a:pt x="292" y="153"/>
                </a:lnTo>
                <a:cubicBezTo>
                  <a:pt x="297" y="153"/>
                  <a:pt x="302" y="157"/>
                  <a:pt x="302" y="163"/>
                </a:cubicBezTo>
                <a:close/>
              </a:path>
            </a:pathLst>
          </a:custGeom>
          <a:solidFill>
            <a:srgbClr val="fe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a0da"/>
              </a:solidFill>
              <a:latin typeface="Arial"/>
            </a:endParaRPr>
          </a:p>
        </p:txBody>
      </p:sp>
      <p:sp>
        <p:nvSpPr>
          <p:cNvPr id="248" name="Freeform 9"/>
          <p:cNvSpPr/>
          <p:nvPr/>
        </p:nvSpPr>
        <p:spPr>
          <a:xfrm>
            <a:off x="6613560" y="4876920"/>
            <a:ext cx="504720" cy="442800"/>
          </a:xfrm>
          <a:custGeom>
            <a:avLst/>
            <a:gdLst/>
            <a:ahLst/>
            <a:rect l="l" t="t" r="r" b="b"/>
            <a:pathLst>
              <a:path w="613" h="537">
                <a:moveTo>
                  <a:pt x="472" y="18"/>
                </a:moveTo>
                <a:lnTo>
                  <a:pt x="539" y="134"/>
                </a:lnTo>
                <a:cubicBezTo>
                  <a:pt x="561" y="172"/>
                  <a:pt x="583" y="210"/>
                  <a:pt x="605" y="248"/>
                </a:cubicBezTo>
                <a:cubicBezTo>
                  <a:pt x="612" y="260"/>
                  <a:pt x="613" y="273"/>
                  <a:pt x="606" y="287"/>
                </a:cubicBezTo>
                <a:lnTo>
                  <a:pt x="539" y="403"/>
                </a:lnTo>
                <a:cubicBezTo>
                  <a:pt x="517" y="441"/>
                  <a:pt x="495" y="479"/>
                  <a:pt x="473" y="517"/>
                </a:cubicBezTo>
                <a:cubicBezTo>
                  <a:pt x="466" y="529"/>
                  <a:pt x="455" y="536"/>
                  <a:pt x="440" y="537"/>
                </a:cubicBezTo>
                <a:lnTo>
                  <a:pt x="306" y="537"/>
                </a:lnTo>
                <a:cubicBezTo>
                  <a:pt x="262" y="537"/>
                  <a:pt x="219" y="537"/>
                  <a:pt x="175" y="537"/>
                </a:cubicBezTo>
                <a:cubicBezTo>
                  <a:pt x="160" y="537"/>
                  <a:pt x="149" y="532"/>
                  <a:pt x="140" y="519"/>
                </a:cubicBezTo>
                <a:lnTo>
                  <a:pt x="73" y="403"/>
                </a:lnTo>
                <a:cubicBezTo>
                  <a:pt x="51" y="365"/>
                  <a:pt x="29" y="327"/>
                  <a:pt x="7" y="289"/>
                </a:cubicBezTo>
                <a:cubicBezTo>
                  <a:pt x="1" y="277"/>
                  <a:pt x="0" y="264"/>
                  <a:pt x="6" y="250"/>
                </a:cubicBezTo>
                <a:lnTo>
                  <a:pt x="73" y="134"/>
                </a:lnTo>
                <a:cubicBezTo>
                  <a:pt x="95" y="96"/>
                  <a:pt x="117" y="58"/>
                  <a:pt x="139" y="20"/>
                </a:cubicBezTo>
                <a:cubicBezTo>
                  <a:pt x="146" y="8"/>
                  <a:pt x="157" y="1"/>
                  <a:pt x="172" y="0"/>
                </a:cubicBezTo>
                <a:lnTo>
                  <a:pt x="306" y="0"/>
                </a:lnTo>
                <a:cubicBezTo>
                  <a:pt x="350" y="0"/>
                  <a:pt x="394" y="0"/>
                  <a:pt x="437" y="0"/>
                </a:cubicBezTo>
                <a:cubicBezTo>
                  <a:pt x="452" y="0"/>
                  <a:pt x="464" y="5"/>
                  <a:pt x="472" y="18"/>
                </a:cubicBezTo>
                <a:close/>
              </a:path>
            </a:pathLst>
          </a:custGeom>
          <a:solidFill>
            <a:srgbClr val="1aa0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a0da"/>
              </a:solidFill>
              <a:latin typeface="Arial"/>
            </a:endParaRPr>
          </a:p>
        </p:txBody>
      </p:sp>
      <p:sp>
        <p:nvSpPr>
          <p:cNvPr id="249" name="Freeform 10"/>
          <p:cNvSpPr/>
          <p:nvPr/>
        </p:nvSpPr>
        <p:spPr>
          <a:xfrm>
            <a:off x="6743880" y="4956120"/>
            <a:ext cx="268200" cy="285840"/>
          </a:xfrm>
          <a:custGeom>
            <a:avLst/>
            <a:gdLst/>
            <a:ahLst/>
            <a:rect l="l" t="t" r="r" b="b"/>
            <a:pathLst>
              <a:path w="327" h="347">
                <a:moveTo>
                  <a:pt x="153" y="191"/>
                </a:moveTo>
                <a:lnTo>
                  <a:pt x="153" y="329"/>
                </a:lnTo>
                <a:cubicBezTo>
                  <a:pt x="156" y="331"/>
                  <a:pt x="160" y="331"/>
                  <a:pt x="163" y="331"/>
                </a:cubicBezTo>
                <a:cubicBezTo>
                  <a:pt x="167" y="331"/>
                  <a:pt x="171" y="330"/>
                  <a:pt x="174" y="329"/>
                </a:cubicBezTo>
                <a:lnTo>
                  <a:pt x="174" y="191"/>
                </a:lnTo>
                <a:cubicBezTo>
                  <a:pt x="171" y="192"/>
                  <a:pt x="167" y="192"/>
                  <a:pt x="164" y="192"/>
                </a:cubicBezTo>
                <a:cubicBezTo>
                  <a:pt x="160" y="192"/>
                  <a:pt x="157" y="192"/>
                  <a:pt x="153" y="191"/>
                </a:cubicBezTo>
                <a:close/>
                <a:moveTo>
                  <a:pt x="200" y="198"/>
                </a:moveTo>
                <a:lnTo>
                  <a:pt x="261" y="174"/>
                </a:lnTo>
                <a:lnTo>
                  <a:pt x="261" y="199"/>
                </a:lnTo>
                <a:lnTo>
                  <a:pt x="200" y="223"/>
                </a:lnTo>
                <a:lnTo>
                  <a:pt x="200" y="198"/>
                </a:lnTo>
                <a:close/>
                <a:moveTo>
                  <a:pt x="82" y="145"/>
                </a:moveTo>
                <a:lnTo>
                  <a:pt x="57" y="131"/>
                </a:lnTo>
                <a:cubicBezTo>
                  <a:pt x="54" y="130"/>
                  <a:pt x="53" y="126"/>
                  <a:pt x="55" y="124"/>
                </a:cubicBezTo>
                <a:cubicBezTo>
                  <a:pt x="56" y="121"/>
                  <a:pt x="60" y="120"/>
                  <a:pt x="62" y="122"/>
                </a:cubicBezTo>
                <a:lnTo>
                  <a:pt x="86" y="135"/>
                </a:lnTo>
                <a:lnTo>
                  <a:pt x="73" y="126"/>
                </a:lnTo>
                <a:cubicBezTo>
                  <a:pt x="70" y="124"/>
                  <a:pt x="70" y="120"/>
                  <a:pt x="72" y="118"/>
                </a:cubicBezTo>
                <a:cubicBezTo>
                  <a:pt x="73" y="115"/>
                  <a:pt x="77" y="115"/>
                  <a:pt x="80" y="117"/>
                </a:cubicBezTo>
                <a:lnTo>
                  <a:pt x="96" y="128"/>
                </a:lnTo>
                <a:lnTo>
                  <a:pt x="88" y="121"/>
                </a:lnTo>
                <a:cubicBezTo>
                  <a:pt x="86" y="119"/>
                  <a:pt x="86" y="115"/>
                  <a:pt x="88" y="113"/>
                </a:cubicBezTo>
                <a:cubicBezTo>
                  <a:pt x="90" y="111"/>
                  <a:pt x="94" y="110"/>
                  <a:pt x="96" y="113"/>
                </a:cubicBezTo>
                <a:lnTo>
                  <a:pt x="162" y="175"/>
                </a:lnTo>
                <a:cubicBezTo>
                  <a:pt x="163" y="175"/>
                  <a:pt x="163" y="175"/>
                  <a:pt x="163" y="175"/>
                </a:cubicBezTo>
                <a:cubicBezTo>
                  <a:pt x="163" y="175"/>
                  <a:pt x="163" y="175"/>
                  <a:pt x="163" y="175"/>
                </a:cubicBezTo>
                <a:lnTo>
                  <a:pt x="230" y="113"/>
                </a:lnTo>
                <a:cubicBezTo>
                  <a:pt x="232" y="110"/>
                  <a:pt x="236" y="111"/>
                  <a:pt x="238" y="113"/>
                </a:cubicBezTo>
                <a:cubicBezTo>
                  <a:pt x="240" y="115"/>
                  <a:pt x="240" y="119"/>
                  <a:pt x="238" y="121"/>
                </a:cubicBezTo>
                <a:lnTo>
                  <a:pt x="229" y="128"/>
                </a:lnTo>
                <a:lnTo>
                  <a:pt x="246" y="117"/>
                </a:lnTo>
                <a:cubicBezTo>
                  <a:pt x="249" y="115"/>
                  <a:pt x="252" y="115"/>
                  <a:pt x="254" y="118"/>
                </a:cubicBezTo>
                <a:cubicBezTo>
                  <a:pt x="256" y="120"/>
                  <a:pt x="255" y="124"/>
                  <a:pt x="253" y="126"/>
                </a:cubicBezTo>
                <a:lnTo>
                  <a:pt x="240" y="135"/>
                </a:lnTo>
                <a:lnTo>
                  <a:pt x="264" y="122"/>
                </a:lnTo>
                <a:cubicBezTo>
                  <a:pt x="266" y="120"/>
                  <a:pt x="270" y="121"/>
                  <a:pt x="271" y="124"/>
                </a:cubicBezTo>
                <a:cubicBezTo>
                  <a:pt x="273" y="127"/>
                  <a:pt x="272" y="130"/>
                  <a:pt x="269" y="131"/>
                </a:cubicBezTo>
                <a:lnTo>
                  <a:pt x="240" y="148"/>
                </a:lnTo>
                <a:lnTo>
                  <a:pt x="284" y="129"/>
                </a:lnTo>
                <a:lnTo>
                  <a:pt x="284" y="197"/>
                </a:lnTo>
                <a:cubicBezTo>
                  <a:pt x="283" y="197"/>
                  <a:pt x="283" y="197"/>
                  <a:pt x="282" y="197"/>
                </a:cubicBezTo>
                <a:lnTo>
                  <a:pt x="273" y="196"/>
                </a:lnTo>
                <a:lnTo>
                  <a:pt x="269" y="203"/>
                </a:lnTo>
                <a:lnTo>
                  <a:pt x="269" y="152"/>
                </a:lnTo>
                <a:lnTo>
                  <a:pt x="190" y="186"/>
                </a:lnTo>
                <a:lnTo>
                  <a:pt x="190" y="322"/>
                </a:lnTo>
                <a:lnTo>
                  <a:pt x="269" y="289"/>
                </a:lnTo>
                <a:lnTo>
                  <a:pt x="269" y="279"/>
                </a:lnTo>
                <a:cubicBezTo>
                  <a:pt x="272" y="280"/>
                  <a:pt x="275" y="282"/>
                  <a:pt x="277" y="283"/>
                </a:cubicBezTo>
                <a:cubicBezTo>
                  <a:pt x="280" y="284"/>
                  <a:pt x="282" y="284"/>
                  <a:pt x="284" y="285"/>
                </a:cubicBezTo>
                <a:lnTo>
                  <a:pt x="284" y="299"/>
                </a:lnTo>
                <a:lnTo>
                  <a:pt x="185" y="341"/>
                </a:lnTo>
                <a:cubicBezTo>
                  <a:pt x="183" y="342"/>
                  <a:pt x="181" y="343"/>
                  <a:pt x="178" y="343"/>
                </a:cubicBezTo>
                <a:lnTo>
                  <a:pt x="174" y="345"/>
                </a:lnTo>
                <a:lnTo>
                  <a:pt x="174" y="345"/>
                </a:lnTo>
                <a:cubicBezTo>
                  <a:pt x="171" y="346"/>
                  <a:pt x="167" y="346"/>
                  <a:pt x="164" y="346"/>
                </a:cubicBezTo>
                <a:cubicBezTo>
                  <a:pt x="156" y="347"/>
                  <a:pt x="149" y="345"/>
                  <a:pt x="142" y="340"/>
                </a:cubicBezTo>
                <a:lnTo>
                  <a:pt x="43" y="299"/>
                </a:lnTo>
                <a:lnTo>
                  <a:pt x="43" y="285"/>
                </a:lnTo>
                <a:cubicBezTo>
                  <a:pt x="45" y="284"/>
                  <a:pt x="48" y="284"/>
                  <a:pt x="50" y="283"/>
                </a:cubicBezTo>
                <a:cubicBezTo>
                  <a:pt x="53" y="282"/>
                  <a:pt x="55" y="280"/>
                  <a:pt x="58" y="279"/>
                </a:cubicBezTo>
                <a:lnTo>
                  <a:pt x="58" y="289"/>
                </a:lnTo>
                <a:lnTo>
                  <a:pt x="138" y="322"/>
                </a:lnTo>
                <a:lnTo>
                  <a:pt x="138" y="186"/>
                </a:lnTo>
                <a:lnTo>
                  <a:pt x="58" y="152"/>
                </a:lnTo>
                <a:lnTo>
                  <a:pt x="58" y="203"/>
                </a:lnTo>
                <a:lnTo>
                  <a:pt x="55" y="196"/>
                </a:lnTo>
                <a:lnTo>
                  <a:pt x="46" y="197"/>
                </a:lnTo>
                <a:cubicBezTo>
                  <a:pt x="45" y="197"/>
                  <a:pt x="44" y="197"/>
                  <a:pt x="43" y="197"/>
                </a:cubicBezTo>
                <a:lnTo>
                  <a:pt x="43" y="129"/>
                </a:lnTo>
                <a:lnTo>
                  <a:pt x="82" y="145"/>
                </a:lnTo>
                <a:close/>
                <a:moveTo>
                  <a:pt x="49" y="210"/>
                </a:moveTo>
                <a:cubicBezTo>
                  <a:pt x="51" y="213"/>
                  <a:pt x="53" y="216"/>
                  <a:pt x="54" y="220"/>
                </a:cubicBezTo>
                <a:lnTo>
                  <a:pt x="36" y="231"/>
                </a:lnTo>
                <a:lnTo>
                  <a:pt x="56" y="223"/>
                </a:lnTo>
                <a:cubicBezTo>
                  <a:pt x="57" y="227"/>
                  <a:pt x="58" y="230"/>
                  <a:pt x="60" y="234"/>
                </a:cubicBezTo>
                <a:lnTo>
                  <a:pt x="42" y="244"/>
                </a:lnTo>
                <a:lnTo>
                  <a:pt x="61" y="237"/>
                </a:lnTo>
                <a:cubicBezTo>
                  <a:pt x="62" y="241"/>
                  <a:pt x="63" y="245"/>
                  <a:pt x="65" y="249"/>
                </a:cubicBezTo>
                <a:lnTo>
                  <a:pt x="49" y="257"/>
                </a:lnTo>
                <a:lnTo>
                  <a:pt x="65" y="251"/>
                </a:lnTo>
                <a:cubicBezTo>
                  <a:pt x="66" y="254"/>
                  <a:pt x="67" y="257"/>
                  <a:pt x="67" y="260"/>
                </a:cubicBezTo>
                <a:cubicBezTo>
                  <a:pt x="64" y="262"/>
                  <a:pt x="38" y="279"/>
                  <a:pt x="26" y="274"/>
                </a:cubicBezTo>
                <a:cubicBezTo>
                  <a:pt x="13" y="269"/>
                  <a:pt x="1" y="252"/>
                  <a:pt x="0" y="236"/>
                </a:cubicBezTo>
                <a:cubicBezTo>
                  <a:pt x="0" y="221"/>
                  <a:pt x="40" y="211"/>
                  <a:pt x="49" y="210"/>
                </a:cubicBezTo>
                <a:close/>
                <a:moveTo>
                  <a:pt x="16" y="217"/>
                </a:moveTo>
                <a:lnTo>
                  <a:pt x="26" y="213"/>
                </a:lnTo>
                <a:lnTo>
                  <a:pt x="31" y="208"/>
                </a:lnTo>
                <a:lnTo>
                  <a:pt x="31" y="192"/>
                </a:lnTo>
                <a:cubicBezTo>
                  <a:pt x="22" y="196"/>
                  <a:pt x="18" y="206"/>
                  <a:pt x="16" y="217"/>
                </a:cubicBezTo>
                <a:close/>
                <a:moveTo>
                  <a:pt x="277" y="210"/>
                </a:moveTo>
                <a:cubicBezTo>
                  <a:pt x="276" y="213"/>
                  <a:pt x="274" y="216"/>
                  <a:pt x="272" y="220"/>
                </a:cubicBezTo>
                <a:lnTo>
                  <a:pt x="291" y="231"/>
                </a:lnTo>
                <a:lnTo>
                  <a:pt x="271" y="223"/>
                </a:lnTo>
                <a:cubicBezTo>
                  <a:pt x="269" y="227"/>
                  <a:pt x="268" y="230"/>
                  <a:pt x="267" y="234"/>
                </a:cubicBezTo>
                <a:lnTo>
                  <a:pt x="284" y="244"/>
                </a:lnTo>
                <a:lnTo>
                  <a:pt x="266" y="237"/>
                </a:lnTo>
                <a:cubicBezTo>
                  <a:pt x="264" y="241"/>
                  <a:pt x="263" y="245"/>
                  <a:pt x="262" y="249"/>
                </a:cubicBezTo>
                <a:lnTo>
                  <a:pt x="278" y="257"/>
                </a:lnTo>
                <a:lnTo>
                  <a:pt x="261" y="251"/>
                </a:lnTo>
                <a:cubicBezTo>
                  <a:pt x="261" y="254"/>
                  <a:pt x="260" y="257"/>
                  <a:pt x="259" y="260"/>
                </a:cubicBezTo>
                <a:cubicBezTo>
                  <a:pt x="263" y="262"/>
                  <a:pt x="289" y="279"/>
                  <a:pt x="301" y="274"/>
                </a:cubicBezTo>
                <a:cubicBezTo>
                  <a:pt x="313" y="269"/>
                  <a:pt x="326" y="252"/>
                  <a:pt x="326" y="236"/>
                </a:cubicBezTo>
                <a:cubicBezTo>
                  <a:pt x="327" y="221"/>
                  <a:pt x="286" y="211"/>
                  <a:pt x="277" y="210"/>
                </a:cubicBezTo>
                <a:close/>
                <a:moveTo>
                  <a:pt x="311" y="217"/>
                </a:moveTo>
                <a:lnTo>
                  <a:pt x="300" y="213"/>
                </a:lnTo>
                <a:lnTo>
                  <a:pt x="296" y="208"/>
                </a:lnTo>
                <a:lnTo>
                  <a:pt x="295" y="192"/>
                </a:lnTo>
                <a:cubicBezTo>
                  <a:pt x="305" y="196"/>
                  <a:pt x="309" y="206"/>
                  <a:pt x="311" y="217"/>
                </a:cubicBezTo>
                <a:close/>
                <a:moveTo>
                  <a:pt x="162" y="0"/>
                </a:moveTo>
                <a:cubicBezTo>
                  <a:pt x="181" y="0"/>
                  <a:pt x="198" y="10"/>
                  <a:pt x="210" y="24"/>
                </a:cubicBezTo>
                <a:cubicBezTo>
                  <a:pt x="218" y="34"/>
                  <a:pt x="224" y="45"/>
                  <a:pt x="228" y="59"/>
                </a:cubicBezTo>
                <a:cubicBezTo>
                  <a:pt x="232" y="58"/>
                  <a:pt x="239" y="57"/>
                  <a:pt x="241" y="62"/>
                </a:cubicBezTo>
                <a:cubicBezTo>
                  <a:pt x="244" y="70"/>
                  <a:pt x="242" y="87"/>
                  <a:pt x="237" y="89"/>
                </a:cubicBezTo>
                <a:cubicBezTo>
                  <a:pt x="235" y="90"/>
                  <a:pt x="232" y="90"/>
                  <a:pt x="229" y="90"/>
                </a:cubicBezTo>
                <a:cubicBezTo>
                  <a:pt x="229" y="94"/>
                  <a:pt x="228" y="99"/>
                  <a:pt x="227" y="103"/>
                </a:cubicBezTo>
                <a:cubicBezTo>
                  <a:pt x="222" y="104"/>
                  <a:pt x="217" y="105"/>
                  <a:pt x="213" y="106"/>
                </a:cubicBezTo>
                <a:cubicBezTo>
                  <a:pt x="216" y="98"/>
                  <a:pt x="217" y="89"/>
                  <a:pt x="217" y="80"/>
                </a:cubicBezTo>
                <a:cubicBezTo>
                  <a:pt x="217" y="68"/>
                  <a:pt x="215" y="57"/>
                  <a:pt x="210" y="47"/>
                </a:cubicBezTo>
                <a:cubicBezTo>
                  <a:pt x="173" y="76"/>
                  <a:pt x="125" y="55"/>
                  <a:pt x="113" y="50"/>
                </a:cubicBezTo>
                <a:cubicBezTo>
                  <a:pt x="109" y="59"/>
                  <a:pt x="107" y="69"/>
                  <a:pt x="107" y="80"/>
                </a:cubicBezTo>
                <a:cubicBezTo>
                  <a:pt x="107" y="89"/>
                  <a:pt x="109" y="98"/>
                  <a:pt x="112" y="106"/>
                </a:cubicBezTo>
                <a:cubicBezTo>
                  <a:pt x="107" y="105"/>
                  <a:pt x="103" y="104"/>
                  <a:pt x="98" y="103"/>
                </a:cubicBezTo>
                <a:cubicBezTo>
                  <a:pt x="97" y="99"/>
                  <a:pt x="96" y="94"/>
                  <a:pt x="95" y="90"/>
                </a:cubicBezTo>
                <a:cubicBezTo>
                  <a:pt x="93" y="90"/>
                  <a:pt x="90" y="90"/>
                  <a:pt x="88" y="89"/>
                </a:cubicBezTo>
                <a:cubicBezTo>
                  <a:pt x="82" y="87"/>
                  <a:pt x="81" y="70"/>
                  <a:pt x="84" y="62"/>
                </a:cubicBezTo>
                <a:cubicBezTo>
                  <a:pt x="86" y="57"/>
                  <a:pt x="92" y="58"/>
                  <a:pt x="97" y="59"/>
                </a:cubicBezTo>
                <a:cubicBezTo>
                  <a:pt x="100" y="45"/>
                  <a:pt x="106" y="34"/>
                  <a:pt x="114" y="24"/>
                </a:cubicBezTo>
                <a:cubicBezTo>
                  <a:pt x="126" y="10"/>
                  <a:pt x="143" y="0"/>
                  <a:pt x="162" y="0"/>
                </a:cubicBezTo>
                <a:close/>
              </a:path>
            </a:pathLst>
          </a:custGeom>
          <a:solidFill>
            <a:srgbClr val="fe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a0da"/>
              </a:solidFill>
              <a:latin typeface="Arial"/>
            </a:endParaRPr>
          </a:p>
        </p:txBody>
      </p:sp>
      <p:sp>
        <p:nvSpPr>
          <p:cNvPr id="250" name="Rectangle 3"/>
          <p:cNvSpPr/>
          <p:nvPr/>
        </p:nvSpPr>
        <p:spPr>
          <a:xfrm>
            <a:off x="954000" y="3584520"/>
            <a:ext cx="1029024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33"/>
                </a:solidFill>
                <a:latin typeface="微软雅黑"/>
                <a:ea typeface="微软雅黑"/>
              </a:rPr>
              <a:t>优秀毕业生答辩</a:t>
            </a:r>
            <a:endParaRPr b="0" lang="en-US" sz="5400" spc="-1" strike="noStrike">
              <a:solidFill>
                <a:srgbClr val="1aa0da"/>
              </a:solidFill>
              <a:latin typeface="Arial"/>
            </a:endParaRPr>
          </a:p>
        </p:txBody>
      </p:sp>
      <p:sp>
        <p:nvSpPr>
          <p:cNvPr id="251" name="TextBox 82"/>
          <p:cNvSpPr/>
          <p:nvPr/>
        </p:nvSpPr>
        <p:spPr>
          <a:xfrm>
            <a:off x="3365640" y="4898880"/>
            <a:ext cx="354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33"/>
                </a:solidFill>
                <a:latin typeface="微软雅黑"/>
                <a:ea typeface="微软雅黑"/>
              </a:rPr>
              <a:t>专业：比较文学与世界文学</a:t>
            </a:r>
            <a:endParaRPr b="0" lang="en-US" sz="2000" spc="-1" strike="noStrike">
              <a:solidFill>
                <a:srgbClr val="1aa0da"/>
              </a:solidFill>
              <a:latin typeface="Arial"/>
            </a:endParaRPr>
          </a:p>
        </p:txBody>
      </p:sp>
      <p:sp>
        <p:nvSpPr>
          <p:cNvPr id="252" name="TextBox 82"/>
          <p:cNvSpPr/>
          <p:nvPr/>
        </p:nvSpPr>
        <p:spPr>
          <a:xfrm>
            <a:off x="7148520" y="4898880"/>
            <a:ext cx="247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33"/>
                </a:solidFill>
                <a:latin typeface="微软雅黑"/>
                <a:ea typeface="微软雅黑"/>
              </a:rPr>
              <a:t>申请人：林嘉慧</a:t>
            </a:r>
            <a:endParaRPr b="0" lang="en-US" sz="2000" spc="-1" strike="noStrike">
              <a:solidFill>
                <a:srgbClr val="1aa0da"/>
              </a:solidFill>
              <a:latin typeface="Arial"/>
            </a:endParaRPr>
          </a:p>
        </p:txBody>
      </p:sp>
      <p:sp>
        <p:nvSpPr>
          <p:cNvPr id="253" name="直接连接符 2"/>
          <p:cNvSpPr/>
          <p:nvPr/>
        </p:nvSpPr>
        <p:spPr>
          <a:xfrm>
            <a:off x="1584360" y="4660920"/>
            <a:ext cx="9029520" cy="0"/>
          </a:xfrm>
          <a:prstGeom prst="line">
            <a:avLst/>
          </a:prstGeom>
          <a:ln w="9360">
            <a:solidFill>
              <a:srgbClr val="949494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aa0da"/>
              </a:solidFill>
              <a:latin typeface="Arial"/>
            </a:endParaRPr>
          </a:p>
        </p:txBody>
      </p:sp>
      <p:pic>
        <p:nvPicPr>
          <p:cNvPr id="254" name="图片 1" descr="校徽"/>
          <p:cNvPicPr/>
          <p:nvPr/>
        </p:nvPicPr>
        <p:blipFill>
          <a:blip r:embed="rId2"/>
          <a:stretch/>
        </p:blipFill>
        <p:spPr>
          <a:xfrm>
            <a:off x="4487760" y="1046160"/>
            <a:ext cx="3013200" cy="217656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TextBox 16"/>
          <p:cNvSpPr/>
          <p:nvPr/>
        </p:nvSpPr>
        <p:spPr>
          <a:xfrm>
            <a:off x="4669920" y="3557520"/>
            <a:ext cx="3472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4d4d4d"/>
                </a:solidFill>
                <a:latin typeface="微软雅黑"/>
                <a:ea typeface="微软雅黑"/>
              </a:rPr>
              <a:t>感谢各位老师审阅！</a:t>
            </a:r>
            <a:endParaRPr b="0" lang="en-US" sz="4800" spc="-1" strike="noStrike">
              <a:solidFill>
                <a:srgbClr val="1aa0da"/>
              </a:solidFill>
              <a:latin typeface="Arial"/>
            </a:endParaRPr>
          </a:p>
        </p:txBody>
      </p:sp>
      <p:pic>
        <p:nvPicPr>
          <p:cNvPr id="340" name="图片 1" descr="校徽"/>
          <p:cNvPicPr/>
          <p:nvPr/>
        </p:nvPicPr>
        <p:blipFill>
          <a:blip r:embed="rId1"/>
          <a:stretch/>
        </p:blipFill>
        <p:spPr>
          <a:xfrm>
            <a:off x="4818240" y="1378080"/>
            <a:ext cx="2562120" cy="184932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5" name=""/>
          <p:cNvGrpSpPr/>
          <p:nvPr/>
        </p:nvGrpSpPr>
        <p:grpSpPr>
          <a:xfrm>
            <a:off x="3516480" y="1360440"/>
            <a:ext cx="360" cy="4629240"/>
            <a:chOff x="3516480" y="1360440"/>
            <a:chExt cx="360" cy="4629240"/>
          </a:xfrm>
        </p:grpSpPr>
        <p:sp>
          <p:nvSpPr>
            <p:cNvPr id="256" name="Line 5"/>
            <p:cNvSpPr/>
            <p:nvPr/>
          </p:nvSpPr>
          <p:spPr>
            <a:xfrm>
              <a:off x="3516480" y="1360440"/>
              <a:ext cx="0" cy="4629240"/>
            </a:xfrm>
            <a:prstGeom prst="line">
              <a:avLst/>
            </a:prstGeom>
            <a:ln w="15840">
              <a:solidFill>
                <a:srgbClr val="b8b8b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1aa0da"/>
                </a:solidFill>
                <a:latin typeface="Arial"/>
              </a:endParaRPr>
            </a:p>
          </p:txBody>
        </p:sp>
        <p:sp>
          <p:nvSpPr>
            <p:cNvPr id="257" name=""/>
            <p:cNvSpPr txBox="1"/>
            <p:nvPr/>
          </p:nvSpPr>
          <p:spPr>
            <a:xfrm>
              <a:off x="3516480" y="1360440"/>
              <a:ext cx="360" cy="4629240"/>
            </a:xfrm>
            <a:prstGeom prst="rect">
              <a:avLst/>
            </a:prstGeom>
            <a:noFill/>
            <a:ln w="0">
              <a:noFill/>
            </a:ln>
          </p:spPr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aa0da"/>
                </a:solidFill>
                <a:latin typeface="Arial"/>
              </a:endParaRPr>
            </a:p>
          </p:txBody>
        </p:sp>
      </p:grpSp>
      <p:sp>
        <p:nvSpPr>
          <p:cNvPr id="258" name="Freeform 6"/>
          <p:cNvSpPr/>
          <p:nvPr/>
        </p:nvSpPr>
        <p:spPr>
          <a:xfrm>
            <a:off x="4106880" y="1552680"/>
            <a:ext cx="808200" cy="709560"/>
          </a:xfrm>
          <a:custGeom>
            <a:avLst/>
            <a:gdLst/>
            <a:ahLst/>
            <a:rect l="l" t="t" r="r" b="b"/>
            <a:pathLst>
              <a:path w="1021" h="896">
                <a:moveTo>
                  <a:pt x="787" y="31"/>
                </a:moveTo>
                <a:lnTo>
                  <a:pt x="899" y="224"/>
                </a:lnTo>
                <a:cubicBezTo>
                  <a:pt x="935" y="287"/>
                  <a:pt x="972" y="351"/>
                  <a:pt x="1008" y="414"/>
                </a:cubicBezTo>
                <a:cubicBezTo>
                  <a:pt x="1020" y="435"/>
                  <a:pt x="1021" y="456"/>
                  <a:pt x="1010" y="479"/>
                </a:cubicBezTo>
                <a:lnTo>
                  <a:pt x="899" y="672"/>
                </a:lnTo>
                <a:cubicBezTo>
                  <a:pt x="862" y="736"/>
                  <a:pt x="826" y="799"/>
                  <a:pt x="789" y="862"/>
                </a:cubicBezTo>
                <a:cubicBezTo>
                  <a:pt x="777" y="882"/>
                  <a:pt x="759" y="895"/>
                  <a:pt x="734" y="896"/>
                </a:cubicBezTo>
                <a:lnTo>
                  <a:pt x="511" y="896"/>
                </a:lnTo>
                <a:cubicBezTo>
                  <a:pt x="438" y="896"/>
                  <a:pt x="365" y="896"/>
                  <a:pt x="292" y="896"/>
                </a:cubicBezTo>
                <a:cubicBezTo>
                  <a:pt x="268" y="896"/>
                  <a:pt x="248" y="887"/>
                  <a:pt x="234" y="866"/>
                </a:cubicBezTo>
                <a:lnTo>
                  <a:pt x="123" y="672"/>
                </a:lnTo>
                <a:cubicBezTo>
                  <a:pt x="86" y="609"/>
                  <a:pt x="50" y="546"/>
                  <a:pt x="13" y="483"/>
                </a:cubicBezTo>
                <a:cubicBezTo>
                  <a:pt x="2" y="462"/>
                  <a:pt x="0" y="440"/>
                  <a:pt x="11" y="417"/>
                </a:cubicBezTo>
                <a:lnTo>
                  <a:pt x="123" y="224"/>
                </a:lnTo>
                <a:cubicBezTo>
                  <a:pt x="159" y="161"/>
                  <a:pt x="196" y="98"/>
                  <a:pt x="232" y="35"/>
                </a:cubicBezTo>
                <a:cubicBezTo>
                  <a:pt x="244" y="14"/>
                  <a:pt x="262" y="2"/>
                  <a:pt x="288" y="0"/>
                </a:cubicBezTo>
                <a:lnTo>
                  <a:pt x="511" y="0"/>
                </a:lnTo>
                <a:cubicBezTo>
                  <a:pt x="584" y="0"/>
                  <a:pt x="657" y="0"/>
                  <a:pt x="730" y="0"/>
                </a:cubicBezTo>
                <a:cubicBezTo>
                  <a:pt x="754" y="1"/>
                  <a:pt x="773" y="10"/>
                  <a:pt x="787" y="31"/>
                </a:cubicBezTo>
                <a:close/>
              </a:path>
            </a:pathLst>
          </a:custGeom>
          <a:solidFill>
            <a:srgbClr val="1aa0da"/>
          </a:solidFill>
          <a:ln w="38160">
            <a:solidFill>
              <a:srgbClr val="f4f4f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a0da"/>
              </a:solidFill>
              <a:latin typeface="Arial"/>
            </a:endParaRPr>
          </a:p>
        </p:txBody>
      </p:sp>
      <p:sp>
        <p:nvSpPr>
          <p:cNvPr id="259" name="Freeform 8"/>
          <p:cNvSpPr/>
          <p:nvPr/>
        </p:nvSpPr>
        <p:spPr>
          <a:xfrm>
            <a:off x="4078440" y="2774880"/>
            <a:ext cx="807840" cy="709560"/>
          </a:xfrm>
          <a:custGeom>
            <a:avLst/>
            <a:gdLst/>
            <a:ahLst/>
            <a:rect l="l" t="t" r="r" b="b"/>
            <a:pathLst>
              <a:path w="1021" h="897">
                <a:moveTo>
                  <a:pt x="787" y="31"/>
                </a:moveTo>
                <a:lnTo>
                  <a:pt x="899" y="224"/>
                </a:lnTo>
                <a:cubicBezTo>
                  <a:pt x="935" y="288"/>
                  <a:pt x="972" y="351"/>
                  <a:pt x="1008" y="414"/>
                </a:cubicBezTo>
                <a:cubicBezTo>
                  <a:pt x="1020" y="435"/>
                  <a:pt x="1021" y="457"/>
                  <a:pt x="1010" y="479"/>
                </a:cubicBezTo>
                <a:lnTo>
                  <a:pt x="899" y="673"/>
                </a:lnTo>
                <a:cubicBezTo>
                  <a:pt x="862" y="736"/>
                  <a:pt x="826" y="799"/>
                  <a:pt x="789" y="862"/>
                </a:cubicBezTo>
                <a:cubicBezTo>
                  <a:pt x="777" y="883"/>
                  <a:pt x="759" y="895"/>
                  <a:pt x="734" y="897"/>
                </a:cubicBezTo>
                <a:lnTo>
                  <a:pt x="511" y="897"/>
                </a:lnTo>
                <a:cubicBezTo>
                  <a:pt x="438" y="897"/>
                  <a:pt x="365" y="897"/>
                  <a:pt x="292" y="897"/>
                </a:cubicBezTo>
                <a:cubicBezTo>
                  <a:pt x="268" y="896"/>
                  <a:pt x="248" y="887"/>
                  <a:pt x="234" y="866"/>
                </a:cubicBezTo>
                <a:lnTo>
                  <a:pt x="123" y="673"/>
                </a:lnTo>
                <a:cubicBezTo>
                  <a:pt x="86" y="609"/>
                  <a:pt x="50" y="546"/>
                  <a:pt x="13" y="483"/>
                </a:cubicBezTo>
                <a:cubicBezTo>
                  <a:pt x="2" y="462"/>
                  <a:pt x="0" y="440"/>
                  <a:pt x="11" y="418"/>
                </a:cubicBezTo>
                <a:lnTo>
                  <a:pt x="123" y="224"/>
                </a:lnTo>
                <a:cubicBezTo>
                  <a:pt x="159" y="161"/>
                  <a:pt x="196" y="98"/>
                  <a:pt x="232" y="35"/>
                </a:cubicBezTo>
                <a:cubicBezTo>
                  <a:pt x="244" y="14"/>
                  <a:pt x="262" y="2"/>
                  <a:pt x="288" y="0"/>
                </a:cubicBezTo>
                <a:lnTo>
                  <a:pt x="511" y="0"/>
                </a:lnTo>
                <a:cubicBezTo>
                  <a:pt x="584" y="0"/>
                  <a:pt x="657" y="0"/>
                  <a:pt x="730" y="0"/>
                </a:cubicBezTo>
                <a:cubicBezTo>
                  <a:pt x="754" y="1"/>
                  <a:pt x="773" y="10"/>
                  <a:pt x="787" y="31"/>
                </a:cubicBezTo>
                <a:close/>
              </a:path>
            </a:pathLst>
          </a:custGeom>
          <a:solidFill>
            <a:srgbClr val="1aa0da"/>
          </a:solidFill>
          <a:ln w="38160">
            <a:solidFill>
              <a:srgbClr val="f4f4f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a0da"/>
              </a:solidFill>
              <a:latin typeface="Arial"/>
            </a:endParaRPr>
          </a:p>
        </p:txBody>
      </p:sp>
      <p:sp>
        <p:nvSpPr>
          <p:cNvPr id="260" name="Freeform 9"/>
          <p:cNvSpPr/>
          <p:nvPr/>
        </p:nvSpPr>
        <p:spPr>
          <a:xfrm>
            <a:off x="4081320" y="3936960"/>
            <a:ext cx="808200" cy="709560"/>
          </a:xfrm>
          <a:custGeom>
            <a:avLst/>
            <a:gdLst/>
            <a:ahLst/>
            <a:rect l="l" t="t" r="r" b="b"/>
            <a:pathLst>
              <a:path w="1021" h="896">
                <a:moveTo>
                  <a:pt x="787" y="31"/>
                </a:moveTo>
                <a:lnTo>
                  <a:pt x="899" y="224"/>
                </a:lnTo>
                <a:cubicBezTo>
                  <a:pt x="935" y="287"/>
                  <a:pt x="972" y="350"/>
                  <a:pt x="1008" y="414"/>
                </a:cubicBezTo>
                <a:cubicBezTo>
                  <a:pt x="1020" y="434"/>
                  <a:pt x="1021" y="456"/>
                  <a:pt x="1010" y="479"/>
                </a:cubicBezTo>
                <a:lnTo>
                  <a:pt x="899" y="672"/>
                </a:lnTo>
                <a:cubicBezTo>
                  <a:pt x="862" y="735"/>
                  <a:pt x="826" y="799"/>
                  <a:pt x="789" y="862"/>
                </a:cubicBezTo>
                <a:cubicBezTo>
                  <a:pt x="777" y="882"/>
                  <a:pt x="759" y="894"/>
                  <a:pt x="734" y="896"/>
                </a:cubicBezTo>
                <a:lnTo>
                  <a:pt x="511" y="896"/>
                </a:lnTo>
                <a:cubicBezTo>
                  <a:pt x="438" y="896"/>
                  <a:pt x="365" y="896"/>
                  <a:pt x="292" y="896"/>
                </a:cubicBezTo>
                <a:cubicBezTo>
                  <a:pt x="268" y="896"/>
                  <a:pt x="248" y="886"/>
                  <a:pt x="234" y="865"/>
                </a:cubicBezTo>
                <a:lnTo>
                  <a:pt x="123" y="672"/>
                </a:lnTo>
                <a:cubicBezTo>
                  <a:pt x="86" y="609"/>
                  <a:pt x="50" y="546"/>
                  <a:pt x="13" y="483"/>
                </a:cubicBezTo>
                <a:cubicBezTo>
                  <a:pt x="2" y="462"/>
                  <a:pt x="0" y="440"/>
                  <a:pt x="11" y="417"/>
                </a:cubicBezTo>
                <a:lnTo>
                  <a:pt x="123" y="224"/>
                </a:lnTo>
                <a:cubicBezTo>
                  <a:pt x="159" y="161"/>
                  <a:pt x="196" y="98"/>
                  <a:pt x="232" y="35"/>
                </a:cubicBezTo>
                <a:cubicBezTo>
                  <a:pt x="244" y="14"/>
                  <a:pt x="262" y="2"/>
                  <a:pt x="288" y="0"/>
                </a:cubicBezTo>
                <a:lnTo>
                  <a:pt x="511" y="0"/>
                </a:lnTo>
                <a:cubicBezTo>
                  <a:pt x="584" y="0"/>
                  <a:pt x="657" y="0"/>
                  <a:pt x="730" y="0"/>
                </a:cubicBezTo>
                <a:cubicBezTo>
                  <a:pt x="754" y="0"/>
                  <a:pt x="773" y="10"/>
                  <a:pt x="787" y="31"/>
                </a:cubicBezTo>
                <a:close/>
              </a:path>
            </a:pathLst>
          </a:custGeom>
          <a:solidFill>
            <a:srgbClr val="1aa0da"/>
          </a:solidFill>
          <a:ln w="38160">
            <a:solidFill>
              <a:srgbClr val="f4f4f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a0da"/>
              </a:solidFill>
              <a:latin typeface="Arial"/>
            </a:endParaRPr>
          </a:p>
        </p:txBody>
      </p:sp>
      <p:sp>
        <p:nvSpPr>
          <p:cNvPr id="261" name="TextBox 47"/>
          <p:cNvSpPr/>
          <p:nvPr/>
        </p:nvSpPr>
        <p:spPr>
          <a:xfrm>
            <a:off x="4975200" y="1620720"/>
            <a:ext cx="436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33"/>
                </a:solidFill>
                <a:latin typeface="微软雅黑"/>
                <a:ea typeface="微软雅黑"/>
              </a:rPr>
              <a:t>教育背景</a:t>
            </a:r>
            <a:endParaRPr b="0" lang="en-US" sz="2800" spc="-1" strike="noStrike">
              <a:solidFill>
                <a:srgbClr val="1aa0da"/>
              </a:solidFill>
              <a:latin typeface="Arial"/>
            </a:endParaRPr>
          </a:p>
        </p:txBody>
      </p:sp>
      <p:sp>
        <p:nvSpPr>
          <p:cNvPr id="262" name="TextBox 48"/>
          <p:cNvSpPr/>
          <p:nvPr/>
        </p:nvSpPr>
        <p:spPr>
          <a:xfrm>
            <a:off x="4975200" y="4030560"/>
            <a:ext cx="511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33"/>
                </a:solidFill>
                <a:latin typeface="微软雅黑"/>
                <a:ea typeface="微软雅黑"/>
              </a:rPr>
              <a:t>科研相关</a:t>
            </a:r>
            <a:endParaRPr b="0" lang="en-US" sz="2800" spc="-1" strike="noStrike">
              <a:solidFill>
                <a:srgbClr val="1aa0da"/>
              </a:solidFill>
              <a:latin typeface="Arial"/>
            </a:endParaRPr>
          </a:p>
        </p:txBody>
      </p:sp>
      <p:sp>
        <p:nvSpPr>
          <p:cNvPr id="263" name="TextBox 57"/>
          <p:cNvSpPr/>
          <p:nvPr/>
        </p:nvSpPr>
        <p:spPr>
          <a:xfrm>
            <a:off x="4975200" y="2862360"/>
            <a:ext cx="511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33"/>
                </a:solidFill>
                <a:latin typeface="微软雅黑"/>
                <a:ea typeface="微软雅黑"/>
              </a:rPr>
              <a:t>综合素质</a:t>
            </a:r>
            <a:endParaRPr b="0" lang="en-US" sz="2800" spc="-1" strike="noStrike">
              <a:solidFill>
                <a:srgbClr val="1aa0da"/>
              </a:solidFill>
              <a:latin typeface="Arial"/>
            </a:endParaRPr>
          </a:p>
        </p:txBody>
      </p:sp>
      <p:sp>
        <p:nvSpPr>
          <p:cNvPr id="264" name="Freeform 22"/>
          <p:cNvSpPr/>
          <p:nvPr/>
        </p:nvSpPr>
        <p:spPr>
          <a:xfrm>
            <a:off x="1398600" y="3929040"/>
            <a:ext cx="1122480" cy="798480"/>
          </a:xfrm>
          <a:custGeom>
            <a:avLst/>
            <a:gdLst/>
            <a:ahLst/>
            <a:rect l="l" t="t" r="r" b="b"/>
            <a:pathLst>
              <a:path w="1569" h="1103">
                <a:moveTo>
                  <a:pt x="65" y="669"/>
                </a:moveTo>
                <a:lnTo>
                  <a:pt x="65" y="15"/>
                </a:lnTo>
                <a:lnTo>
                  <a:pt x="623" y="15"/>
                </a:lnTo>
                <a:lnTo>
                  <a:pt x="623" y="669"/>
                </a:lnTo>
                <a:lnTo>
                  <a:pt x="522" y="669"/>
                </a:lnTo>
                <a:lnTo>
                  <a:pt x="522" y="620"/>
                </a:lnTo>
                <a:lnTo>
                  <a:pt x="166" y="620"/>
                </a:lnTo>
                <a:lnTo>
                  <a:pt x="166" y="669"/>
                </a:lnTo>
                <a:lnTo>
                  <a:pt x="65" y="669"/>
                </a:lnTo>
                <a:close/>
                <a:moveTo>
                  <a:pt x="522" y="108"/>
                </a:moveTo>
                <a:lnTo>
                  <a:pt x="166" y="108"/>
                </a:lnTo>
                <a:lnTo>
                  <a:pt x="166" y="186"/>
                </a:lnTo>
                <a:lnTo>
                  <a:pt x="522" y="186"/>
                </a:lnTo>
                <a:lnTo>
                  <a:pt x="522" y="108"/>
                </a:lnTo>
                <a:close/>
                <a:moveTo>
                  <a:pt x="166" y="354"/>
                </a:moveTo>
                <a:lnTo>
                  <a:pt x="522" y="354"/>
                </a:lnTo>
                <a:lnTo>
                  <a:pt x="522" y="277"/>
                </a:lnTo>
                <a:lnTo>
                  <a:pt x="166" y="277"/>
                </a:lnTo>
                <a:lnTo>
                  <a:pt x="166" y="354"/>
                </a:lnTo>
                <a:close/>
                <a:moveTo>
                  <a:pt x="166" y="527"/>
                </a:moveTo>
                <a:lnTo>
                  <a:pt x="522" y="527"/>
                </a:lnTo>
                <a:lnTo>
                  <a:pt x="522" y="445"/>
                </a:lnTo>
                <a:lnTo>
                  <a:pt x="166" y="445"/>
                </a:lnTo>
                <a:lnTo>
                  <a:pt x="166" y="527"/>
                </a:lnTo>
                <a:close/>
                <a:moveTo>
                  <a:pt x="763" y="256"/>
                </a:moveTo>
                <a:lnTo>
                  <a:pt x="1266" y="256"/>
                </a:lnTo>
                <a:lnTo>
                  <a:pt x="1266" y="209"/>
                </a:lnTo>
                <a:lnTo>
                  <a:pt x="846" y="209"/>
                </a:lnTo>
                <a:lnTo>
                  <a:pt x="846" y="130"/>
                </a:lnTo>
                <a:lnTo>
                  <a:pt x="1266" y="130"/>
                </a:lnTo>
                <a:lnTo>
                  <a:pt x="1266" y="83"/>
                </a:lnTo>
                <a:lnTo>
                  <a:pt x="821" y="83"/>
                </a:lnTo>
                <a:lnTo>
                  <a:pt x="821" y="0"/>
                </a:lnTo>
                <a:lnTo>
                  <a:pt x="1363" y="0"/>
                </a:lnTo>
                <a:lnTo>
                  <a:pt x="1363" y="256"/>
                </a:lnTo>
                <a:lnTo>
                  <a:pt x="1462" y="256"/>
                </a:lnTo>
                <a:lnTo>
                  <a:pt x="1462" y="339"/>
                </a:lnTo>
                <a:lnTo>
                  <a:pt x="1350" y="339"/>
                </a:lnTo>
                <a:lnTo>
                  <a:pt x="1416" y="407"/>
                </a:lnTo>
                <a:cubicBezTo>
                  <a:pt x="1374" y="435"/>
                  <a:pt x="1334" y="463"/>
                  <a:pt x="1296" y="490"/>
                </a:cubicBezTo>
                <a:cubicBezTo>
                  <a:pt x="1344" y="518"/>
                  <a:pt x="1400" y="540"/>
                  <a:pt x="1463" y="555"/>
                </a:cubicBezTo>
                <a:cubicBezTo>
                  <a:pt x="1435" y="593"/>
                  <a:pt x="1414" y="623"/>
                  <a:pt x="1400" y="644"/>
                </a:cubicBezTo>
                <a:cubicBezTo>
                  <a:pt x="1305" y="610"/>
                  <a:pt x="1226" y="556"/>
                  <a:pt x="1162" y="482"/>
                </a:cubicBezTo>
                <a:lnTo>
                  <a:pt x="1162" y="559"/>
                </a:lnTo>
                <a:cubicBezTo>
                  <a:pt x="1162" y="630"/>
                  <a:pt x="1132" y="666"/>
                  <a:pt x="1073" y="669"/>
                </a:cubicBezTo>
                <a:cubicBezTo>
                  <a:pt x="1045" y="671"/>
                  <a:pt x="1010" y="672"/>
                  <a:pt x="967" y="673"/>
                </a:cubicBezTo>
                <a:cubicBezTo>
                  <a:pt x="960" y="637"/>
                  <a:pt x="953" y="607"/>
                  <a:pt x="946" y="582"/>
                </a:cubicBezTo>
                <a:cubicBezTo>
                  <a:pt x="979" y="585"/>
                  <a:pt x="1004" y="586"/>
                  <a:pt x="1022" y="585"/>
                </a:cubicBezTo>
                <a:cubicBezTo>
                  <a:pt x="1051" y="585"/>
                  <a:pt x="1065" y="570"/>
                  <a:pt x="1065" y="540"/>
                </a:cubicBezTo>
                <a:lnTo>
                  <a:pt x="1065" y="504"/>
                </a:lnTo>
                <a:cubicBezTo>
                  <a:pt x="958" y="559"/>
                  <a:pt x="872" y="605"/>
                  <a:pt x="807" y="643"/>
                </a:cubicBezTo>
                <a:lnTo>
                  <a:pt x="760" y="550"/>
                </a:lnTo>
                <a:cubicBezTo>
                  <a:pt x="816" y="526"/>
                  <a:pt x="870" y="502"/>
                  <a:pt x="921" y="478"/>
                </a:cubicBezTo>
                <a:cubicBezTo>
                  <a:pt x="882" y="441"/>
                  <a:pt x="847" y="411"/>
                  <a:pt x="814" y="386"/>
                </a:cubicBezTo>
                <a:lnTo>
                  <a:pt x="854" y="339"/>
                </a:lnTo>
                <a:lnTo>
                  <a:pt x="763" y="339"/>
                </a:lnTo>
                <a:lnTo>
                  <a:pt x="763" y="256"/>
                </a:lnTo>
                <a:close/>
                <a:moveTo>
                  <a:pt x="1065" y="406"/>
                </a:moveTo>
                <a:lnTo>
                  <a:pt x="1065" y="339"/>
                </a:lnTo>
                <a:lnTo>
                  <a:pt x="891" y="339"/>
                </a:lnTo>
                <a:cubicBezTo>
                  <a:pt x="919" y="360"/>
                  <a:pt x="951" y="385"/>
                  <a:pt x="985" y="412"/>
                </a:cubicBezTo>
                <a:lnTo>
                  <a:pt x="927" y="475"/>
                </a:lnTo>
                <a:cubicBezTo>
                  <a:pt x="975" y="453"/>
                  <a:pt x="1021" y="430"/>
                  <a:pt x="1065" y="406"/>
                </a:cubicBezTo>
                <a:close/>
                <a:moveTo>
                  <a:pt x="1223" y="436"/>
                </a:moveTo>
                <a:cubicBezTo>
                  <a:pt x="1263" y="409"/>
                  <a:pt x="1302" y="377"/>
                  <a:pt x="1342" y="339"/>
                </a:cubicBezTo>
                <a:lnTo>
                  <a:pt x="1162" y="339"/>
                </a:lnTo>
                <a:lnTo>
                  <a:pt x="1162" y="368"/>
                </a:lnTo>
                <a:cubicBezTo>
                  <a:pt x="1180" y="393"/>
                  <a:pt x="1200" y="416"/>
                  <a:pt x="1223" y="436"/>
                </a:cubicBezTo>
                <a:close/>
                <a:moveTo>
                  <a:pt x="81" y="1076"/>
                </a:moveTo>
                <a:cubicBezTo>
                  <a:pt x="44" y="1076"/>
                  <a:pt x="26" y="1059"/>
                  <a:pt x="26" y="1025"/>
                </a:cubicBezTo>
                <a:lnTo>
                  <a:pt x="26" y="902"/>
                </a:lnTo>
                <a:cubicBezTo>
                  <a:pt x="26" y="871"/>
                  <a:pt x="44" y="856"/>
                  <a:pt x="81" y="856"/>
                </a:cubicBezTo>
                <a:lnTo>
                  <a:pt x="163" y="856"/>
                </a:lnTo>
                <a:lnTo>
                  <a:pt x="163" y="830"/>
                </a:lnTo>
                <a:lnTo>
                  <a:pt x="81" y="830"/>
                </a:lnTo>
                <a:cubicBezTo>
                  <a:pt x="27" y="830"/>
                  <a:pt x="0" y="853"/>
                  <a:pt x="0" y="901"/>
                </a:cubicBezTo>
                <a:lnTo>
                  <a:pt x="0" y="1032"/>
                </a:lnTo>
                <a:cubicBezTo>
                  <a:pt x="0" y="1080"/>
                  <a:pt x="27" y="1103"/>
                  <a:pt x="81" y="1103"/>
                </a:cubicBezTo>
                <a:lnTo>
                  <a:pt x="164" y="1103"/>
                </a:lnTo>
                <a:lnTo>
                  <a:pt x="164" y="1076"/>
                </a:lnTo>
                <a:lnTo>
                  <a:pt x="81" y="1076"/>
                </a:lnTo>
                <a:close/>
                <a:moveTo>
                  <a:pt x="323" y="1076"/>
                </a:moveTo>
                <a:lnTo>
                  <a:pt x="247" y="1076"/>
                </a:lnTo>
                <a:cubicBezTo>
                  <a:pt x="235" y="1076"/>
                  <a:pt x="230" y="1070"/>
                  <a:pt x="230" y="1059"/>
                </a:cubicBezTo>
                <a:lnTo>
                  <a:pt x="230" y="874"/>
                </a:lnTo>
                <a:cubicBezTo>
                  <a:pt x="230" y="862"/>
                  <a:pt x="235" y="856"/>
                  <a:pt x="246" y="856"/>
                </a:cubicBezTo>
                <a:lnTo>
                  <a:pt x="323" y="856"/>
                </a:lnTo>
                <a:cubicBezTo>
                  <a:pt x="334" y="856"/>
                  <a:pt x="339" y="862"/>
                  <a:pt x="339" y="875"/>
                </a:cubicBezTo>
                <a:lnTo>
                  <a:pt x="339" y="1058"/>
                </a:lnTo>
                <a:cubicBezTo>
                  <a:pt x="339" y="1070"/>
                  <a:pt x="334" y="1076"/>
                  <a:pt x="323" y="1076"/>
                </a:cubicBezTo>
                <a:close/>
                <a:moveTo>
                  <a:pt x="204" y="860"/>
                </a:moveTo>
                <a:lnTo>
                  <a:pt x="204" y="1070"/>
                </a:lnTo>
                <a:cubicBezTo>
                  <a:pt x="204" y="1092"/>
                  <a:pt x="214" y="1103"/>
                  <a:pt x="233" y="1103"/>
                </a:cubicBezTo>
                <a:lnTo>
                  <a:pt x="339" y="1103"/>
                </a:lnTo>
                <a:cubicBezTo>
                  <a:pt x="357" y="1103"/>
                  <a:pt x="367" y="1094"/>
                  <a:pt x="367" y="1075"/>
                </a:cubicBezTo>
                <a:lnTo>
                  <a:pt x="367" y="859"/>
                </a:lnTo>
                <a:cubicBezTo>
                  <a:pt x="364" y="842"/>
                  <a:pt x="355" y="832"/>
                  <a:pt x="338" y="830"/>
                </a:cubicBezTo>
                <a:lnTo>
                  <a:pt x="230" y="830"/>
                </a:lnTo>
                <a:cubicBezTo>
                  <a:pt x="213" y="830"/>
                  <a:pt x="204" y="840"/>
                  <a:pt x="204" y="860"/>
                </a:cubicBezTo>
                <a:close/>
                <a:moveTo>
                  <a:pt x="567" y="1103"/>
                </a:moveTo>
                <a:lnTo>
                  <a:pt x="567" y="859"/>
                </a:lnTo>
                <a:cubicBezTo>
                  <a:pt x="567" y="839"/>
                  <a:pt x="557" y="830"/>
                  <a:pt x="537" y="830"/>
                </a:cubicBezTo>
                <a:lnTo>
                  <a:pt x="411" y="830"/>
                </a:lnTo>
                <a:lnTo>
                  <a:pt x="411" y="859"/>
                </a:lnTo>
                <a:lnTo>
                  <a:pt x="539" y="859"/>
                </a:lnTo>
                <a:lnTo>
                  <a:pt x="539" y="1103"/>
                </a:lnTo>
                <a:lnTo>
                  <a:pt x="567" y="1103"/>
                </a:lnTo>
                <a:close/>
                <a:moveTo>
                  <a:pt x="411" y="875"/>
                </a:moveTo>
                <a:lnTo>
                  <a:pt x="411" y="1103"/>
                </a:lnTo>
                <a:lnTo>
                  <a:pt x="441" y="1103"/>
                </a:lnTo>
                <a:lnTo>
                  <a:pt x="441" y="875"/>
                </a:lnTo>
                <a:lnTo>
                  <a:pt x="411" y="875"/>
                </a:lnTo>
                <a:close/>
                <a:moveTo>
                  <a:pt x="711" y="1103"/>
                </a:moveTo>
                <a:lnTo>
                  <a:pt x="711" y="856"/>
                </a:lnTo>
                <a:lnTo>
                  <a:pt x="776" y="856"/>
                </a:lnTo>
                <a:lnTo>
                  <a:pt x="776" y="830"/>
                </a:lnTo>
                <a:lnTo>
                  <a:pt x="613" y="830"/>
                </a:lnTo>
                <a:lnTo>
                  <a:pt x="613" y="856"/>
                </a:lnTo>
                <a:lnTo>
                  <a:pt x="683" y="856"/>
                </a:lnTo>
                <a:lnTo>
                  <a:pt x="683" y="1103"/>
                </a:lnTo>
                <a:lnTo>
                  <a:pt x="711" y="1103"/>
                </a:lnTo>
                <a:close/>
                <a:moveTo>
                  <a:pt x="947" y="953"/>
                </a:moveTo>
                <a:lnTo>
                  <a:pt x="853" y="953"/>
                </a:lnTo>
                <a:lnTo>
                  <a:pt x="853" y="980"/>
                </a:lnTo>
                <a:lnTo>
                  <a:pt x="947" y="980"/>
                </a:lnTo>
                <a:lnTo>
                  <a:pt x="947" y="953"/>
                </a:lnTo>
                <a:close/>
                <a:moveTo>
                  <a:pt x="836" y="1076"/>
                </a:moveTo>
                <a:lnTo>
                  <a:pt x="836" y="856"/>
                </a:lnTo>
                <a:lnTo>
                  <a:pt x="973" y="856"/>
                </a:lnTo>
                <a:lnTo>
                  <a:pt x="973" y="830"/>
                </a:lnTo>
                <a:lnTo>
                  <a:pt x="836" y="830"/>
                </a:lnTo>
                <a:cubicBezTo>
                  <a:pt x="819" y="830"/>
                  <a:pt x="810" y="838"/>
                  <a:pt x="810" y="856"/>
                </a:cubicBezTo>
                <a:lnTo>
                  <a:pt x="810" y="1077"/>
                </a:lnTo>
                <a:cubicBezTo>
                  <a:pt x="810" y="1094"/>
                  <a:pt x="819" y="1103"/>
                  <a:pt x="836" y="1103"/>
                </a:cubicBezTo>
                <a:lnTo>
                  <a:pt x="973" y="1103"/>
                </a:lnTo>
                <a:lnTo>
                  <a:pt x="973" y="1076"/>
                </a:lnTo>
                <a:lnTo>
                  <a:pt x="836" y="1076"/>
                </a:lnTo>
                <a:close/>
                <a:moveTo>
                  <a:pt x="1163" y="1103"/>
                </a:moveTo>
                <a:lnTo>
                  <a:pt x="1163" y="859"/>
                </a:lnTo>
                <a:cubicBezTo>
                  <a:pt x="1163" y="839"/>
                  <a:pt x="1153" y="830"/>
                  <a:pt x="1132" y="830"/>
                </a:cubicBezTo>
                <a:lnTo>
                  <a:pt x="1007" y="830"/>
                </a:lnTo>
                <a:lnTo>
                  <a:pt x="1007" y="859"/>
                </a:lnTo>
                <a:lnTo>
                  <a:pt x="1134" y="859"/>
                </a:lnTo>
                <a:lnTo>
                  <a:pt x="1134" y="1103"/>
                </a:lnTo>
                <a:lnTo>
                  <a:pt x="1163" y="1103"/>
                </a:lnTo>
                <a:close/>
                <a:moveTo>
                  <a:pt x="1007" y="875"/>
                </a:moveTo>
                <a:lnTo>
                  <a:pt x="1007" y="1103"/>
                </a:lnTo>
                <a:lnTo>
                  <a:pt x="1037" y="1103"/>
                </a:lnTo>
                <a:lnTo>
                  <a:pt x="1037" y="875"/>
                </a:lnTo>
                <a:lnTo>
                  <a:pt x="1007" y="875"/>
                </a:lnTo>
                <a:close/>
                <a:moveTo>
                  <a:pt x="1306" y="1103"/>
                </a:moveTo>
                <a:lnTo>
                  <a:pt x="1306" y="856"/>
                </a:lnTo>
                <a:lnTo>
                  <a:pt x="1371" y="856"/>
                </a:lnTo>
                <a:lnTo>
                  <a:pt x="1371" y="830"/>
                </a:lnTo>
                <a:lnTo>
                  <a:pt x="1209" y="830"/>
                </a:lnTo>
                <a:lnTo>
                  <a:pt x="1209" y="856"/>
                </a:lnTo>
                <a:lnTo>
                  <a:pt x="1278" y="856"/>
                </a:lnTo>
                <a:lnTo>
                  <a:pt x="1278" y="1103"/>
                </a:lnTo>
                <a:lnTo>
                  <a:pt x="1306" y="1103"/>
                </a:lnTo>
                <a:close/>
                <a:moveTo>
                  <a:pt x="1487" y="1076"/>
                </a:moveTo>
                <a:lnTo>
                  <a:pt x="1406" y="1076"/>
                </a:lnTo>
                <a:lnTo>
                  <a:pt x="1406" y="1103"/>
                </a:lnTo>
                <a:lnTo>
                  <a:pt x="1487" y="1103"/>
                </a:lnTo>
                <a:cubicBezTo>
                  <a:pt x="1542" y="1103"/>
                  <a:pt x="1569" y="1079"/>
                  <a:pt x="1569" y="1031"/>
                </a:cubicBezTo>
                <a:cubicBezTo>
                  <a:pt x="1569" y="1002"/>
                  <a:pt x="1556" y="982"/>
                  <a:pt x="1531" y="970"/>
                </a:cubicBezTo>
                <a:lnTo>
                  <a:pt x="1468" y="940"/>
                </a:lnTo>
                <a:cubicBezTo>
                  <a:pt x="1444" y="929"/>
                  <a:pt x="1432" y="916"/>
                  <a:pt x="1432" y="902"/>
                </a:cubicBezTo>
                <a:cubicBezTo>
                  <a:pt x="1432" y="871"/>
                  <a:pt x="1450" y="856"/>
                  <a:pt x="1487" y="856"/>
                </a:cubicBezTo>
                <a:lnTo>
                  <a:pt x="1569" y="856"/>
                </a:lnTo>
                <a:lnTo>
                  <a:pt x="1569" y="830"/>
                </a:lnTo>
                <a:lnTo>
                  <a:pt x="1487" y="830"/>
                </a:lnTo>
                <a:cubicBezTo>
                  <a:pt x="1433" y="830"/>
                  <a:pt x="1406" y="853"/>
                  <a:pt x="1406" y="901"/>
                </a:cubicBezTo>
                <a:cubicBezTo>
                  <a:pt x="1406" y="923"/>
                  <a:pt x="1418" y="942"/>
                  <a:pt x="1441" y="958"/>
                </a:cubicBezTo>
                <a:cubicBezTo>
                  <a:pt x="1452" y="963"/>
                  <a:pt x="1473" y="974"/>
                  <a:pt x="1506" y="990"/>
                </a:cubicBezTo>
                <a:cubicBezTo>
                  <a:pt x="1530" y="1001"/>
                  <a:pt x="1541" y="1013"/>
                  <a:pt x="1541" y="1027"/>
                </a:cubicBezTo>
                <a:cubicBezTo>
                  <a:pt x="1541" y="1059"/>
                  <a:pt x="1523" y="1076"/>
                  <a:pt x="1487" y="1076"/>
                </a:cubicBezTo>
                <a:close/>
              </a:path>
            </a:pathLst>
          </a:cu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a0da"/>
              </a:solidFill>
              <a:latin typeface="Arial"/>
            </a:endParaRPr>
          </a:p>
        </p:txBody>
      </p:sp>
      <p:grpSp>
        <p:nvGrpSpPr>
          <p:cNvPr id="265" name="组合 70"/>
          <p:cNvGrpSpPr/>
          <p:nvPr/>
        </p:nvGrpSpPr>
        <p:grpSpPr>
          <a:xfrm>
            <a:off x="1162080" y="2093760"/>
            <a:ext cx="1620720" cy="1621080"/>
            <a:chOff x="1162080" y="2093760"/>
            <a:chExt cx="1620720" cy="1621080"/>
          </a:xfrm>
        </p:grpSpPr>
        <p:sp>
          <p:nvSpPr>
            <p:cNvPr id="266" name="Freeform 17"/>
            <p:cNvSpPr/>
            <p:nvPr/>
          </p:nvSpPr>
          <p:spPr>
            <a:xfrm>
              <a:off x="1429200" y="2331720"/>
              <a:ext cx="1087920" cy="1010160"/>
            </a:xfrm>
            <a:custGeom>
              <a:avLst/>
              <a:gdLst/>
              <a:ahLst/>
              <a:rect l="l" t="t" r="r" b="b"/>
              <a:pathLst>
                <a:path w="1374" h="1276">
                  <a:moveTo>
                    <a:pt x="610" y="1116"/>
                  </a:moveTo>
                  <a:lnTo>
                    <a:pt x="756" y="1116"/>
                  </a:lnTo>
                  <a:lnTo>
                    <a:pt x="807" y="1200"/>
                  </a:lnTo>
                  <a:lnTo>
                    <a:pt x="566" y="1200"/>
                  </a:lnTo>
                  <a:lnTo>
                    <a:pt x="610" y="1116"/>
                  </a:lnTo>
                  <a:close/>
                  <a:moveTo>
                    <a:pt x="385" y="42"/>
                  </a:moveTo>
                  <a:lnTo>
                    <a:pt x="420" y="65"/>
                  </a:lnTo>
                  <a:cubicBezTo>
                    <a:pt x="422" y="66"/>
                    <a:pt x="423" y="67"/>
                    <a:pt x="425" y="69"/>
                  </a:cubicBezTo>
                  <a:lnTo>
                    <a:pt x="741" y="28"/>
                  </a:lnTo>
                  <a:cubicBezTo>
                    <a:pt x="734" y="11"/>
                    <a:pt x="715" y="0"/>
                    <a:pt x="693" y="3"/>
                  </a:cubicBezTo>
                  <a:lnTo>
                    <a:pt x="385" y="42"/>
                  </a:lnTo>
                  <a:close/>
                  <a:moveTo>
                    <a:pt x="343" y="52"/>
                  </a:moveTo>
                  <a:lnTo>
                    <a:pt x="402" y="90"/>
                  </a:lnTo>
                  <a:cubicBezTo>
                    <a:pt x="411" y="96"/>
                    <a:pt x="418" y="112"/>
                    <a:pt x="418" y="126"/>
                  </a:cubicBezTo>
                  <a:lnTo>
                    <a:pt x="418" y="675"/>
                  </a:lnTo>
                  <a:cubicBezTo>
                    <a:pt x="418" y="689"/>
                    <a:pt x="411" y="696"/>
                    <a:pt x="402" y="690"/>
                  </a:cubicBezTo>
                  <a:lnTo>
                    <a:pt x="343" y="652"/>
                  </a:lnTo>
                  <a:cubicBezTo>
                    <a:pt x="334" y="646"/>
                    <a:pt x="327" y="630"/>
                    <a:pt x="327" y="616"/>
                  </a:cubicBezTo>
                  <a:lnTo>
                    <a:pt x="327" y="67"/>
                  </a:lnTo>
                  <a:cubicBezTo>
                    <a:pt x="327" y="53"/>
                    <a:pt x="334" y="46"/>
                    <a:pt x="343" y="52"/>
                  </a:cubicBezTo>
                  <a:close/>
                  <a:moveTo>
                    <a:pt x="590" y="222"/>
                  </a:moveTo>
                  <a:lnTo>
                    <a:pt x="625" y="245"/>
                  </a:lnTo>
                  <a:cubicBezTo>
                    <a:pt x="627" y="246"/>
                    <a:pt x="629" y="247"/>
                    <a:pt x="630" y="248"/>
                  </a:cubicBezTo>
                  <a:lnTo>
                    <a:pt x="946" y="208"/>
                  </a:lnTo>
                  <a:cubicBezTo>
                    <a:pt x="939" y="190"/>
                    <a:pt x="920" y="180"/>
                    <a:pt x="898" y="183"/>
                  </a:cubicBezTo>
                  <a:lnTo>
                    <a:pt x="590" y="222"/>
                  </a:lnTo>
                  <a:close/>
                  <a:moveTo>
                    <a:pt x="548" y="232"/>
                  </a:moveTo>
                  <a:lnTo>
                    <a:pt x="608" y="270"/>
                  </a:lnTo>
                  <a:cubicBezTo>
                    <a:pt x="616" y="275"/>
                    <a:pt x="624" y="292"/>
                    <a:pt x="624" y="306"/>
                  </a:cubicBezTo>
                  <a:lnTo>
                    <a:pt x="624" y="854"/>
                  </a:lnTo>
                  <a:cubicBezTo>
                    <a:pt x="624" y="868"/>
                    <a:pt x="616" y="875"/>
                    <a:pt x="608" y="869"/>
                  </a:cubicBezTo>
                  <a:lnTo>
                    <a:pt x="548" y="831"/>
                  </a:lnTo>
                  <a:cubicBezTo>
                    <a:pt x="539" y="826"/>
                    <a:pt x="532" y="810"/>
                    <a:pt x="532" y="796"/>
                  </a:cubicBezTo>
                  <a:lnTo>
                    <a:pt x="532" y="247"/>
                  </a:lnTo>
                  <a:cubicBezTo>
                    <a:pt x="532" y="233"/>
                    <a:pt x="539" y="226"/>
                    <a:pt x="548" y="232"/>
                  </a:cubicBezTo>
                  <a:close/>
                  <a:moveTo>
                    <a:pt x="653" y="294"/>
                  </a:moveTo>
                  <a:lnTo>
                    <a:pt x="984" y="251"/>
                  </a:lnTo>
                  <a:cubicBezTo>
                    <a:pt x="1012" y="247"/>
                    <a:pt x="1036" y="267"/>
                    <a:pt x="1036" y="294"/>
                  </a:cubicBezTo>
                  <a:lnTo>
                    <a:pt x="1036" y="766"/>
                  </a:lnTo>
                  <a:cubicBezTo>
                    <a:pt x="1036" y="793"/>
                    <a:pt x="1012" y="818"/>
                    <a:pt x="984" y="822"/>
                  </a:cubicBezTo>
                  <a:lnTo>
                    <a:pt x="653" y="864"/>
                  </a:lnTo>
                  <a:lnTo>
                    <a:pt x="653" y="294"/>
                  </a:lnTo>
                  <a:close/>
                  <a:moveTo>
                    <a:pt x="716" y="371"/>
                  </a:moveTo>
                  <a:lnTo>
                    <a:pt x="975" y="337"/>
                  </a:lnTo>
                  <a:lnTo>
                    <a:pt x="975" y="454"/>
                  </a:lnTo>
                  <a:lnTo>
                    <a:pt x="716" y="487"/>
                  </a:lnTo>
                  <a:lnTo>
                    <a:pt x="716" y="371"/>
                  </a:lnTo>
                  <a:close/>
                  <a:moveTo>
                    <a:pt x="447" y="114"/>
                  </a:moveTo>
                  <a:lnTo>
                    <a:pt x="778" y="72"/>
                  </a:lnTo>
                  <a:cubicBezTo>
                    <a:pt x="807" y="68"/>
                    <a:pt x="830" y="87"/>
                    <a:pt x="830" y="114"/>
                  </a:cubicBezTo>
                  <a:lnTo>
                    <a:pt x="830" y="128"/>
                  </a:lnTo>
                  <a:lnTo>
                    <a:pt x="517" y="168"/>
                  </a:lnTo>
                  <a:cubicBezTo>
                    <a:pt x="495" y="174"/>
                    <a:pt x="486" y="188"/>
                    <a:pt x="487" y="218"/>
                  </a:cubicBezTo>
                  <a:lnTo>
                    <a:pt x="487" y="680"/>
                  </a:lnTo>
                  <a:lnTo>
                    <a:pt x="447" y="685"/>
                  </a:lnTo>
                  <a:lnTo>
                    <a:pt x="447" y="114"/>
                  </a:lnTo>
                  <a:close/>
                  <a:moveTo>
                    <a:pt x="205" y="382"/>
                  </a:moveTo>
                  <a:lnTo>
                    <a:pt x="272" y="382"/>
                  </a:lnTo>
                  <a:lnTo>
                    <a:pt x="272" y="275"/>
                  </a:lnTo>
                  <a:lnTo>
                    <a:pt x="210" y="275"/>
                  </a:lnTo>
                  <a:cubicBezTo>
                    <a:pt x="155" y="275"/>
                    <a:pt x="109" y="320"/>
                    <a:pt x="109" y="376"/>
                  </a:cubicBezTo>
                  <a:lnTo>
                    <a:pt x="109" y="946"/>
                  </a:lnTo>
                  <a:cubicBezTo>
                    <a:pt x="109" y="992"/>
                    <a:pt x="140" y="1031"/>
                    <a:pt x="183" y="1043"/>
                  </a:cubicBezTo>
                  <a:lnTo>
                    <a:pt x="183" y="1043"/>
                  </a:lnTo>
                  <a:lnTo>
                    <a:pt x="0" y="1188"/>
                  </a:lnTo>
                  <a:lnTo>
                    <a:pt x="0" y="1276"/>
                  </a:lnTo>
                  <a:lnTo>
                    <a:pt x="1374" y="1276"/>
                  </a:lnTo>
                  <a:lnTo>
                    <a:pt x="1374" y="1188"/>
                  </a:lnTo>
                  <a:lnTo>
                    <a:pt x="1178" y="1045"/>
                  </a:lnTo>
                  <a:cubicBezTo>
                    <a:pt x="1223" y="1035"/>
                    <a:pt x="1257" y="994"/>
                    <a:pt x="1257" y="946"/>
                  </a:cubicBezTo>
                  <a:lnTo>
                    <a:pt x="1257" y="376"/>
                  </a:lnTo>
                  <a:cubicBezTo>
                    <a:pt x="1257" y="320"/>
                    <a:pt x="1212" y="275"/>
                    <a:pt x="1156" y="275"/>
                  </a:cubicBezTo>
                  <a:lnTo>
                    <a:pt x="1095" y="275"/>
                  </a:lnTo>
                  <a:lnTo>
                    <a:pt x="1095" y="382"/>
                  </a:lnTo>
                  <a:lnTo>
                    <a:pt x="1161" y="382"/>
                  </a:lnTo>
                  <a:lnTo>
                    <a:pt x="1161" y="961"/>
                  </a:lnTo>
                  <a:lnTo>
                    <a:pt x="205" y="961"/>
                  </a:lnTo>
                  <a:lnTo>
                    <a:pt x="205" y="382"/>
                  </a:lnTo>
                  <a:close/>
                </a:path>
              </a:pathLst>
            </a:custGeom>
            <a:solidFill>
              <a:srgbClr val="1aa0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aa0da"/>
                </a:solidFill>
                <a:latin typeface="Arial"/>
              </a:endParaRPr>
            </a:p>
          </p:txBody>
        </p:sp>
        <p:sp>
          <p:nvSpPr>
            <p:cNvPr id="267" name="椭圆 73"/>
            <p:cNvSpPr/>
            <p:nvPr/>
          </p:nvSpPr>
          <p:spPr>
            <a:xfrm>
              <a:off x="1162080" y="2093760"/>
              <a:ext cx="1620720" cy="1621080"/>
            </a:xfrm>
            <a:prstGeom prst="ellipse">
              <a:avLst/>
            </a:prstGeom>
            <a:noFill/>
            <a:ln w="57240">
              <a:solidFill>
                <a:srgbClr val="1aa0d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aa0da"/>
                </a:solidFill>
                <a:latin typeface="Arial"/>
              </a:endParaRPr>
            </a:p>
          </p:txBody>
        </p:sp>
      </p:grpSp>
      <p:sp>
        <p:nvSpPr>
          <p:cNvPr id="268" name="Freeform 21"/>
          <p:cNvSpPr/>
          <p:nvPr/>
        </p:nvSpPr>
        <p:spPr>
          <a:xfrm>
            <a:off x="4260960" y="1716120"/>
            <a:ext cx="420480" cy="426960"/>
          </a:xfrm>
          <a:custGeom>
            <a:avLst/>
            <a:gdLst/>
            <a:ahLst/>
            <a:rect l="l" t="t" r="r" b="b"/>
            <a:pathLst>
              <a:path w="563" h="595">
                <a:moveTo>
                  <a:pt x="486" y="130"/>
                </a:moveTo>
                <a:lnTo>
                  <a:pt x="429" y="130"/>
                </a:lnTo>
                <a:cubicBezTo>
                  <a:pt x="424" y="130"/>
                  <a:pt x="419" y="125"/>
                  <a:pt x="419" y="120"/>
                </a:cubicBezTo>
                <a:lnTo>
                  <a:pt x="419" y="63"/>
                </a:lnTo>
                <a:lnTo>
                  <a:pt x="486" y="130"/>
                </a:lnTo>
                <a:close/>
                <a:moveTo>
                  <a:pt x="460" y="170"/>
                </a:moveTo>
                <a:lnTo>
                  <a:pt x="229" y="170"/>
                </a:lnTo>
                <a:lnTo>
                  <a:pt x="229" y="200"/>
                </a:lnTo>
                <a:lnTo>
                  <a:pt x="460" y="200"/>
                </a:lnTo>
                <a:lnTo>
                  <a:pt x="460" y="170"/>
                </a:lnTo>
                <a:close/>
                <a:moveTo>
                  <a:pt x="460" y="234"/>
                </a:moveTo>
                <a:lnTo>
                  <a:pt x="229" y="234"/>
                </a:lnTo>
                <a:lnTo>
                  <a:pt x="229" y="264"/>
                </a:lnTo>
                <a:lnTo>
                  <a:pt x="460" y="264"/>
                </a:lnTo>
                <a:lnTo>
                  <a:pt x="460" y="234"/>
                </a:lnTo>
                <a:close/>
                <a:moveTo>
                  <a:pt x="460" y="303"/>
                </a:moveTo>
                <a:lnTo>
                  <a:pt x="384" y="303"/>
                </a:lnTo>
                <a:lnTo>
                  <a:pt x="384" y="333"/>
                </a:lnTo>
                <a:lnTo>
                  <a:pt x="460" y="333"/>
                </a:lnTo>
                <a:lnTo>
                  <a:pt x="460" y="303"/>
                </a:lnTo>
                <a:close/>
                <a:moveTo>
                  <a:pt x="359" y="104"/>
                </a:moveTo>
                <a:lnTo>
                  <a:pt x="229" y="104"/>
                </a:lnTo>
                <a:lnTo>
                  <a:pt x="229" y="134"/>
                </a:lnTo>
                <a:lnTo>
                  <a:pt x="359" y="134"/>
                </a:lnTo>
                <a:lnTo>
                  <a:pt x="359" y="104"/>
                </a:lnTo>
                <a:close/>
                <a:moveTo>
                  <a:pt x="174" y="490"/>
                </a:moveTo>
                <a:cubicBezTo>
                  <a:pt x="226" y="553"/>
                  <a:pt x="279" y="595"/>
                  <a:pt x="291" y="588"/>
                </a:cubicBezTo>
                <a:cubicBezTo>
                  <a:pt x="303" y="581"/>
                  <a:pt x="293" y="515"/>
                  <a:pt x="265" y="438"/>
                </a:cubicBezTo>
                <a:cubicBezTo>
                  <a:pt x="250" y="448"/>
                  <a:pt x="236" y="457"/>
                  <a:pt x="220" y="466"/>
                </a:cubicBezTo>
                <a:cubicBezTo>
                  <a:pt x="205" y="475"/>
                  <a:pt x="190" y="483"/>
                  <a:pt x="174" y="490"/>
                </a:cubicBezTo>
                <a:close/>
                <a:moveTo>
                  <a:pt x="54" y="274"/>
                </a:moveTo>
                <a:cubicBezTo>
                  <a:pt x="64" y="309"/>
                  <a:pt x="85" y="353"/>
                  <a:pt x="113" y="402"/>
                </a:cubicBezTo>
                <a:cubicBezTo>
                  <a:pt x="127" y="427"/>
                  <a:pt x="144" y="451"/>
                  <a:pt x="161" y="473"/>
                </a:cubicBezTo>
                <a:cubicBezTo>
                  <a:pt x="176" y="465"/>
                  <a:pt x="192" y="457"/>
                  <a:pt x="208" y="448"/>
                </a:cubicBezTo>
                <a:cubicBezTo>
                  <a:pt x="225" y="439"/>
                  <a:pt x="241" y="428"/>
                  <a:pt x="256" y="417"/>
                </a:cubicBezTo>
                <a:cubicBezTo>
                  <a:pt x="246" y="392"/>
                  <a:pt x="234" y="366"/>
                  <a:pt x="219" y="341"/>
                </a:cubicBezTo>
                <a:cubicBezTo>
                  <a:pt x="191" y="292"/>
                  <a:pt x="163" y="252"/>
                  <a:pt x="138" y="226"/>
                </a:cubicBezTo>
                <a:cubicBezTo>
                  <a:pt x="125" y="234"/>
                  <a:pt x="112" y="244"/>
                  <a:pt x="98" y="252"/>
                </a:cubicBezTo>
                <a:cubicBezTo>
                  <a:pt x="83" y="260"/>
                  <a:pt x="69" y="267"/>
                  <a:pt x="54" y="274"/>
                </a:cubicBezTo>
                <a:close/>
                <a:moveTo>
                  <a:pt x="63" y="192"/>
                </a:moveTo>
                <a:cubicBezTo>
                  <a:pt x="55" y="197"/>
                  <a:pt x="50" y="205"/>
                  <a:pt x="48" y="215"/>
                </a:cubicBezTo>
                <a:cubicBezTo>
                  <a:pt x="33" y="219"/>
                  <a:pt x="18" y="229"/>
                  <a:pt x="7" y="249"/>
                </a:cubicBezTo>
                <a:cubicBezTo>
                  <a:pt x="0" y="265"/>
                  <a:pt x="2" y="289"/>
                  <a:pt x="12" y="307"/>
                </a:cubicBezTo>
                <a:cubicBezTo>
                  <a:pt x="29" y="338"/>
                  <a:pt x="52" y="377"/>
                  <a:pt x="73" y="408"/>
                </a:cubicBezTo>
                <a:cubicBezTo>
                  <a:pt x="86" y="413"/>
                  <a:pt x="83" y="386"/>
                  <a:pt x="78" y="379"/>
                </a:cubicBezTo>
                <a:cubicBezTo>
                  <a:pt x="62" y="354"/>
                  <a:pt x="48" y="331"/>
                  <a:pt x="35" y="286"/>
                </a:cubicBezTo>
                <a:cubicBezTo>
                  <a:pt x="32" y="265"/>
                  <a:pt x="41" y="256"/>
                  <a:pt x="48" y="246"/>
                </a:cubicBezTo>
                <a:cubicBezTo>
                  <a:pt x="48" y="248"/>
                  <a:pt x="48" y="250"/>
                  <a:pt x="49" y="252"/>
                </a:cubicBezTo>
                <a:cubicBezTo>
                  <a:pt x="61" y="247"/>
                  <a:pt x="73" y="240"/>
                  <a:pt x="86" y="234"/>
                </a:cubicBezTo>
                <a:cubicBezTo>
                  <a:pt x="98" y="227"/>
                  <a:pt x="110" y="218"/>
                  <a:pt x="122" y="210"/>
                </a:cubicBezTo>
                <a:cubicBezTo>
                  <a:pt x="99" y="190"/>
                  <a:pt x="79" y="183"/>
                  <a:pt x="63" y="192"/>
                </a:cubicBezTo>
                <a:close/>
                <a:moveTo>
                  <a:pt x="439" y="0"/>
                </a:moveTo>
                <a:lnTo>
                  <a:pt x="211" y="0"/>
                </a:lnTo>
                <a:cubicBezTo>
                  <a:pt x="168" y="0"/>
                  <a:pt x="133" y="35"/>
                  <a:pt x="133" y="78"/>
                </a:cubicBezTo>
                <a:lnTo>
                  <a:pt x="133" y="183"/>
                </a:lnTo>
                <a:cubicBezTo>
                  <a:pt x="158" y="203"/>
                  <a:pt x="173" y="221"/>
                  <a:pt x="192" y="247"/>
                </a:cubicBezTo>
                <a:lnTo>
                  <a:pt x="192" y="78"/>
                </a:lnTo>
                <a:cubicBezTo>
                  <a:pt x="192" y="68"/>
                  <a:pt x="201" y="59"/>
                  <a:pt x="211" y="59"/>
                </a:cubicBezTo>
                <a:lnTo>
                  <a:pt x="392" y="59"/>
                </a:lnTo>
                <a:lnTo>
                  <a:pt x="392" y="142"/>
                </a:lnTo>
                <a:cubicBezTo>
                  <a:pt x="392" y="150"/>
                  <a:pt x="399" y="157"/>
                  <a:pt x="407" y="157"/>
                </a:cubicBezTo>
                <a:lnTo>
                  <a:pt x="504" y="157"/>
                </a:lnTo>
                <a:lnTo>
                  <a:pt x="504" y="446"/>
                </a:lnTo>
                <a:cubicBezTo>
                  <a:pt x="504" y="457"/>
                  <a:pt x="495" y="465"/>
                  <a:pt x="484" y="465"/>
                </a:cubicBezTo>
                <a:lnTo>
                  <a:pt x="303" y="465"/>
                </a:lnTo>
                <a:cubicBezTo>
                  <a:pt x="309" y="485"/>
                  <a:pt x="315" y="505"/>
                  <a:pt x="318" y="524"/>
                </a:cubicBezTo>
                <a:lnTo>
                  <a:pt x="484" y="524"/>
                </a:lnTo>
                <a:cubicBezTo>
                  <a:pt x="528" y="524"/>
                  <a:pt x="563" y="489"/>
                  <a:pt x="563" y="446"/>
                </a:cubicBezTo>
                <a:lnTo>
                  <a:pt x="563" y="124"/>
                </a:lnTo>
                <a:lnTo>
                  <a:pt x="439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a0da"/>
              </a:solidFill>
              <a:latin typeface="Arial"/>
            </a:endParaRPr>
          </a:p>
        </p:txBody>
      </p:sp>
      <p:sp>
        <p:nvSpPr>
          <p:cNvPr id="269" name="Freeform 23"/>
          <p:cNvSpPr/>
          <p:nvPr/>
        </p:nvSpPr>
        <p:spPr>
          <a:xfrm>
            <a:off x="4284720" y="2919240"/>
            <a:ext cx="477720" cy="422280"/>
          </a:xfrm>
          <a:custGeom>
            <a:avLst/>
            <a:gdLst/>
            <a:ahLst/>
            <a:rect l="l" t="t" r="r" b="b"/>
            <a:pathLst>
              <a:path w="638" h="590">
                <a:moveTo>
                  <a:pt x="0" y="103"/>
                </a:moveTo>
                <a:cubicBezTo>
                  <a:pt x="0" y="185"/>
                  <a:pt x="0" y="267"/>
                  <a:pt x="0" y="349"/>
                </a:cubicBezTo>
                <a:cubicBezTo>
                  <a:pt x="0" y="355"/>
                  <a:pt x="108" y="458"/>
                  <a:pt x="121" y="471"/>
                </a:cubicBezTo>
                <a:cubicBezTo>
                  <a:pt x="135" y="485"/>
                  <a:pt x="237" y="590"/>
                  <a:pt x="245" y="590"/>
                </a:cubicBezTo>
                <a:cubicBezTo>
                  <a:pt x="295" y="590"/>
                  <a:pt x="344" y="590"/>
                  <a:pt x="393" y="590"/>
                </a:cubicBezTo>
                <a:cubicBezTo>
                  <a:pt x="413" y="590"/>
                  <a:pt x="421" y="571"/>
                  <a:pt x="430" y="558"/>
                </a:cubicBezTo>
                <a:cubicBezTo>
                  <a:pt x="430" y="456"/>
                  <a:pt x="430" y="355"/>
                  <a:pt x="430" y="253"/>
                </a:cubicBezTo>
                <a:cubicBezTo>
                  <a:pt x="420" y="257"/>
                  <a:pt x="393" y="246"/>
                  <a:pt x="388" y="260"/>
                </a:cubicBezTo>
                <a:cubicBezTo>
                  <a:pt x="384" y="268"/>
                  <a:pt x="388" y="382"/>
                  <a:pt x="388" y="405"/>
                </a:cubicBezTo>
                <a:cubicBezTo>
                  <a:pt x="388" y="429"/>
                  <a:pt x="395" y="548"/>
                  <a:pt x="378" y="548"/>
                </a:cubicBezTo>
                <a:cubicBezTo>
                  <a:pt x="338" y="548"/>
                  <a:pt x="298" y="548"/>
                  <a:pt x="258" y="548"/>
                </a:cubicBezTo>
                <a:cubicBezTo>
                  <a:pt x="245" y="548"/>
                  <a:pt x="250" y="507"/>
                  <a:pt x="250" y="494"/>
                </a:cubicBezTo>
                <a:cubicBezTo>
                  <a:pt x="250" y="473"/>
                  <a:pt x="250" y="453"/>
                  <a:pt x="250" y="432"/>
                </a:cubicBezTo>
                <a:cubicBezTo>
                  <a:pt x="250" y="376"/>
                  <a:pt x="251" y="367"/>
                  <a:pt x="216" y="344"/>
                </a:cubicBezTo>
                <a:cubicBezTo>
                  <a:pt x="200" y="344"/>
                  <a:pt x="200" y="339"/>
                  <a:pt x="187" y="339"/>
                </a:cubicBezTo>
                <a:cubicBezTo>
                  <a:pt x="139" y="339"/>
                  <a:pt x="92" y="339"/>
                  <a:pt x="44" y="339"/>
                </a:cubicBezTo>
                <a:cubicBezTo>
                  <a:pt x="44" y="265"/>
                  <a:pt x="44" y="192"/>
                  <a:pt x="44" y="118"/>
                </a:cubicBezTo>
                <a:cubicBezTo>
                  <a:pt x="44" y="112"/>
                  <a:pt x="46" y="113"/>
                  <a:pt x="49" y="108"/>
                </a:cubicBezTo>
                <a:cubicBezTo>
                  <a:pt x="103" y="108"/>
                  <a:pt x="157" y="108"/>
                  <a:pt x="211" y="108"/>
                </a:cubicBezTo>
                <a:cubicBezTo>
                  <a:pt x="222" y="101"/>
                  <a:pt x="250" y="77"/>
                  <a:pt x="250" y="61"/>
                </a:cubicBezTo>
                <a:cubicBezTo>
                  <a:pt x="182" y="61"/>
                  <a:pt x="115" y="61"/>
                  <a:pt x="47" y="61"/>
                </a:cubicBezTo>
                <a:cubicBezTo>
                  <a:pt x="28" y="61"/>
                  <a:pt x="0" y="88"/>
                  <a:pt x="0" y="103"/>
                </a:cubicBezTo>
                <a:close/>
                <a:moveTo>
                  <a:pt x="337" y="144"/>
                </a:moveTo>
                <a:lnTo>
                  <a:pt x="359" y="122"/>
                </a:lnTo>
                <a:lnTo>
                  <a:pt x="337" y="100"/>
                </a:lnTo>
                <a:cubicBezTo>
                  <a:pt x="336" y="99"/>
                  <a:pt x="336" y="98"/>
                  <a:pt x="337" y="97"/>
                </a:cubicBezTo>
                <a:lnTo>
                  <a:pt x="351" y="82"/>
                </a:lnTo>
                <a:cubicBezTo>
                  <a:pt x="352" y="81"/>
                  <a:pt x="353" y="81"/>
                  <a:pt x="354" y="82"/>
                </a:cubicBezTo>
                <a:lnTo>
                  <a:pt x="376" y="104"/>
                </a:lnTo>
                <a:lnTo>
                  <a:pt x="398" y="82"/>
                </a:lnTo>
                <a:cubicBezTo>
                  <a:pt x="399" y="81"/>
                  <a:pt x="400" y="81"/>
                  <a:pt x="401" y="82"/>
                </a:cubicBezTo>
                <a:lnTo>
                  <a:pt x="416" y="97"/>
                </a:lnTo>
                <a:cubicBezTo>
                  <a:pt x="416" y="98"/>
                  <a:pt x="416" y="99"/>
                  <a:pt x="416" y="100"/>
                </a:cubicBezTo>
                <a:lnTo>
                  <a:pt x="394" y="122"/>
                </a:lnTo>
                <a:lnTo>
                  <a:pt x="416" y="144"/>
                </a:lnTo>
                <a:cubicBezTo>
                  <a:pt x="416" y="145"/>
                  <a:pt x="416" y="146"/>
                  <a:pt x="416" y="147"/>
                </a:cubicBezTo>
                <a:lnTo>
                  <a:pt x="401" y="161"/>
                </a:lnTo>
                <a:cubicBezTo>
                  <a:pt x="400" y="162"/>
                  <a:pt x="399" y="162"/>
                  <a:pt x="398" y="161"/>
                </a:cubicBezTo>
                <a:lnTo>
                  <a:pt x="376" y="139"/>
                </a:lnTo>
                <a:lnTo>
                  <a:pt x="354" y="161"/>
                </a:lnTo>
                <a:cubicBezTo>
                  <a:pt x="353" y="162"/>
                  <a:pt x="352" y="162"/>
                  <a:pt x="351" y="161"/>
                </a:cubicBezTo>
                <a:lnTo>
                  <a:pt x="337" y="147"/>
                </a:lnTo>
                <a:cubicBezTo>
                  <a:pt x="336" y="146"/>
                  <a:pt x="336" y="145"/>
                  <a:pt x="337" y="144"/>
                </a:cubicBezTo>
                <a:close/>
                <a:moveTo>
                  <a:pt x="520" y="221"/>
                </a:moveTo>
                <a:lnTo>
                  <a:pt x="629" y="330"/>
                </a:lnTo>
                <a:cubicBezTo>
                  <a:pt x="638" y="339"/>
                  <a:pt x="638" y="353"/>
                  <a:pt x="629" y="362"/>
                </a:cubicBezTo>
                <a:lnTo>
                  <a:pt x="616" y="375"/>
                </a:lnTo>
                <a:cubicBezTo>
                  <a:pt x="608" y="383"/>
                  <a:pt x="593" y="383"/>
                  <a:pt x="585" y="375"/>
                </a:cubicBezTo>
                <a:lnTo>
                  <a:pt x="476" y="266"/>
                </a:lnTo>
                <a:lnTo>
                  <a:pt x="520" y="221"/>
                </a:lnTo>
                <a:close/>
                <a:moveTo>
                  <a:pt x="298" y="43"/>
                </a:moveTo>
                <a:cubicBezTo>
                  <a:pt x="341" y="0"/>
                  <a:pt x="411" y="0"/>
                  <a:pt x="455" y="43"/>
                </a:cubicBezTo>
                <a:cubicBezTo>
                  <a:pt x="493" y="82"/>
                  <a:pt x="497" y="142"/>
                  <a:pt x="467" y="185"/>
                </a:cubicBezTo>
                <a:lnTo>
                  <a:pt x="502" y="221"/>
                </a:lnTo>
                <a:cubicBezTo>
                  <a:pt x="504" y="222"/>
                  <a:pt x="504" y="225"/>
                  <a:pt x="502" y="226"/>
                </a:cubicBezTo>
                <a:lnTo>
                  <a:pt x="481" y="248"/>
                </a:lnTo>
                <a:cubicBezTo>
                  <a:pt x="479" y="249"/>
                  <a:pt x="477" y="249"/>
                  <a:pt x="475" y="248"/>
                </a:cubicBezTo>
                <a:lnTo>
                  <a:pt x="440" y="213"/>
                </a:lnTo>
                <a:cubicBezTo>
                  <a:pt x="397" y="243"/>
                  <a:pt x="336" y="239"/>
                  <a:pt x="298" y="200"/>
                </a:cubicBezTo>
                <a:cubicBezTo>
                  <a:pt x="254" y="157"/>
                  <a:pt x="254" y="87"/>
                  <a:pt x="298" y="43"/>
                </a:cubicBezTo>
                <a:close/>
                <a:moveTo>
                  <a:pt x="324" y="69"/>
                </a:moveTo>
                <a:cubicBezTo>
                  <a:pt x="353" y="40"/>
                  <a:pt x="400" y="40"/>
                  <a:pt x="429" y="69"/>
                </a:cubicBezTo>
                <a:cubicBezTo>
                  <a:pt x="458" y="98"/>
                  <a:pt x="458" y="145"/>
                  <a:pt x="429" y="174"/>
                </a:cubicBezTo>
                <a:cubicBezTo>
                  <a:pt x="400" y="203"/>
                  <a:pt x="353" y="203"/>
                  <a:pt x="324" y="174"/>
                </a:cubicBezTo>
                <a:cubicBezTo>
                  <a:pt x="295" y="145"/>
                  <a:pt x="295" y="98"/>
                  <a:pt x="324" y="69"/>
                </a:cubicBezTo>
                <a:close/>
                <a:moveTo>
                  <a:pt x="204" y="513"/>
                </a:moveTo>
                <a:cubicBezTo>
                  <a:pt x="203" y="471"/>
                  <a:pt x="202" y="428"/>
                  <a:pt x="201" y="386"/>
                </a:cubicBezTo>
                <a:cubicBezTo>
                  <a:pt x="160" y="386"/>
                  <a:pt x="119" y="386"/>
                  <a:pt x="79" y="386"/>
                </a:cubicBezTo>
                <a:cubicBezTo>
                  <a:pt x="78" y="386"/>
                  <a:pt x="77" y="387"/>
                  <a:pt x="77" y="388"/>
                </a:cubicBezTo>
                <a:cubicBezTo>
                  <a:pt x="119" y="430"/>
                  <a:pt x="161" y="472"/>
                  <a:pt x="204" y="513"/>
                </a:cubicBezTo>
                <a:close/>
                <a:moveTo>
                  <a:pt x="74" y="150"/>
                </a:moveTo>
                <a:cubicBezTo>
                  <a:pt x="74" y="156"/>
                  <a:pt x="74" y="161"/>
                  <a:pt x="74" y="167"/>
                </a:cubicBezTo>
                <a:cubicBezTo>
                  <a:pt x="74" y="173"/>
                  <a:pt x="78" y="177"/>
                  <a:pt x="83" y="177"/>
                </a:cubicBezTo>
                <a:cubicBezTo>
                  <a:pt x="139" y="177"/>
                  <a:pt x="195" y="177"/>
                  <a:pt x="250" y="177"/>
                </a:cubicBezTo>
                <a:cubicBezTo>
                  <a:pt x="266" y="177"/>
                  <a:pt x="262" y="152"/>
                  <a:pt x="258" y="143"/>
                </a:cubicBezTo>
                <a:cubicBezTo>
                  <a:pt x="225" y="143"/>
                  <a:pt x="192" y="143"/>
                  <a:pt x="160" y="143"/>
                </a:cubicBezTo>
                <a:cubicBezTo>
                  <a:pt x="139" y="143"/>
                  <a:pt x="74" y="137"/>
                  <a:pt x="74" y="150"/>
                </a:cubicBezTo>
                <a:close/>
                <a:moveTo>
                  <a:pt x="74" y="270"/>
                </a:moveTo>
                <a:cubicBezTo>
                  <a:pt x="74" y="278"/>
                  <a:pt x="74" y="285"/>
                  <a:pt x="74" y="292"/>
                </a:cubicBezTo>
                <a:cubicBezTo>
                  <a:pt x="74" y="298"/>
                  <a:pt x="75" y="300"/>
                  <a:pt x="81" y="300"/>
                </a:cubicBezTo>
                <a:cubicBezTo>
                  <a:pt x="141" y="300"/>
                  <a:pt x="200" y="300"/>
                  <a:pt x="260" y="300"/>
                </a:cubicBezTo>
                <a:cubicBezTo>
                  <a:pt x="262" y="294"/>
                  <a:pt x="266" y="268"/>
                  <a:pt x="253" y="268"/>
                </a:cubicBezTo>
                <a:cubicBezTo>
                  <a:pt x="197" y="268"/>
                  <a:pt x="142" y="268"/>
                  <a:pt x="86" y="268"/>
                </a:cubicBezTo>
                <a:cubicBezTo>
                  <a:pt x="82" y="268"/>
                  <a:pt x="77" y="269"/>
                  <a:pt x="74" y="270"/>
                </a:cubicBezTo>
                <a:close/>
                <a:moveTo>
                  <a:pt x="74" y="219"/>
                </a:moveTo>
                <a:cubicBezTo>
                  <a:pt x="74" y="222"/>
                  <a:pt x="74" y="225"/>
                  <a:pt x="74" y="229"/>
                </a:cubicBezTo>
                <a:cubicBezTo>
                  <a:pt x="74" y="234"/>
                  <a:pt x="76" y="234"/>
                  <a:pt x="79" y="238"/>
                </a:cubicBezTo>
                <a:cubicBezTo>
                  <a:pt x="137" y="238"/>
                  <a:pt x="195" y="238"/>
                  <a:pt x="253" y="238"/>
                </a:cubicBezTo>
                <a:cubicBezTo>
                  <a:pt x="256" y="237"/>
                  <a:pt x="259" y="235"/>
                  <a:pt x="263" y="233"/>
                </a:cubicBezTo>
                <a:cubicBezTo>
                  <a:pt x="263" y="229"/>
                  <a:pt x="263" y="225"/>
                  <a:pt x="263" y="221"/>
                </a:cubicBezTo>
                <a:cubicBezTo>
                  <a:pt x="263" y="214"/>
                  <a:pt x="260" y="211"/>
                  <a:pt x="258" y="206"/>
                </a:cubicBezTo>
                <a:cubicBezTo>
                  <a:pt x="224" y="206"/>
                  <a:pt x="191" y="206"/>
                  <a:pt x="157" y="206"/>
                </a:cubicBezTo>
                <a:cubicBezTo>
                  <a:pt x="141" y="206"/>
                  <a:pt x="124" y="206"/>
                  <a:pt x="108" y="206"/>
                </a:cubicBezTo>
                <a:cubicBezTo>
                  <a:pt x="87" y="206"/>
                  <a:pt x="74" y="200"/>
                  <a:pt x="74" y="21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a0da"/>
              </a:solidFill>
              <a:latin typeface="Arial"/>
            </a:endParaRPr>
          </a:p>
        </p:txBody>
      </p:sp>
      <p:sp>
        <p:nvSpPr>
          <p:cNvPr id="270" name="Freeform 24"/>
          <p:cNvSpPr/>
          <p:nvPr/>
        </p:nvSpPr>
        <p:spPr>
          <a:xfrm>
            <a:off x="4284720" y="4108320"/>
            <a:ext cx="396720" cy="376200"/>
          </a:xfrm>
          <a:custGeom>
            <a:avLst/>
            <a:gdLst/>
            <a:ahLst/>
            <a:rect l="l" t="t" r="r" b="b"/>
            <a:pathLst>
              <a:path w="532" h="526">
                <a:moveTo>
                  <a:pt x="453" y="426"/>
                </a:moveTo>
                <a:cubicBezTo>
                  <a:pt x="469" y="426"/>
                  <a:pt x="481" y="438"/>
                  <a:pt x="481" y="453"/>
                </a:cubicBezTo>
                <a:cubicBezTo>
                  <a:pt x="481" y="468"/>
                  <a:pt x="469" y="481"/>
                  <a:pt x="453" y="481"/>
                </a:cubicBezTo>
                <a:cubicBezTo>
                  <a:pt x="438" y="481"/>
                  <a:pt x="426" y="468"/>
                  <a:pt x="426" y="453"/>
                </a:cubicBezTo>
                <a:cubicBezTo>
                  <a:pt x="426" y="438"/>
                  <a:pt x="438" y="426"/>
                  <a:pt x="453" y="426"/>
                </a:cubicBezTo>
                <a:close/>
                <a:moveTo>
                  <a:pt x="513" y="51"/>
                </a:moveTo>
                <a:lnTo>
                  <a:pt x="476" y="14"/>
                </a:lnTo>
                <a:cubicBezTo>
                  <a:pt x="467" y="5"/>
                  <a:pt x="454" y="0"/>
                  <a:pt x="441" y="0"/>
                </a:cubicBezTo>
                <a:cubicBezTo>
                  <a:pt x="428" y="0"/>
                  <a:pt x="416" y="5"/>
                  <a:pt x="406" y="14"/>
                </a:cubicBezTo>
                <a:lnTo>
                  <a:pt x="250" y="170"/>
                </a:lnTo>
                <a:cubicBezTo>
                  <a:pt x="255" y="180"/>
                  <a:pt x="251" y="194"/>
                  <a:pt x="244" y="201"/>
                </a:cubicBezTo>
                <a:cubicBezTo>
                  <a:pt x="239" y="206"/>
                  <a:pt x="230" y="209"/>
                  <a:pt x="223" y="209"/>
                </a:cubicBezTo>
                <a:cubicBezTo>
                  <a:pt x="219" y="209"/>
                  <a:pt x="216" y="209"/>
                  <a:pt x="213" y="207"/>
                </a:cubicBezTo>
                <a:lnTo>
                  <a:pt x="199" y="221"/>
                </a:lnTo>
                <a:cubicBezTo>
                  <a:pt x="180" y="240"/>
                  <a:pt x="180" y="272"/>
                  <a:pt x="199" y="291"/>
                </a:cubicBezTo>
                <a:lnTo>
                  <a:pt x="202" y="294"/>
                </a:lnTo>
                <a:lnTo>
                  <a:pt x="80" y="416"/>
                </a:lnTo>
                <a:lnTo>
                  <a:pt x="48" y="428"/>
                </a:lnTo>
                <a:lnTo>
                  <a:pt x="0" y="495"/>
                </a:lnTo>
                <a:lnTo>
                  <a:pt x="31" y="526"/>
                </a:lnTo>
                <a:lnTo>
                  <a:pt x="98" y="479"/>
                </a:lnTo>
                <a:lnTo>
                  <a:pt x="110" y="446"/>
                </a:lnTo>
                <a:lnTo>
                  <a:pt x="232" y="324"/>
                </a:lnTo>
                <a:lnTo>
                  <a:pt x="236" y="328"/>
                </a:lnTo>
                <a:cubicBezTo>
                  <a:pt x="246" y="337"/>
                  <a:pt x="258" y="342"/>
                  <a:pt x="271" y="342"/>
                </a:cubicBezTo>
                <a:cubicBezTo>
                  <a:pt x="284" y="342"/>
                  <a:pt x="296" y="337"/>
                  <a:pt x="306" y="328"/>
                </a:cubicBezTo>
                <a:lnTo>
                  <a:pt x="320" y="314"/>
                </a:lnTo>
                <a:cubicBezTo>
                  <a:pt x="315" y="305"/>
                  <a:pt x="319" y="291"/>
                  <a:pt x="326" y="283"/>
                </a:cubicBezTo>
                <a:cubicBezTo>
                  <a:pt x="331" y="278"/>
                  <a:pt x="339" y="275"/>
                  <a:pt x="347" y="275"/>
                </a:cubicBezTo>
                <a:cubicBezTo>
                  <a:pt x="351" y="275"/>
                  <a:pt x="354" y="276"/>
                  <a:pt x="357" y="277"/>
                </a:cubicBezTo>
                <a:lnTo>
                  <a:pt x="513" y="121"/>
                </a:lnTo>
                <a:cubicBezTo>
                  <a:pt x="532" y="102"/>
                  <a:pt x="532" y="70"/>
                  <a:pt x="513" y="51"/>
                </a:cubicBezTo>
                <a:close/>
                <a:moveTo>
                  <a:pt x="192" y="187"/>
                </a:moveTo>
                <a:lnTo>
                  <a:pt x="207" y="171"/>
                </a:lnTo>
                <a:lnTo>
                  <a:pt x="221" y="179"/>
                </a:lnTo>
                <a:lnTo>
                  <a:pt x="214" y="165"/>
                </a:lnTo>
                <a:lnTo>
                  <a:pt x="229" y="150"/>
                </a:lnTo>
                <a:lnTo>
                  <a:pt x="231" y="148"/>
                </a:lnTo>
                <a:cubicBezTo>
                  <a:pt x="234" y="139"/>
                  <a:pt x="236" y="131"/>
                  <a:pt x="236" y="123"/>
                </a:cubicBezTo>
                <a:cubicBezTo>
                  <a:pt x="236" y="60"/>
                  <a:pt x="176" y="0"/>
                  <a:pt x="114" y="0"/>
                </a:cubicBezTo>
                <a:cubicBezTo>
                  <a:pt x="114" y="0"/>
                  <a:pt x="106" y="8"/>
                  <a:pt x="103" y="11"/>
                </a:cubicBezTo>
                <a:cubicBezTo>
                  <a:pt x="153" y="61"/>
                  <a:pt x="149" y="53"/>
                  <a:pt x="149" y="84"/>
                </a:cubicBezTo>
                <a:cubicBezTo>
                  <a:pt x="149" y="109"/>
                  <a:pt x="109" y="148"/>
                  <a:pt x="84" y="148"/>
                </a:cubicBezTo>
                <a:cubicBezTo>
                  <a:pt x="53" y="148"/>
                  <a:pt x="63" y="154"/>
                  <a:pt x="12" y="102"/>
                </a:cubicBezTo>
                <a:cubicBezTo>
                  <a:pt x="8" y="106"/>
                  <a:pt x="0" y="113"/>
                  <a:pt x="0" y="114"/>
                </a:cubicBezTo>
                <a:cubicBezTo>
                  <a:pt x="1" y="176"/>
                  <a:pt x="60" y="236"/>
                  <a:pt x="123" y="236"/>
                </a:cubicBezTo>
                <a:cubicBezTo>
                  <a:pt x="134" y="236"/>
                  <a:pt x="146" y="232"/>
                  <a:pt x="158" y="226"/>
                </a:cubicBezTo>
                <a:lnTo>
                  <a:pt x="160" y="229"/>
                </a:lnTo>
                <a:cubicBezTo>
                  <a:pt x="164" y="218"/>
                  <a:pt x="170" y="209"/>
                  <a:pt x="179" y="200"/>
                </a:cubicBezTo>
                <a:lnTo>
                  <a:pt x="192" y="187"/>
                </a:lnTo>
                <a:close/>
                <a:moveTo>
                  <a:pt x="348" y="306"/>
                </a:moveTo>
                <a:lnTo>
                  <a:pt x="355" y="320"/>
                </a:lnTo>
                <a:lnTo>
                  <a:pt x="341" y="335"/>
                </a:lnTo>
                <a:lnTo>
                  <a:pt x="327" y="348"/>
                </a:lnTo>
                <a:cubicBezTo>
                  <a:pt x="319" y="357"/>
                  <a:pt x="309" y="363"/>
                  <a:pt x="298" y="367"/>
                </a:cubicBezTo>
                <a:lnTo>
                  <a:pt x="392" y="460"/>
                </a:lnTo>
                <a:lnTo>
                  <a:pt x="436" y="519"/>
                </a:lnTo>
                <a:lnTo>
                  <a:pt x="460" y="526"/>
                </a:lnTo>
                <a:lnTo>
                  <a:pt x="525" y="460"/>
                </a:lnTo>
                <a:lnTo>
                  <a:pt x="518" y="436"/>
                </a:lnTo>
                <a:lnTo>
                  <a:pt x="460" y="392"/>
                </a:lnTo>
                <a:lnTo>
                  <a:pt x="371" y="304"/>
                </a:lnTo>
                <a:lnTo>
                  <a:pt x="363" y="313"/>
                </a:lnTo>
                <a:lnTo>
                  <a:pt x="348" y="3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a0da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矩形 4"/>
          <p:cNvSpPr/>
          <p:nvPr/>
        </p:nvSpPr>
        <p:spPr>
          <a:xfrm>
            <a:off x="3441600" y="1287360"/>
            <a:ext cx="7851960" cy="800280"/>
          </a:xfrm>
          <a:prstGeom prst="rect">
            <a:avLst/>
          </a:prstGeom>
          <a:solidFill>
            <a:srgbClr val="ffffff"/>
          </a:solidFill>
          <a:ln w="9360">
            <a:solidFill>
              <a:srgbClr val="d9d9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a0da"/>
              </a:solidFill>
              <a:latin typeface="Arial"/>
            </a:endParaRPr>
          </a:p>
        </p:txBody>
      </p:sp>
      <p:sp>
        <p:nvSpPr>
          <p:cNvPr id="272" name="右箭头 7"/>
          <p:cNvSpPr/>
          <p:nvPr/>
        </p:nvSpPr>
        <p:spPr>
          <a:xfrm>
            <a:off x="3219480" y="1487520"/>
            <a:ext cx="576360" cy="461880"/>
          </a:xfrm>
          <a:prstGeom prst="rightArrow">
            <a:avLst>
              <a:gd name="adj1" fmla="val 50000"/>
              <a:gd name="adj2" fmla="val 50018"/>
            </a:avLst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a0da"/>
              </a:solidFill>
              <a:latin typeface="Arial"/>
            </a:endParaRPr>
          </a:p>
        </p:txBody>
      </p:sp>
      <p:sp>
        <p:nvSpPr>
          <p:cNvPr id="273" name="矩形 6"/>
          <p:cNvSpPr/>
          <p:nvPr/>
        </p:nvSpPr>
        <p:spPr>
          <a:xfrm>
            <a:off x="1006560" y="1287360"/>
            <a:ext cx="2481120" cy="800280"/>
          </a:xfrm>
          <a:prstGeom prst="rect">
            <a:avLst/>
          </a:prstGeom>
          <a:solidFill>
            <a:srgbClr val="4d4d4d"/>
          </a:solidFill>
          <a:ln w="9360">
            <a:solidFill>
              <a:srgbClr val="ffffff"/>
            </a:solidFill>
            <a:round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a0da"/>
              </a:solidFill>
              <a:latin typeface="Arial"/>
            </a:endParaRPr>
          </a:p>
        </p:txBody>
      </p:sp>
      <p:sp>
        <p:nvSpPr>
          <p:cNvPr id="274" name="矩形 7"/>
          <p:cNvSpPr/>
          <p:nvPr/>
        </p:nvSpPr>
        <p:spPr>
          <a:xfrm>
            <a:off x="3441600" y="2376360"/>
            <a:ext cx="7851960" cy="801720"/>
          </a:xfrm>
          <a:prstGeom prst="rect">
            <a:avLst/>
          </a:prstGeom>
          <a:solidFill>
            <a:srgbClr val="ffffff"/>
          </a:solidFill>
          <a:ln w="9360">
            <a:solidFill>
              <a:srgbClr val="d9d9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a0da"/>
              </a:solidFill>
              <a:latin typeface="Arial"/>
            </a:endParaRPr>
          </a:p>
        </p:txBody>
      </p:sp>
      <p:sp>
        <p:nvSpPr>
          <p:cNvPr id="275" name="右箭头 10"/>
          <p:cNvSpPr/>
          <p:nvPr/>
        </p:nvSpPr>
        <p:spPr>
          <a:xfrm>
            <a:off x="3219480" y="2577960"/>
            <a:ext cx="576360" cy="462240"/>
          </a:xfrm>
          <a:prstGeom prst="rightArrow">
            <a:avLst>
              <a:gd name="adj1" fmla="val 50000"/>
              <a:gd name="adj2" fmla="val 49979"/>
            </a:avLst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a0da"/>
              </a:solidFill>
              <a:latin typeface="Arial"/>
            </a:endParaRPr>
          </a:p>
        </p:txBody>
      </p:sp>
      <p:sp>
        <p:nvSpPr>
          <p:cNvPr id="276" name="矩形 9"/>
          <p:cNvSpPr/>
          <p:nvPr/>
        </p:nvSpPr>
        <p:spPr>
          <a:xfrm>
            <a:off x="1006560" y="2376360"/>
            <a:ext cx="2481120" cy="801720"/>
          </a:xfrm>
          <a:prstGeom prst="rect">
            <a:avLst/>
          </a:prstGeom>
          <a:solidFill>
            <a:srgbClr val="1aa0da"/>
          </a:solidFill>
          <a:ln w="9360">
            <a:solidFill>
              <a:srgbClr val="ffffff"/>
            </a:solidFill>
            <a:round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a0da"/>
              </a:solidFill>
              <a:latin typeface="Arial"/>
            </a:endParaRPr>
          </a:p>
        </p:txBody>
      </p:sp>
      <p:sp>
        <p:nvSpPr>
          <p:cNvPr id="277" name="矩形 10"/>
          <p:cNvSpPr/>
          <p:nvPr/>
        </p:nvSpPr>
        <p:spPr>
          <a:xfrm>
            <a:off x="3441600" y="3471840"/>
            <a:ext cx="7851960" cy="800280"/>
          </a:xfrm>
          <a:prstGeom prst="rect">
            <a:avLst/>
          </a:prstGeom>
          <a:solidFill>
            <a:srgbClr val="ffffff"/>
          </a:solidFill>
          <a:ln w="9360">
            <a:solidFill>
              <a:srgbClr val="d9d9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a0da"/>
              </a:solidFill>
              <a:latin typeface="Arial"/>
            </a:endParaRPr>
          </a:p>
        </p:txBody>
      </p:sp>
      <p:sp>
        <p:nvSpPr>
          <p:cNvPr id="278" name="右箭头 13"/>
          <p:cNvSpPr/>
          <p:nvPr/>
        </p:nvSpPr>
        <p:spPr>
          <a:xfrm>
            <a:off x="3219480" y="3672000"/>
            <a:ext cx="576360" cy="461880"/>
          </a:xfrm>
          <a:prstGeom prst="rightArrow">
            <a:avLst>
              <a:gd name="adj1" fmla="val 50000"/>
              <a:gd name="adj2" fmla="val 50018"/>
            </a:avLst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a0da"/>
              </a:solidFill>
              <a:latin typeface="Arial"/>
            </a:endParaRPr>
          </a:p>
        </p:txBody>
      </p:sp>
      <p:sp>
        <p:nvSpPr>
          <p:cNvPr id="279" name="矩形 12"/>
          <p:cNvSpPr/>
          <p:nvPr/>
        </p:nvSpPr>
        <p:spPr>
          <a:xfrm>
            <a:off x="1006560" y="3471840"/>
            <a:ext cx="2481120" cy="800280"/>
          </a:xfrm>
          <a:prstGeom prst="rect">
            <a:avLst/>
          </a:prstGeom>
          <a:solidFill>
            <a:srgbClr val="4d4d4d"/>
          </a:solidFill>
          <a:ln w="9360">
            <a:solidFill>
              <a:srgbClr val="ffffff"/>
            </a:solidFill>
            <a:round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a0da"/>
              </a:solidFill>
              <a:latin typeface="Arial"/>
            </a:endParaRPr>
          </a:p>
        </p:txBody>
      </p:sp>
      <p:sp>
        <p:nvSpPr>
          <p:cNvPr id="280" name="矩形 13"/>
          <p:cNvSpPr/>
          <p:nvPr/>
        </p:nvSpPr>
        <p:spPr>
          <a:xfrm>
            <a:off x="3441600" y="4608360"/>
            <a:ext cx="7851960" cy="801720"/>
          </a:xfrm>
          <a:prstGeom prst="rect">
            <a:avLst/>
          </a:prstGeom>
          <a:solidFill>
            <a:srgbClr val="ffffff"/>
          </a:solidFill>
          <a:ln w="9360">
            <a:solidFill>
              <a:srgbClr val="d9d9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a0da"/>
              </a:solidFill>
              <a:latin typeface="Arial"/>
            </a:endParaRPr>
          </a:p>
        </p:txBody>
      </p:sp>
      <p:sp>
        <p:nvSpPr>
          <p:cNvPr id="281" name="右箭头 16"/>
          <p:cNvSpPr/>
          <p:nvPr/>
        </p:nvSpPr>
        <p:spPr>
          <a:xfrm>
            <a:off x="3219480" y="4809960"/>
            <a:ext cx="576360" cy="462240"/>
          </a:xfrm>
          <a:prstGeom prst="rightArrow">
            <a:avLst>
              <a:gd name="adj1" fmla="val 50000"/>
              <a:gd name="adj2" fmla="val 49979"/>
            </a:avLst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a0da"/>
              </a:solidFill>
              <a:latin typeface="Arial"/>
            </a:endParaRPr>
          </a:p>
        </p:txBody>
      </p:sp>
      <p:sp>
        <p:nvSpPr>
          <p:cNvPr id="282" name="矩形 15"/>
          <p:cNvSpPr/>
          <p:nvPr/>
        </p:nvSpPr>
        <p:spPr>
          <a:xfrm>
            <a:off x="1006560" y="4608360"/>
            <a:ext cx="2481120" cy="801720"/>
          </a:xfrm>
          <a:prstGeom prst="rect">
            <a:avLst/>
          </a:prstGeom>
          <a:solidFill>
            <a:srgbClr val="1aa0da"/>
          </a:solidFill>
          <a:ln w="9360">
            <a:solidFill>
              <a:srgbClr val="ffffff"/>
            </a:solidFill>
            <a:round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a0da"/>
              </a:solidFill>
              <a:latin typeface="Arial"/>
            </a:endParaRPr>
          </a:p>
        </p:txBody>
      </p:sp>
      <p:sp>
        <p:nvSpPr>
          <p:cNvPr id="283" name="TextBox 18"/>
          <p:cNvSpPr/>
          <p:nvPr/>
        </p:nvSpPr>
        <p:spPr>
          <a:xfrm>
            <a:off x="1111320" y="1487520"/>
            <a:ext cx="236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硕士</a:t>
            </a:r>
            <a:endParaRPr b="0" lang="en-US" sz="2000" spc="-1" strike="noStrike">
              <a:solidFill>
                <a:srgbClr val="1aa0da"/>
              </a:solidFill>
              <a:latin typeface="Arial"/>
            </a:endParaRPr>
          </a:p>
        </p:txBody>
      </p:sp>
      <p:sp>
        <p:nvSpPr>
          <p:cNvPr id="284" name="TextBox 19"/>
          <p:cNvSpPr/>
          <p:nvPr/>
        </p:nvSpPr>
        <p:spPr>
          <a:xfrm>
            <a:off x="3795840" y="1393920"/>
            <a:ext cx="9199440" cy="38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d4d4d"/>
                </a:solidFill>
                <a:latin typeface="微软雅黑"/>
                <a:ea typeface="微软雅黑"/>
              </a:rPr>
              <a:t>2018-2021    </a:t>
            </a:r>
            <a:r>
              <a:rPr b="0" lang="zh-CN" sz="1800" spc="-1" strike="noStrike">
                <a:solidFill>
                  <a:srgbClr val="4d4d4d"/>
                </a:solidFill>
                <a:latin typeface="微软雅黑"/>
                <a:ea typeface="微软雅黑"/>
              </a:rPr>
              <a:t>上海外国语大学</a:t>
            </a:r>
            <a:endParaRPr b="0" lang="en-US" sz="1800" spc="-1" strike="noStrike">
              <a:solidFill>
                <a:srgbClr val="1aa0da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GPA  3.95  </a:t>
            </a:r>
            <a:r>
              <a:rPr b="1" lang="zh-CN" sz="1800" spc="-1" strike="noStrike">
                <a:solidFill>
                  <a:srgbClr val="1378a3"/>
                </a:solidFill>
                <a:latin typeface="微软雅黑"/>
                <a:ea typeface="微软雅黑"/>
              </a:rPr>
              <a:t>  </a:t>
            </a:r>
            <a:r>
              <a:rPr b="1" lang="zh-CN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 </a:t>
            </a:r>
            <a:r>
              <a:rPr b="0" lang="en-US" sz="1800" spc="-1" strike="noStrike">
                <a:solidFill>
                  <a:srgbClr val="272727"/>
                </a:solidFill>
                <a:latin typeface="微软雅黑"/>
                <a:ea typeface="微软雅黑"/>
              </a:rPr>
              <a:t>2018</a:t>
            </a:r>
            <a:r>
              <a:rPr b="0" lang="zh-CN" sz="1800" spc="-1" strike="noStrike">
                <a:solidFill>
                  <a:srgbClr val="272727"/>
                </a:solidFill>
                <a:latin typeface="微软雅黑"/>
                <a:ea typeface="微软雅黑"/>
              </a:rPr>
              <a:t>级文学研究院绩点</a:t>
            </a:r>
            <a:r>
              <a:rPr b="1" lang="zh-CN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排名第</a:t>
            </a:r>
            <a:r>
              <a:rPr b="1" lang="zh-CN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1 </a:t>
            </a:r>
            <a:r>
              <a:rPr b="1" lang="zh-CN" sz="1800" spc="-1" strike="noStrike">
                <a:solidFill>
                  <a:srgbClr val="1378a3"/>
                </a:solidFill>
                <a:latin typeface="微软雅黑"/>
                <a:ea typeface="微软雅黑"/>
              </a:rPr>
              <a:t>   </a:t>
            </a:r>
            <a:endParaRPr b="0" lang="en-US" sz="1800" spc="-1" strike="noStrike">
              <a:solidFill>
                <a:srgbClr val="1aa0da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a0da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a0da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4d4d4d"/>
                </a:solidFill>
                <a:latin typeface="微软雅黑"/>
                <a:ea typeface="微软雅黑"/>
              </a:rPr>
              <a:t> </a:t>
            </a:r>
            <a:endParaRPr b="0" lang="en-US" sz="900" spc="-1" strike="noStrike">
              <a:solidFill>
                <a:srgbClr val="1aa0da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d4d4d"/>
                </a:solidFill>
                <a:latin typeface="微软雅黑"/>
                <a:ea typeface="微软雅黑"/>
              </a:rPr>
              <a:t>2016-2017    </a:t>
            </a:r>
            <a:r>
              <a:rPr b="0" lang="zh-CN" sz="1800" spc="-1" strike="noStrike">
                <a:solidFill>
                  <a:srgbClr val="4d4d4d"/>
                </a:solidFill>
                <a:latin typeface="微软雅黑"/>
                <a:ea typeface="微软雅黑"/>
              </a:rPr>
              <a:t>陕西师范大学   （部属师范）</a:t>
            </a:r>
            <a:endParaRPr b="0" lang="en-US" sz="1800" spc="-1" strike="noStrike">
              <a:solidFill>
                <a:srgbClr val="1aa0da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a0da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a0da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4d4d4d"/>
                </a:solidFill>
                <a:latin typeface="微软雅黑"/>
                <a:ea typeface="微软雅黑"/>
              </a:rPr>
              <a:t> </a:t>
            </a:r>
            <a:endParaRPr b="0" lang="en-US" sz="1000" spc="-1" strike="noStrike">
              <a:solidFill>
                <a:srgbClr val="1aa0da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d4d4d"/>
                </a:solidFill>
                <a:latin typeface="微软雅黑"/>
                <a:ea typeface="微软雅黑"/>
              </a:rPr>
              <a:t>2014-2018    </a:t>
            </a:r>
            <a:r>
              <a:rPr b="0" lang="zh-CN" sz="1800" spc="-1" strike="noStrike">
                <a:solidFill>
                  <a:srgbClr val="4d4d4d"/>
                </a:solidFill>
                <a:latin typeface="微软雅黑"/>
                <a:ea typeface="微软雅黑"/>
              </a:rPr>
              <a:t>华南师范大学   （</a:t>
            </a:r>
            <a:r>
              <a:rPr b="0" lang="zh-CN" sz="1800" spc="-1" strike="noStrike">
                <a:solidFill>
                  <a:srgbClr val="4d4d4d"/>
                </a:solidFill>
                <a:latin typeface="微软雅黑"/>
                <a:ea typeface="微软雅黑"/>
              </a:rPr>
              <a:t>211</a:t>
            </a:r>
            <a:r>
              <a:rPr b="0" lang="zh-CN" sz="1800" spc="-1" strike="noStrike">
                <a:solidFill>
                  <a:srgbClr val="4d4d4d"/>
                </a:solidFill>
                <a:latin typeface="微软雅黑"/>
                <a:ea typeface="微软雅黑"/>
              </a:rPr>
              <a:t>） 汉语言文学专业</a:t>
            </a:r>
            <a:endParaRPr b="0" lang="en-US" sz="1800" spc="-1" strike="noStrike">
              <a:solidFill>
                <a:srgbClr val="1aa0da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GPA  3.95 </a:t>
            </a:r>
            <a:r>
              <a:rPr b="1" lang="zh-CN" sz="1800" spc="-1" strike="noStrike">
                <a:solidFill>
                  <a:srgbClr val="1378a3"/>
                </a:solidFill>
                <a:latin typeface="微软雅黑"/>
                <a:ea typeface="微软雅黑"/>
              </a:rPr>
              <a:t>    </a:t>
            </a:r>
            <a:r>
              <a:rPr b="1" lang="zh-CN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专业排名第</a:t>
            </a:r>
            <a:r>
              <a:rPr b="1" lang="zh-CN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1 </a:t>
            </a:r>
            <a:r>
              <a:rPr b="0" lang="zh-CN" sz="1800" spc="-1" strike="noStrike">
                <a:solidFill>
                  <a:srgbClr val="4d4d4d"/>
                </a:solidFill>
                <a:latin typeface="微软雅黑"/>
                <a:ea typeface="微软雅黑"/>
              </a:rPr>
              <a:t>   </a:t>
            </a:r>
            <a:r>
              <a:rPr b="0" lang="zh-CN" sz="1800" spc="-1" strike="noStrike">
                <a:solidFill>
                  <a:srgbClr val="4d4d4d"/>
                </a:solidFill>
                <a:latin typeface="微软雅黑"/>
                <a:ea typeface="微软雅黑"/>
              </a:rPr>
              <a:t>保送名额（暨南大学、华师、上外）</a:t>
            </a:r>
            <a:endParaRPr b="0" lang="en-US" sz="1800" spc="-1" strike="noStrike">
              <a:solidFill>
                <a:srgbClr val="1aa0da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a0da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a0da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d4d4d"/>
                </a:solidFill>
                <a:latin typeface="微软雅黑"/>
                <a:ea typeface="微软雅黑"/>
              </a:rPr>
              <a:t> </a:t>
            </a:r>
            <a:endParaRPr b="0" lang="en-US" sz="1200" spc="-1" strike="noStrike">
              <a:solidFill>
                <a:srgbClr val="1aa0da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d4d4d"/>
                </a:solidFill>
                <a:latin typeface="微软雅黑"/>
                <a:ea typeface="微软雅黑"/>
              </a:rPr>
              <a:t>主修课程： 跨学科研究（</a:t>
            </a:r>
            <a:r>
              <a:rPr b="0" lang="zh-CN" sz="1800" spc="-1" strike="noStrike">
                <a:solidFill>
                  <a:srgbClr val="4d4d4d"/>
                </a:solidFill>
                <a:latin typeface="微软雅黑"/>
                <a:ea typeface="微软雅黑"/>
              </a:rPr>
              <a:t>97</a:t>
            </a:r>
            <a:r>
              <a:rPr b="0" lang="zh-CN" sz="1800" spc="-1" strike="noStrike">
                <a:solidFill>
                  <a:srgbClr val="4d4d4d"/>
                </a:solidFill>
                <a:latin typeface="微软雅黑"/>
                <a:ea typeface="微软雅黑"/>
              </a:rPr>
              <a:t>）西方文论（</a:t>
            </a:r>
            <a:r>
              <a:rPr b="0" lang="zh-CN" sz="1800" spc="-1" strike="noStrike">
                <a:solidFill>
                  <a:srgbClr val="4d4d4d"/>
                </a:solidFill>
                <a:latin typeface="微软雅黑"/>
                <a:ea typeface="微软雅黑"/>
              </a:rPr>
              <a:t>94</a:t>
            </a:r>
            <a:r>
              <a:rPr b="0" lang="zh-CN" sz="1800" spc="-1" strike="noStrike">
                <a:solidFill>
                  <a:srgbClr val="4d4d4d"/>
                </a:solidFill>
                <a:latin typeface="微软雅黑"/>
                <a:ea typeface="微软雅黑"/>
              </a:rPr>
              <a:t>） 中外文学经典解读（</a:t>
            </a:r>
            <a:r>
              <a:rPr b="0" lang="zh-CN" sz="1800" spc="-1" strike="noStrike">
                <a:solidFill>
                  <a:srgbClr val="4d4d4d"/>
                </a:solidFill>
                <a:latin typeface="微软雅黑"/>
                <a:ea typeface="微软雅黑"/>
              </a:rPr>
              <a:t>92</a:t>
            </a:r>
            <a:r>
              <a:rPr b="0" lang="zh-CN" sz="1800" spc="-1" strike="noStrike">
                <a:solidFill>
                  <a:srgbClr val="4d4d4d"/>
                </a:solidFill>
                <a:latin typeface="微软雅黑"/>
                <a:ea typeface="微软雅黑"/>
              </a:rPr>
              <a:t>）</a:t>
            </a:r>
            <a:endParaRPr b="0" lang="en-US" sz="1800" spc="-1" strike="noStrike">
              <a:solidFill>
                <a:srgbClr val="1aa0da"/>
              </a:solidFill>
              <a:latin typeface="Arial"/>
            </a:endParaRPr>
          </a:p>
        </p:txBody>
      </p:sp>
      <p:sp>
        <p:nvSpPr>
          <p:cNvPr id="285" name="TextBox 20"/>
          <p:cNvSpPr/>
          <p:nvPr/>
        </p:nvSpPr>
        <p:spPr>
          <a:xfrm>
            <a:off x="1111320" y="2585880"/>
            <a:ext cx="236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交换</a:t>
            </a:r>
            <a:endParaRPr b="0" lang="en-US" sz="2000" spc="-1" strike="noStrike">
              <a:solidFill>
                <a:srgbClr val="1aa0da"/>
              </a:solidFill>
              <a:latin typeface="Arial"/>
            </a:endParaRPr>
          </a:p>
        </p:txBody>
      </p:sp>
      <p:sp>
        <p:nvSpPr>
          <p:cNvPr id="286" name="TextBox 22"/>
          <p:cNvSpPr/>
          <p:nvPr/>
        </p:nvSpPr>
        <p:spPr>
          <a:xfrm>
            <a:off x="1111320" y="3672000"/>
            <a:ext cx="236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本科</a:t>
            </a:r>
            <a:endParaRPr b="0" lang="en-US" sz="2000" spc="-1" strike="noStrike">
              <a:solidFill>
                <a:srgbClr val="1aa0da"/>
              </a:solidFill>
              <a:latin typeface="Arial"/>
            </a:endParaRPr>
          </a:p>
        </p:txBody>
      </p:sp>
      <p:sp>
        <p:nvSpPr>
          <p:cNvPr id="287" name="TextBox 24"/>
          <p:cNvSpPr/>
          <p:nvPr/>
        </p:nvSpPr>
        <p:spPr>
          <a:xfrm>
            <a:off x="1111320" y="4809960"/>
            <a:ext cx="236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研究生课程成绩</a:t>
            </a:r>
            <a:endParaRPr b="0" lang="en-US" sz="2000" spc="-1" strike="noStrike">
              <a:solidFill>
                <a:srgbClr val="1aa0da"/>
              </a:solidFill>
              <a:latin typeface="Arial"/>
            </a:endParaRPr>
          </a:p>
        </p:txBody>
      </p:sp>
      <p:sp>
        <p:nvSpPr>
          <p:cNvPr id="288" name="TextBox 42"/>
          <p:cNvSpPr/>
          <p:nvPr/>
        </p:nvSpPr>
        <p:spPr>
          <a:xfrm>
            <a:off x="1258920" y="185760"/>
            <a:ext cx="36496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d4d4d"/>
                </a:solidFill>
                <a:latin typeface="微软雅黑"/>
                <a:ea typeface="微软雅黑"/>
              </a:rPr>
              <a:t>教育背景</a:t>
            </a:r>
            <a:endParaRPr b="0" lang="en-US" sz="2800" spc="-1" strike="noStrike">
              <a:solidFill>
                <a:srgbClr val="1aa0da"/>
              </a:solidFill>
              <a:latin typeface="Arial"/>
            </a:endParaRPr>
          </a:p>
        </p:txBody>
      </p:sp>
      <p:sp>
        <p:nvSpPr>
          <p:cNvPr id="289" name="Freeform 5"/>
          <p:cNvSpPr/>
          <p:nvPr/>
        </p:nvSpPr>
        <p:spPr>
          <a:xfrm>
            <a:off x="704880" y="138240"/>
            <a:ext cx="441360" cy="525240"/>
          </a:xfrm>
          <a:custGeom>
            <a:avLst/>
            <a:gdLst/>
            <a:ahLst/>
            <a:rect l="l" t="t" r="r" b="b"/>
            <a:pathLst>
              <a:path w="537" h="623">
                <a:moveTo>
                  <a:pt x="269" y="0"/>
                </a:moveTo>
                <a:lnTo>
                  <a:pt x="403" y="78"/>
                </a:lnTo>
                <a:lnTo>
                  <a:pt x="537" y="156"/>
                </a:lnTo>
                <a:lnTo>
                  <a:pt x="537" y="311"/>
                </a:lnTo>
                <a:lnTo>
                  <a:pt x="537" y="467"/>
                </a:lnTo>
                <a:lnTo>
                  <a:pt x="403" y="545"/>
                </a:lnTo>
                <a:lnTo>
                  <a:pt x="269" y="623"/>
                </a:lnTo>
                <a:lnTo>
                  <a:pt x="134" y="545"/>
                </a:lnTo>
                <a:lnTo>
                  <a:pt x="0" y="467"/>
                </a:lnTo>
                <a:lnTo>
                  <a:pt x="0" y="311"/>
                </a:lnTo>
                <a:lnTo>
                  <a:pt x="0" y="156"/>
                </a:lnTo>
                <a:lnTo>
                  <a:pt x="134" y="78"/>
                </a:lnTo>
                <a:lnTo>
                  <a:pt x="269" y="0"/>
                </a:lnTo>
                <a:close/>
                <a:moveTo>
                  <a:pt x="269" y="53"/>
                </a:moveTo>
                <a:lnTo>
                  <a:pt x="380" y="117"/>
                </a:lnTo>
                <a:lnTo>
                  <a:pt x="492" y="182"/>
                </a:lnTo>
                <a:lnTo>
                  <a:pt x="492" y="311"/>
                </a:lnTo>
                <a:lnTo>
                  <a:pt x="492" y="441"/>
                </a:lnTo>
                <a:lnTo>
                  <a:pt x="380" y="505"/>
                </a:lnTo>
                <a:lnTo>
                  <a:pt x="269" y="570"/>
                </a:lnTo>
                <a:lnTo>
                  <a:pt x="157" y="505"/>
                </a:lnTo>
                <a:lnTo>
                  <a:pt x="46" y="441"/>
                </a:lnTo>
                <a:lnTo>
                  <a:pt x="46" y="311"/>
                </a:lnTo>
                <a:lnTo>
                  <a:pt x="46" y="182"/>
                </a:lnTo>
                <a:lnTo>
                  <a:pt x="157" y="117"/>
                </a:lnTo>
                <a:lnTo>
                  <a:pt x="269" y="53"/>
                </a:lnTo>
                <a:close/>
                <a:moveTo>
                  <a:pt x="215" y="455"/>
                </a:moveTo>
                <a:lnTo>
                  <a:pt x="367" y="455"/>
                </a:lnTo>
                <a:cubicBezTo>
                  <a:pt x="371" y="455"/>
                  <a:pt x="375" y="458"/>
                  <a:pt x="375" y="463"/>
                </a:cubicBezTo>
                <a:cubicBezTo>
                  <a:pt x="375" y="467"/>
                  <a:pt x="371" y="471"/>
                  <a:pt x="367" y="471"/>
                </a:cubicBezTo>
                <a:lnTo>
                  <a:pt x="215" y="471"/>
                </a:lnTo>
                <a:cubicBezTo>
                  <a:pt x="211" y="471"/>
                  <a:pt x="207" y="467"/>
                  <a:pt x="207" y="463"/>
                </a:cubicBezTo>
                <a:cubicBezTo>
                  <a:pt x="207" y="458"/>
                  <a:pt x="211" y="455"/>
                  <a:pt x="215" y="455"/>
                </a:cubicBezTo>
                <a:close/>
                <a:moveTo>
                  <a:pt x="218" y="380"/>
                </a:moveTo>
                <a:lnTo>
                  <a:pt x="302" y="242"/>
                </a:lnTo>
                <a:lnTo>
                  <a:pt x="331" y="260"/>
                </a:lnTo>
                <a:lnTo>
                  <a:pt x="248" y="398"/>
                </a:lnTo>
                <a:lnTo>
                  <a:pt x="218" y="380"/>
                </a:lnTo>
                <a:close/>
                <a:moveTo>
                  <a:pt x="159" y="344"/>
                </a:moveTo>
                <a:lnTo>
                  <a:pt x="243" y="207"/>
                </a:lnTo>
                <a:lnTo>
                  <a:pt x="272" y="224"/>
                </a:lnTo>
                <a:lnTo>
                  <a:pt x="189" y="362"/>
                </a:lnTo>
                <a:lnTo>
                  <a:pt x="159" y="344"/>
                </a:lnTo>
                <a:close/>
                <a:moveTo>
                  <a:pt x="146" y="456"/>
                </a:moveTo>
                <a:lnTo>
                  <a:pt x="154" y="387"/>
                </a:lnTo>
                <a:lnTo>
                  <a:pt x="211" y="422"/>
                </a:lnTo>
                <a:lnTo>
                  <a:pt x="155" y="461"/>
                </a:lnTo>
                <a:cubicBezTo>
                  <a:pt x="149" y="465"/>
                  <a:pt x="145" y="463"/>
                  <a:pt x="146" y="456"/>
                </a:cubicBezTo>
                <a:close/>
                <a:moveTo>
                  <a:pt x="266" y="168"/>
                </a:moveTo>
                <a:lnTo>
                  <a:pt x="253" y="188"/>
                </a:lnTo>
                <a:lnTo>
                  <a:pt x="342" y="242"/>
                </a:lnTo>
                <a:lnTo>
                  <a:pt x="354" y="222"/>
                </a:lnTo>
                <a:lnTo>
                  <a:pt x="266" y="168"/>
                </a:lnTo>
                <a:close/>
                <a:moveTo>
                  <a:pt x="285" y="138"/>
                </a:moveTo>
                <a:cubicBezTo>
                  <a:pt x="290" y="129"/>
                  <a:pt x="302" y="126"/>
                  <a:pt x="311" y="131"/>
                </a:cubicBezTo>
                <a:lnTo>
                  <a:pt x="366" y="165"/>
                </a:lnTo>
                <a:cubicBezTo>
                  <a:pt x="375" y="170"/>
                  <a:pt x="378" y="182"/>
                  <a:pt x="373" y="191"/>
                </a:cubicBezTo>
                <a:lnTo>
                  <a:pt x="365" y="204"/>
                </a:lnTo>
                <a:lnTo>
                  <a:pt x="277" y="150"/>
                </a:lnTo>
                <a:lnTo>
                  <a:pt x="285" y="138"/>
                </a:lnTo>
                <a:close/>
              </a:path>
            </a:pathLst>
          </a:cu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a0da"/>
              </a:solidFill>
              <a:latin typeface="Arial"/>
            </a:endParaRPr>
          </a:p>
        </p:txBody>
      </p:sp>
      <p:sp>
        <p:nvSpPr>
          <p:cNvPr id="290" name="直接连接符 32"/>
          <p:cNvSpPr/>
          <p:nvPr/>
        </p:nvSpPr>
        <p:spPr>
          <a:xfrm>
            <a:off x="1258920" y="598320"/>
            <a:ext cx="9569520" cy="0"/>
          </a:xfrm>
          <a:prstGeom prst="line">
            <a:avLst/>
          </a:prstGeom>
          <a:ln w="9360">
            <a:solidFill>
              <a:srgbClr val="949494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aa0da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TextBox 7"/>
          <p:cNvSpPr/>
          <p:nvPr/>
        </p:nvSpPr>
        <p:spPr>
          <a:xfrm>
            <a:off x="3753000" y="768240"/>
            <a:ext cx="761508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·  2019-2020 </a:t>
            </a:r>
            <a:r>
              <a:rPr b="0" lang="en-US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年度</a:t>
            </a:r>
            <a:r>
              <a:rPr b="0" lang="en-US" sz="2000" spc="-1" strike="noStrike">
                <a:solidFill>
                  <a:srgbClr val="1aa0da"/>
                </a:solidFill>
                <a:latin typeface="微软雅黑"/>
                <a:ea typeface="微软雅黑"/>
              </a:rPr>
              <a:t>国家奖学金</a:t>
            </a:r>
            <a:r>
              <a:rPr b="0" lang="en-US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、</a:t>
            </a:r>
            <a:r>
              <a:rPr b="0" lang="zh-CN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上海外国语大学</a:t>
            </a:r>
            <a:r>
              <a:rPr b="0" lang="zh-CN" sz="2000" spc="-1" strike="noStrike">
                <a:solidFill>
                  <a:srgbClr val="1378a3"/>
                </a:solidFill>
                <a:latin typeface="微软雅黑"/>
                <a:ea typeface="微软雅黑"/>
              </a:rPr>
              <a:t>一等奖学金</a:t>
            </a:r>
            <a:endParaRPr b="0" lang="en-US" sz="2000" spc="-1" strike="noStrike">
              <a:solidFill>
                <a:srgbClr val="1aa0da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aa0da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·  </a:t>
            </a:r>
            <a:r>
              <a:rPr b="0" lang="zh-CN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多次获得华南师范大学</a:t>
            </a:r>
            <a:r>
              <a:rPr b="0" lang="zh-CN" sz="2000" spc="-1" strike="noStrike">
                <a:solidFill>
                  <a:srgbClr val="1378a3"/>
                </a:solidFill>
                <a:latin typeface="微软雅黑"/>
                <a:ea typeface="微软雅黑"/>
              </a:rPr>
              <a:t>一等奖学金、二等奖学金、创新奖学金</a:t>
            </a:r>
            <a:endParaRPr b="0" lang="en-US" sz="2000" spc="-1" strike="noStrike">
              <a:solidFill>
                <a:srgbClr val="1aa0da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aa0da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·  </a:t>
            </a:r>
            <a:r>
              <a:rPr b="0" lang="zh-CN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2018</a:t>
            </a:r>
            <a:r>
              <a:rPr b="0" lang="zh-CN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华师</a:t>
            </a:r>
            <a:r>
              <a:rPr b="0" lang="zh-CN" sz="2000" spc="-1" strike="noStrike">
                <a:solidFill>
                  <a:srgbClr val="1378a3"/>
                </a:solidFill>
                <a:latin typeface="微软雅黑"/>
                <a:ea typeface="微软雅黑"/>
              </a:rPr>
              <a:t>“优秀毕业生</a:t>
            </a:r>
            <a:r>
              <a:rPr b="0" lang="zh-CN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”、校级</a:t>
            </a:r>
            <a:r>
              <a:rPr b="0" lang="zh-CN" sz="2000" spc="-1" strike="noStrike">
                <a:solidFill>
                  <a:srgbClr val="1378a3"/>
                </a:solidFill>
                <a:latin typeface="微软雅黑"/>
                <a:ea typeface="微软雅黑"/>
              </a:rPr>
              <a:t>优秀学生标兵、优秀学生干部</a:t>
            </a:r>
            <a:r>
              <a:rPr b="0" lang="zh-CN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、   </a:t>
            </a:r>
            <a:r>
              <a:rPr b="0" lang="zh-CN" sz="2000" spc="-1" strike="noStrike">
                <a:solidFill>
                  <a:srgbClr val="1378a3"/>
                </a:solidFill>
                <a:latin typeface="微软雅黑"/>
                <a:ea typeface="微软雅黑"/>
              </a:rPr>
              <a:t>优秀团员、优秀团干</a:t>
            </a:r>
            <a:r>
              <a:rPr b="0" lang="zh-CN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荣誉称号，</a:t>
            </a:r>
            <a:r>
              <a:rPr b="0" lang="zh-CN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2016</a:t>
            </a:r>
            <a:r>
              <a:rPr b="0" lang="zh-CN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年取得“入党积极分子学习班”结业证书</a:t>
            </a:r>
            <a:endParaRPr b="0" lang="en-US" sz="2000" spc="-1" strike="noStrike">
              <a:solidFill>
                <a:srgbClr val="1aa0da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aa0da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·  </a:t>
            </a:r>
            <a:r>
              <a:rPr b="0" lang="zh-CN" sz="2000" spc="-1" strike="noStrike">
                <a:solidFill>
                  <a:srgbClr val="1378a3"/>
                </a:solidFill>
                <a:latin typeface="微软雅黑"/>
                <a:ea typeface="微软雅黑"/>
              </a:rPr>
              <a:t>【</a:t>
            </a:r>
            <a:r>
              <a:rPr b="1" lang="zh-CN" sz="2000" spc="-1" strike="noStrike">
                <a:solidFill>
                  <a:srgbClr val="1378a3"/>
                </a:solidFill>
                <a:latin typeface="微软雅黑"/>
                <a:ea typeface="微软雅黑"/>
              </a:rPr>
              <a:t>学生工作经历丰富</a:t>
            </a:r>
            <a:r>
              <a:rPr b="0" lang="zh-CN" sz="2000" spc="-1" strike="noStrike">
                <a:solidFill>
                  <a:srgbClr val="1378a3"/>
                </a:solidFill>
                <a:latin typeface="微软雅黑"/>
                <a:ea typeface="微软雅黑"/>
              </a:rPr>
              <a:t>】</a:t>
            </a:r>
            <a:r>
              <a:rPr b="0" lang="zh-CN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上外人事处助理、上外教务处助管、学院团总支、中国古代散文网实习记者、社团联合会副部等。</a:t>
            </a:r>
            <a:endParaRPr b="0" lang="en-US" sz="2000" spc="-1" strike="noStrike">
              <a:solidFill>
                <a:srgbClr val="1aa0da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aa0da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·  </a:t>
            </a:r>
            <a:r>
              <a:rPr b="1" lang="zh-CN" sz="2000" spc="-1" strike="noStrike">
                <a:solidFill>
                  <a:srgbClr val="1378a3"/>
                </a:solidFill>
                <a:latin typeface="微软雅黑"/>
                <a:ea typeface="微软雅黑"/>
              </a:rPr>
              <a:t>【综合素质】</a:t>
            </a:r>
            <a:endParaRPr b="0" lang="en-US" sz="2000" spc="-1" strike="noStrike">
              <a:solidFill>
                <a:srgbClr val="1aa0da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     </a:t>
            </a:r>
            <a:r>
              <a:rPr b="0" lang="zh-CN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国家级市级校级比赛一、二等奖</a:t>
            </a:r>
            <a:r>
              <a:rPr b="0" lang="zh-CN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8</a:t>
            </a:r>
            <a:r>
              <a:rPr b="0" lang="zh-CN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项（全国冰心文学奖二等奖；广州大学生电影节微影评大赛一、二等奖；陕师“秋兴杯”二等奖；华师“品读文学经典”一等奖等。）</a:t>
            </a:r>
            <a:endParaRPr b="0" lang="en-US" sz="2000" spc="-1" strike="noStrike">
              <a:solidFill>
                <a:srgbClr val="1aa0da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aa0da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      </a:t>
            </a:r>
            <a:r>
              <a:rPr b="0" lang="zh-CN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证书</a:t>
            </a:r>
            <a:r>
              <a:rPr b="0" lang="en-US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4</a:t>
            </a:r>
            <a:r>
              <a:rPr b="0" lang="zh-CN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类（教师资格证；六级；普通话；计算机）</a:t>
            </a:r>
            <a:endParaRPr b="0" lang="en-US" sz="2000" spc="-1" strike="noStrike">
              <a:solidFill>
                <a:srgbClr val="1aa0da"/>
              </a:solidFill>
              <a:latin typeface="Arial"/>
            </a:endParaRPr>
          </a:p>
        </p:txBody>
      </p:sp>
      <p:sp>
        <p:nvSpPr>
          <p:cNvPr id="292" name="Freeform 5"/>
          <p:cNvSpPr/>
          <p:nvPr/>
        </p:nvSpPr>
        <p:spPr>
          <a:xfrm rot="924600">
            <a:off x="-977760" y="1998720"/>
            <a:ext cx="4354200" cy="4359240"/>
          </a:xfrm>
          <a:custGeom>
            <a:avLst/>
            <a:gdLst/>
            <a:ahLst/>
            <a:rect l="l" t="t" r="r" b="b"/>
            <a:pathLst>
              <a:path w="4280" h="4280">
                <a:moveTo>
                  <a:pt x="50" y="3831"/>
                </a:moveTo>
                <a:cubicBezTo>
                  <a:pt x="0" y="3881"/>
                  <a:pt x="4" y="3966"/>
                  <a:pt x="59" y="4021"/>
                </a:cubicBezTo>
                <a:lnTo>
                  <a:pt x="259" y="4221"/>
                </a:lnTo>
                <a:cubicBezTo>
                  <a:pt x="314" y="4276"/>
                  <a:pt x="399" y="4280"/>
                  <a:pt x="449" y="4230"/>
                </a:cubicBezTo>
                <a:lnTo>
                  <a:pt x="1047" y="3632"/>
                </a:lnTo>
                <a:cubicBezTo>
                  <a:pt x="1096" y="3583"/>
                  <a:pt x="1092" y="3498"/>
                  <a:pt x="1038" y="3443"/>
                </a:cubicBezTo>
                <a:lnTo>
                  <a:pt x="837" y="3242"/>
                </a:lnTo>
                <a:cubicBezTo>
                  <a:pt x="782" y="3188"/>
                  <a:pt x="697" y="3184"/>
                  <a:pt x="648" y="3233"/>
                </a:cubicBezTo>
                <a:lnTo>
                  <a:pt x="50" y="3831"/>
                </a:lnTo>
                <a:close/>
                <a:moveTo>
                  <a:pt x="2717" y="3126"/>
                </a:moveTo>
                <a:cubicBezTo>
                  <a:pt x="3134" y="3126"/>
                  <a:pt x="3527" y="2964"/>
                  <a:pt x="3822" y="2669"/>
                </a:cubicBezTo>
                <a:cubicBezTo>
                  <a:pt x="4117" y="2373"/>
                  <a:pt x="4280" y="1981"/>
                  <a:pt x="4280" y="1563"/>
                </a:cubicBezTo>
                <a:cubicBezTo>
                  <a:pt x="4280" y="1146"/>
                  <a:pt x="4117" y="753"/>
                  <a:pt x="3822" y="458"/>
                </a:cubicBezTo>
                <a:cubicBezTo>
                  <a:pt x="3527" y="163"/>
                  <a:pt x="3134" y="0"/>
                  <a:pt x="2717" y="0"/>
                </a:cubicBezTo>
                <a:cubicBezTo>
                  <a:pt x="2299" y="0"/>
                  <a:pt x="1907" y="163"/>
                  <a:pt x="1611" y="458"/>
                </a:cubicBezTo>
                <a:cubicBezTo>
                  <a:pt x="1076" y="993"/>
                  <a:pt x="1011" y="1824"/>
                  <a:pt x="1417" y="2431"/>
                </a:cubicBezTo>
                <a:cubicBezTo>
                  <a:pt x="1399" y="2438"/>
                  <a:pt x="1383" y="2448"/>
                  <a:pt x="1369" y="2462"/>
                </a:cubicBezTo>
                <a:lnTo>
                  <a:pt x="1360" y="2472"/>
                </a:lnTo>
                <a:cubicBezTo>
                  <a:pt x="1305" y="2526"/>
                  <a:pt x="1305" y="2615"/>
                  <a:pt x="1360" y="2670"/>
                </a:cubicBezTo>
                <a:lnTo>
                  <a:pt x="1610" y="2920"/>
                </a:lnTo>
                <a:cubicBezTo>
                  <a:pt x="1665" y="2975"/>
                  <a:pt x="1754" y="2975"/>
                  <a:pt x="1808" y="2920"/>
                </a:cubicBezTo>
                <a:lnTo>
                  <a:pt x="1818" y="2911"/>
                </a:lnTo>
                <a:cubicBezTo>
                  <a:pt x="1832" y="2897"/>
                  <a:pt x="1842" y="2881"/>
                  <a:pt x="1849" y="2864"/>
                </a:cubicBezTo>
                <a:cubicBezTo>
                  <a:pt x="2104" y="3035"/>
                  <a:pt x="2403" y="3126"/>
                  <a:pt x="2717" y="3126"/>
                </a:cubicBezTo>
                <a:close/>
                <a:moveTo>
                  <a:pt x="2717" y="291"/>
                </a:moveTo>
                <a:cubicBezTo>
                  <a:pt x="3057" y="291"/>
                  <a:pt x="3376" y="423"/>
                  <a:pt x="3617" y="663"/>
                </a:cubicBezTo>
                <a:cubicBezTo>
                  <a:pt x="3857" y="904"/>
                  <a:pt x="3989" y="1223"/>
                  <a:pt x="3989" y="1563"/>
                </a:cubicBezTo>
                <a:cubicBezTo>
                  <a:pt x="3989" y="1903"/>
                  <a:pt x="3857" y="2223"/>
                  <a:pt x="3617" y="2463"/>
                </a:cubicBezTo>
                <a:cubicBezTo>
                  <a:pt x="3376" y="2703"/>
                  <a:pt x="3057" y="2836"/>
                  <a:pt x="2717" y="2836"/>
                </a:cubicBezTo>
                <a:cubicBezTo>
                  <a:pt x="2377" y="2836"/>
                  <a:pt x="2057" y="2703"/>
                  <a:pt x="1817" y="2463"/>
                </a:cubicBezTo>
                <a:cubicBezTo>
                  <a:pt x="1321" y="1967"/>
                  <a:pt x="1321" y="1160"/>
                  <a:pt x="1817" y="663"/>
                </a:cubicBezTo>
                <a:cubicBezTo>
                  <a:pt x="2057" y="423"/>
                  <a:pt x="2377" y="291"/>
                  <a:pt x="2717" y="291"/>
                </a:cubicBezTo>
                <a:close/>
                <a:moveTo>
                  <a:pt x="1036" y="2894"/>
                </a:moveTo>
                <a:cubicBezTo>
                  <a:pt x="940" y="2991"/>
                  <a:pt x="940" y="3147"/>
                  <a:pt x="1036" y="3244"/>
                </a:cubicBezTo>
                <a:cubicBezTo>
                  <a:pt x="1133" y="3340"/>
                  <a:pt x="1289" y="3340"/>
                  <a:pt x="1386" y="3244"/>
                </a:cubicBezTo>
                <a:cubicBezTo>
                  <a:pt x="1482" y="3147"/>
                  <a:pt x="1482" y="2991"/>
                  <a:pt x="1386" y="2894"/>
                </a:cubicBezTo>
                <a:cubicBezTo>
                  <a:pt x="1289" y="2798"/>
                  <a:pt x="1133" y="2798"/>
                  <a:pt x="1036" y="2894"/>
                </a:cubicBezTo>
                <a:close/>
              </a:path>
            </a:pathLst>
          </a:custGeom>
          <a:solidFill>
            <a:srgbClr val="1aa0da"/>
          </a:solidFill>
          <a:ln w="3816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a0da"/>
              </a:solidFill>
              <a:latin typeface="Arial"/>
            </a:endParaRPr>
          </a:p>
        </p:txBody>
      </p:sp>
      <p:sp>
        <p:nvSpPr>
          <p:cNvPr id="293" name="Freeform 26"/>
          <p:cNvSpPr/>
          <p:nvPr/>
        </p:nvSpPr>
        <p:spPr>
          <a:xfrm>
            <a:off x="1146240" y="2909880"/>
            <a:ext cx="1631880" cy="1517760"/>
          </a:xfrm>
          <a:custGeom>
            <a:avLst/>
            <a:gdLst/>
            <a:ahLst/>
            <a:rect l="l" t="t" r="r" b="b"/>
            <a:pathLst>
              <a:path w="678" h="630">
                <a:moveTo>
                  <a:pt x="301" y="551"/>
                </a:moveTo>
                <a:lnTo>
                  <a:pt x="373" y="551"/>
                </a:lnTo>
                <a:lnTo>
                  <a:pt x="398" y="593"/>
                </a:lnTo>
                <a:lnTo>
                  <a:pt x="280" y="593"/>
                </a:lnTo>
                <a:lnTo>
                  <a:pt x="301" y="551"/>
                </a:lnTo>
                <a:close/>
                <a:moveTo>
                  <a:pt x="190" y="21"/>
                </a:moveTo>
                <a:lnTo>
                  <a:pt x="207" y="32"/>
                </a:lnTo>
                <a:cubicBezTo>
                  <a:pt x="208" y="32"/>
                  <a:pt x="209" y="33"/>
                  <a:pt x="210" y="34"/>
                </a:cubicBezTo>
                <a:lnTo>
                  <a:pt x="366" y="14"/>
                </a:lnTo>
                <a:cubicBezTo>
                  <a:pt x="362" y="5"/>
                  <a:pt x="353" y="0"/>
                  <a:pt x="342" y="1"/>
                </a:cubicBezTo>
                <a:lnTo>
                  <a:pt x="190" y="21"/>
                </a:lnTo>
                <a:close/>
                <a:moveTo>
                  <a:pt x="169" y="25"/>
                </a:moveTo>
                <a:lnTo>
                  <a:pt x="199" y="44"/>
                </a:lnTo>
                <a:cubicBezTo>
                  <a:pt x="203" y="47"/>
                  <a:pt x="207" y="55"/>
                  <a:pt x="207" y="62"/>
                </a:cubicBezTo>
                <a:lnTo>
                  <a:pt x="207" y="333"/>
                </a:lnTo>
                <a:cubicBezTo>
                  <a:pt x="207" y="340"/>
                  <a:pt x="203" y="343"/>
                  <a:pt x="199" y="340"/>
                </a:cubicBezTo>
                <a:lnTo>
                  <a:pt x="169" y="322"/>
                </a:lnTo>
                <a:cubicBezTo>
                  <a:pt x="165" y="319"/>
                  <a:pt x="161" y="311"/>
                  <a:pt x="161" y="304"/>
                </a:cubicBezTo>
                <a:lnTo>
                  <a:pt x="161" y="33"/>
                </a:lnTo>
                <a:cubicBezTo>
                  <a:pt x="161" y="26"/>
                  <a:pt x="165" y="23"/>
                  <a:pt x="169" y="25"/>
                </a:cubicBezTo>
                <a:close/>
                <a:moveTo>
                  <a:pt x="291" y="109"/>
                </a:moveTo>
                <a:lnTo>
                  <a:pt x="309" y="120"/>
                </a:lnTo>
                <a:cubicBezTo>
                  <a:pt x="310" y="121"/>
                  <a:pt x="310" y="122"/>
                  <a:pt x="311" y="122"/>
                </a:cubicBezTo>
                <a:lnTo>
                  <a:pt x="467" y="102"/>
                </a:lnTo>
                <a:cubicBezTo>
                  <a:pt x="464" y="94"/>
                  <a:pt x="454" y="88"/>
                  <a:pt x="443" y="90"/>
                </a:cubicBezTo>
                <a:lnTo>
                  <a:pt x="291" y="109"/>
                </a:lnTo>
                <a:close/>
                <a:moveTo>
                  <a:pt x="270" y="114"/>
                </a:moveTo>
                <a:lnTo>
                  <a:pt x="300" y="133"/>
                </a:lnTo>
                <a:cubicBezTo>
                  <a:pt x="304" y="136"/>
                  <a:pt x="308" y="144"/>
                  <a:pt x="308" y="151"/>
                </a:cubicBezTo>
                <a:lnTo>
                  <a:pt x="308" y="422"/>
                </a:lnTo>
                <a:cubicBezTo>
                  <a:pt x="308" y="428"/>
                  <a:pt x="304" y="432"/>
                  <a:pt x="300" y="429"/>
                </a:cubicBezTo>
                <a:lnTo>
                  <a:pt x="270" y="410"/>
                </a:lnTo>
                <a:cubicBezTo>
                  <a:pt x="266" y="407"/>
                  <a:pt x="263" y="400"/>
                  <a:pt x="263" y="393"/>
                </a:cubicBezTo>
                <a:lnTo>
                  <a:pt x="263" y="122"/>
                </a:lnTo>
                <a:cubicBezTo>
                  <a:pt x="263" y="115"/>
                  <a:pt x="266" y="111"/>
                  <a:pt x="270" y="114"/>
                </a:cubicBezTo>
                <a:close/>
                <a:moveTo>
                  <a:pt x="322" y="145"/>
                </a:moveTo>
                <a:lnTo>
                  <a:pt x="486" y="124"/>
                </a:lnTo>
                <a:cubicBezTo>
                  <a:pt x="500" y="122"/>
                  <a:pt x="511" y="131"/>
                  <a:pt x="511" y="145"/>
                </a:cubicBezTo>
                <a:lnTo>
                  <a:pt x="511" y="378"/>
                </a:lnTo>
                <a:cubicBezTo>
                  <a:pt x="511" y="391"/>
                  <a:pt x="500" y="404"/>
                  <a:pt x="486" y="406"/>
                </a:cubicBezTo>
                <a:lnTo>
                  <a:pt x="322" y="426"/>
                </a:lnTo>
                <a:lnTo>
                  <a:pt x="322" y="145"/>
                </a:lnTo>
                <a:close/>
                <a:moveTo>
                  <a:pt x="354" y="183"/>
                </a:moveTo>
                <a:lnTo>
                  <a:pt x="481" y="166"/>
                </a:lnTo>
                <a:lnTo>
                  <a:pt x="481" y="224"/>
                </a:lnTo>
                <a:lnTo>
                  <a:pt x="354" y="240"/>
                </a:lnTo>
                <a:lnTo>
                  <a:pt x="354" y="183"/>
                </a:lnTo>
                <a:close/>
                <a:moveTo>
                  <a:pt x="221" y="56"/>
                </a:moveTo>
                <a:lnTo>
                  <a:pt x="384" y="35"/>
                </a:lnTo>
                <a:cubicBezTo>
                  <a:pt x="398" y="33"/>
                  <a:pt x="410" y="43"/>
                  <a:pt x="410" y="56"/>
                </a:cubicBezTo>
                <a:lnTo>
                  <a:pt x="410" y="63"/>
                </a:lnTo>
                <a:lnTo>
                  <a:pt x="255" y="83"/>
                </a:lnTo>
                <a:cubicBezTo>
                  <a:pt x="244" y="86"/>
                  <a:pt x="240" y="93"/>
                  <a:pt x="240" y="107"/>
                </a:cubicBezTo>
                <a:lnTo>
                  <a:pt x="240" y="335"/>
                </a:lnTo>
                <a:lnTo>
                  <a:pt x="221" y="338"/>
                </a:lnTo>
                <a:lnTo>
                  <a:pt x="221" y="56"/>
                </a:lnTo>
                <a:close/>
                <a:moveTo>
                  <a:pt x="101" y="188"/>
                </a:moveTo>
                <a:lnTo>
                  <a:pt x="134" y="188"/>
                </a:lnTo>
                <a:lnTo>
                  <a:pt x="134" y="135"/>
                </a:lnTo>
                <a:lnTo>
                  <a:pt x="104" y="135"/>
                </a:lnTo>
                <a:cubicBezTo>
                  <a:pt x="76" y="135"/>
                  <a:pt x="54" y="158"/>
                  <a:pt x="54" y="186"/>
                </a:cubicBezTo>
                <a:lnTo>
                  <a:pt x="54" y="467"/>
                </a:lnTo>
                <a:cubicBezTo>
                  <a:pt x="54" y="490"/>
                  <a:pt x="69" y="509"/>
                  <a:pt x="90" y="515"/>
                </a:cubicBezTo>
                <a:lnTo>
                  <a:pt x="90" y="515"/>
                </a:lnTo>
                <a:lnTo>
                  <a:pt x="0" y="586"/>
                </a:lnTo>
                <a:lnTo>
                  <a:pt x="0" y="630"/>
                </a:lnTo>
                <a:lnTo>
                  <a:pt x="678" y="630"/>
                </a:lnTo>
                <a:lnTo>
                  <a:pt x="678" y="586"/>
                </a:lnTo>
                <a:lnTo>
                  <a:pt x="582" y="516"/>
                </a:lnTo>
                <a:cubicBezTo>
                  <a:pt x="604" y="511"/>
                  <a:pt x="621" y="491"/>
                  <a:pt x="621" y="467"/>
                </a:cubicBezTo>
                <a:lnTo>
                  <a:pt x="621" y="186"/>
                </a:lnTo>
                <a:cubicBezTo>
                  <a:pt x="621" y="158"/>
                  <a:pt x="598" y="135"/>
                  <a:pt x="571" y="135"/>
                </a:cubicBezTo>
                <a:lnTo>
                  <a:pt x="541" y="135"/>
                </a:lnTo>
                <a:lnTo>
                  <a:pt x="541" y="188"/>
                </a:lnTo>
                <a:lnTo>
                  <a:pt x="573" y="188"/>
                </a:lnTo>
                <a:lnTo>
                  <a:pt x="573" y="474"/>
                </a:lnTo>
                <a:lnTo>
                  <a:pt x="101" y="474"/>
                </a:lnTo>
                <a:lnTo>
                  <a:pt x="101" y="188"/>
                </a:lnTo>
                <a:close/>
              </a:path>
            </a:pathLst>
          </a:cu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a0da"/>
              </a:solidFill>
              <a:latin typeface="Arial"/>
            </a:endParaRPr>
          </a:p>
        </p:txBody>
      </p:sp>
      <p:sp>
        <p:nvSpPr>
          <p:cNvPr id="294" name="TextBox 42"/>
          <p:cNvSpPr/>
          <p:nvPr/>
        </p:nvSpPr>
        <p:spPr>
          <a:xfrm>
            <a:off x="1258920" y="139680"/>
            <a:ext cx="36496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d4d4d"/>
                </a:solidFill>
                <a:latin typeface="微软雅黑"/>
                <a:ea typeface="微软雅黑"/>
              </a:rPr>
              <a:t>综合素质</a:t>
            </a:r>
            <a:endParaRPr b="0" lang="en-US" sz="2800" spc="-1" strike="noStrike">
              <a:solidFill>
                <a:srgbClr val="1aa0da"/>
              </a:solidFill>
              <a:latin typeface="Arial"/>
            </a:endParaRPr>
          </a:p>
        </p:txBody>
      </p:sp>
      <p:sp>
        <p:nvSpPr>
          <p:cNvPr id="295" name="Freeform 5"/>
          <p:cNvSpPr/>
          <p:nvPr/>
        </p:nvSpPr>
        <p:spPr>
          <a:xfrm>
            <a:off x="704880" y="138240"/>
            <a:ext cx="441360" cy="525240"/>
          </a:xfrm>
          <a:custGeom>
            <a:avLst/>
            <a:gdLst/>
            <a:ahLst/>
            <a:rect l="l" t="t" r="r" b="b"/>
            <a:pathLst>
              <a:path w="537" h="623">
                <a:moveTo>
                  <a:pt x="269" y="0"/>
                </a:moveTo>
                <a:lnTo>
                  <a:pt x="403" y="78"/>
                </a:lnTo>
                <a:lnTo>
                  <a:pt x="537" y="156"/>
                </a:lnTo>
                <a:lnTo>
                  <a:pt x="537" y="311"/>
                </a:lnTo>
                <a:lnTo>
                  <a:pt x="537" y="467"/>
                </a:lnTo>
                <a:lnTo>
                  <a:pt x="403" y="545"/>
                </a:lnTo>
                <a:lnTo>
                  <a:pt x="269" y="623"/>
                </a:lnTo>
                <a:lnTo>
                  <a:pt x="134" y="545"/>
                </a:lnTo>
                <a:lnTo>
                  <a:pt x="0" y="467"/>
                </a:lnTo>
                <a:lnTo>
                  <a:pt x="0" y="311"/>
                </a:lnTo>
                <a:lnTo>
                  <a:pt x="0" y="156"/>
                </a:lnTo>
                <a:lnTo>
                  <a:pt x="134" y="78"/>
                </a:lnTo>
                <a:lnTo>
                  <a:pt x="269" y="0"/>
                </a:lnTo>
                <a:close/>
                <a:moveTo>
                  <a:pt x="269" y="53"/>
                </a:moveTo>
                <a:lnTo>
                  <a:pt x="380" y="117"/>
                </a:lnTo>
                <a:lnTo>
                  <a:pt x="492" y="182"/>
                </a:lnTo>
                <a:lnTo>
                  <a:pt x="492" y="311"/>
                </a:lnTo>
                <a:lnTo>
                  <a:pt x="492" y="441"/>
                </a:lnTo>
                <a:lnTo>
                  <a:pt x="380" y="505"/>
                </a:lnTo>
                <a:lnTo>
                  <a:pt x="269" y="570"/>
                </a:lnTo>
                <a:lnTo>
                  <a:pt x="157" y="505"/>
                </a:lnTo>
                <a:lnTo>
                  <a:pt x="46" y="441"/>
                </a:lnTo>
                <a:lnTo>
                  <a:pt x="46" y="311"/>
                </a:lnTo>
                <a:lnTo>
                  <a:pt x="46" y="182"/>
                </a:lnTo>
                <a:lnTo>
                  <a:pt x="157" y="117"/>
                </a:lnTo>
                <a:lnTo>
                  <a:pt x="269" y="53"/>
                </a:lnTo>
                <a:close/>
                <a:moveTo>
                  <a:pt x="215" y="455"/>
                </a:moveTo>
                <a:lnTo>
                  <a:pt x="367" y="455"/>
                </a:lnTo>
                <a:cubicBezTo>
                  <a:pt x="371" y="455"/>
                  <a:pt x="375" y="458"/>
                  <a:pt x="375" y="463"/>
                </a:cubicBezTo>
                <a:cubicBezTo>
                  <a:pt x="375" y="467"/>
                  <a:pt x="371" y="471"/>
                  <a:pt x="367" y="471"/>
                </a:cubicBezTo>
                <a:lnTo>
                  <a:pt x="215" y="471"/>
                </a:lnTo>
                <a:cubicBezTo>
                  <a:pt x="211" y="471"/>
                  <a:pt x="207" y="467"/>
                  <a:pt x="207" y="463"/>
                </a:cubicBezTo>
                <a:cubicBezTo>
                  <a:pt x="207" y="458"/>
                  <a:pt x="211" y="455"/>
                  <a:pt x="215" y="455"/>
                </a:cubicBezTo>
                <a:close/>
                <a:moveTo>
                  <a:pt x="218" y="380"/>
                </a:moveTo>
                <a:lnTo>
                  <a:pt x="302" y="242"/>
                </a:lnTo>
                <a:lnTo>
                  <a:pt x="331" y="260"/>
                </a:lnTo>
                <a:lnTo>
                  <a:pt x="248" y="398"/>
                </a:lnTo>
                <a:lnTo>
                  <a:pt x="218" y="380"/>
                </a:lnTo>
                <a:close/>
                <a:moveTo>
                  <a:pt x="159" y="344"/>
                </a:moveTo>
                <a:lnTo>
                  <a:pt x="243" y="207"/>
                </a:lnTo>
                <a:lnTo>
                  <a:pt x="272" y="224"/>
                </a:lnTo>
                <a:lnTo>
                  <a:pt x="189" y="362"/>
                </a:lnTo>
                <a:lnTo>
                  <a:pt x="159" y="344"/>
                </a:lnTo>
                <a:close/>
                <a:moveTo>
                  <a:pt x="146" y="456"/>
                </a:moveTo>
                <a:lnTo>
                  <a:pt x="154" y="387"/>
                </a:lnTo>
                <a:lnTo>
                  <a:pt x="211" y="422"/>
                </a:lnTo>
                <a:lnTo>
                  <a:pt x="155" y="461"/>
                </a:lnTo>
                <a:cubicBezTo>
                  <a:pt x="149" y="465"/>
                  <a:pt x="145" y="463"/>
                  <a:pt x="146" y="456"/>
                </a:cubicBezTo>
                <a:close/>
                <a:moveTo>
                  <a:pt x="266" y="168"/>
                </a:moveTo>
                <a:lnTo>
                  <a:pt x="253" y="188"/>
                </a:lnTo>
                <a:lnTo>
                  <a:pt x="342" y="242"/>
                </a:lnTo>
                <a:lnTo>
                  <a:pt x="354" y="222"/>
                </a:lnTo>
                <a:lnTo>
                  <a:pt x="266" y="168"/>
                </a:lnTo>
                <a:close/>
                <a:moveTo>
                  <a:pt x="285" y="138"/>
                </a:moveTo>
                <a:cubicBezTo>
                  <a:pt x="290" y="129"/>
                  <a:pt x="302" y="126"/>
                  <a:pt x="311" y="131"/>
                </a:cubicBezTo>
                <a:lnTo>
                  <a:pt x="366" y="165"/>
                </a:lnTo>
                <a:cubicBezTo>
                  <a:pt x="375" y="170"/>
                  <a:pt x="378" y="182"/>
                  <a:pt x="373" y="191"/>
                </a:cubicBezTo>
                <a:lnTo>
                  <a:pt x="365" y="204"/>
                </a:lnTo>
                <a:lnTo>
                  <a:pt x="277" y="150"/>
                </a:lnTo>
                <a:lnTo>
                  <a:pt x="285" y="138"/>
                </a:lnTo>
                <a:close/>
              </a:path>
            </a:pathLst>
          </a:cu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a0da"/>
              </a:solidFill>
              <a:latin typeface="Arial"/>
            </a:endParaRPr>
          </a:p>
        </p:txBody>
      </p:sp>
      <p:sp>
        <p:nvSpPr>
          <p:cNvPr id="296" name="直接连接符 24"/>
          <p:cNvSpPr/>
          <p:nvPr/>
        </p:nvSpPr>
        <p:spPr>
          <a:xfrm>
            <a:off x="1258920" y="598320"/>
            <a:ext cx="9569520" cy="0"/>
          </a:xfrm>
          <a:prstGeom prst="line">
            <a:avLst/>
          </a:prstGeom>
          <a:ln w="9360">
            <a:solidFill>
              <a:srgbClr val="949494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aa0da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TextBox 42"/>
          <p:cNvSpPr/>
          <p:nvPr/>
        </p:nvSpPr>
        <p:spPr>
          <a:xfrm>
            <a:off x="1258920" y="182520"/>
            <a:ext cx="36496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d4d4d"/>
                </a:solidFill>
                <a:latin typeface="微软雅黑"/>
                <a:ea typeface="微软雅黑"/>
              </a:rPr>
              <a:t>部分证书证明</a:t>
            </a:r>
            <a:endParaRPr b="0" lang="en-US" sz="2800" spc="-1" strike="noStrike">
              <a:solidFill>
                <a:srgbClr val="1aa0da"/>
              </a:solidFill>
              <a:latin typeface="Arial"/>
            </a:endParaRPr>
          </a:p>
        </p:txBody>
      </p:sp>
      <p:sp>
        <p:nvSpPr>
          <p:cNvPr id="298" name="Freeform 5"/>
          <p:cNvSpPr/>
          <p:nvPr/>
        </p:nvSpPr>
        <p:spPr>
          <a:xfrm>
            <a:off x="704880" y="138240"/>
            <a:ext cx="441360" cy="525240"/>
          </a:xfrm>
          <a:custGeom>
            <a:avLst/>
            <a:gdLst/>
            <a:ahLst/>
            <a:rect l="l" t="t" r="r" b="b"/>
            <a:pathLst>
              <a:path w="537" h="623">
                <a:moveTo>
                  <a:pt x="269" y="0"/>
                </a:moveTo>
                <a:lnTo>
                  <a:pt x="403" y="78"/>
                </a:lnTo>
                <a:lnTo>
                  <a:pt x="537" y="156"/>
                </a:lnTo>
                <a:lnTo>
                  <a:pt x="537" y="311"/>
                </a:lnTo>
                <a:lnTo>
                  <a:pt x="537" y="467"/>
                </a:lnTo>
                <a:lnTo>
                  <a:pt x="403" y="545"/>
                </a:lnTo>
                <a:lnTo>
                  <a:pt x="269" y="623"/>
                </a:lnTo>
                <a:lnTo>
                  <a:pt x="134" y="545"/>
                </a:lnTo>
                <a:lnTo>
                  <a:pt x="0" y="467"/>
                </a:lnTo>
                <a:lnTo>
                  <a:pt x="0" y="311"/>
                </a:lnTo>
                <a:lnTo>
                  <a:pt x="0" y="156"/>
                </a:lnTo>
                <a:lnTo>
                  <a:pt x="134" y="78"/>
                </a:lnTo>
                <a:lnTo>
                  <a:pt x="269" y="0"/>
                </a:lnTo>
                <a:close/>
                <a:moveTo>
                  <a:pt x="269" y="53"/>
                </a:moveTo>
                <a:lnTo>
                  <a:pt x="380" y="117"/>
                </a:lnTo>
                <a:lnTo>
                  <a:pt x="492" y="182"/>
                </a:lnTo>
                <a:lnTo>
                  <a:pt x="492" y="311"/>
                </a:lnTo>
                <a:lnTo>
                  <a:pt x="492" y="441"/>
                </a:lnTo>
                <a:lnTo>
                  <a:pt x="380" y="505"/>
                </a:lnTo>
                <a:lnTo>
                  <a:pt x="269" y="570"/>
                </a:lnTo>
                <a:lnTo>
                  <a:pt x="157" y="505"/>
                </a:lnTo>
                <a:lnTo>
                  <a:pt x="46" y="441"/>
                </a:lnTo>
                <a:lnTo>
                  <a:pt x="46" y="311"/>
                </a:lnTo>
                <a:lnTo>
                  <a:pt x="46" y="182"/>
                </a:lnTo>
                <a:lnTo>
                  <a:pt x="157" y="117"/>
                </a:lnTo>
                <a:lnTo>
                  <a:pt x="269" y="53"/>
                </a:lnTo>
                <a:close/>
                <a:moveTo>
                  <a:pt x="215" y="455"/>
                </a:moveTo>
                <a:lnTo>
                  <a:pt x="367" y="455"/>
                </a:lnTo>
                <a:cubicBezTo>
                  <a:pt x="371" y="455"/>
                  <a:pt x="375" y="458"/>
                  <a:pt x="375" y="463"/>
                </a:cubicBezTo>
                <a:cubicBezTo>
                  <a:pt x="375" y="467"/>
                  <a:pt x="371" y="471"/>
                  <a:pt x="367" y="471"/>
                </a:cubicBezTo>
                <a:lnTo>
                  <a:pt x="215" y="471"/>
                </a:lnTo>
                <a:cubicBezTo>
                  <a:pt x="211" y="471"/>
                  <a:pt x="207" y="467"/>
                  <a:pt x="207" y="463"/>
                </a:cubicBezTo>
                <a:cubicBezTo>
                  <a:pt x="207" y="458"/>
                  <a:pt x="211" y="455"/>
                  <a:pt x="215" y="455"/>
                </a:cubicBezTo>
                <a:close/>
                <a:moveTo>
                  <a:pt x="218" y="380"/>
                </a:moveTo>
                <a:lnTo>
                  <a:pt x="302" y="242"/>
                </a:lnTo>
                <a:lnTo>
                  <a:pt x="331" y="260"/>
                </a:lnTo>
                <a:lnTo>
                  <a:pt x="248" y="398"/>
                </a:lnTo>
                <a:lnTo>
                  <a:pt x="218" y="380"/>
                </a:lnTo>
                <a:close/>
                <a:moveTo>
                  <a:pt x="159" y="344"/>
                </a:moveTo>
                <a:lnTo>
                  <a:pt x="243" y="207"/>
                </a:lnTo>
                <a:lnTo>
                  <a:pt x="272" y="224"/>
                </a:lnTo>
                <a:lnTo>
                  <a:pt x="189" y="362"/>
                </a:lnTo>
                <a:lnTo>
                  <a:pt x="159" y="344"/>
                </a:lnTo>
                <a:close/>
                <a:moveTo>
                  <a:pt x="146" y="456"/>
                </a:moveTo>
                <a:lnTo>
                  <a:pt x="154" y="387"/>
                </a:lnTo>
                <a:lnTo>
                  <a:pt x="211" y="422"/>
                </a:lnTo>
                <a:lnTo>
                  <a:pt x="155" y="461"/>
                </a:lnTo>
                <a:cubicBezTo>
                  <a:pt x="149" y="465"/>
                  <a:pt x="145" y="463"/>
                  <a:pt x="146" y="456"/>
                </a:cubicBezTo>
                <a:close/>
                <a:moveTo>
                  <a:pt x="266" y="168"/>
                </a:moveTo>
                <a:lnTo>
                  <a:pt x="253" y="188"/>
                </a:lnTo>
                <a:lnTo>
                  <a:pt x="342" y="242"/>
                </a:lnTo>
                <a:lnTo>
                  <a:pt x="354" y="222"/>
                </a:lnTo>
                <a:lnTo>
                  <a:pt x="266" y="168"/>
                </a:lnTo>
                <a:close/>
                <a:moveTo>
                  <a:pt x="285" y="138"/>
                </a:moveTo>
                <a:cubicBezTo>
                  <a:pt x="290" y="129"/>
                  <a:pt x="302" y="126"/>
                  <a:pt x="311" y="131"/>
                </a:cubicBezTo>
                <a:lnTo>
                  <a:pt x="366" y="165"/>
                </a:lnTo>
                <a:cubicBezTo>
                  <a:pt x="375" y="170"/>
                  <a:pt x="378" y="182"/>
                  <a:pt x="373" y="191"/>
                </a:cubicBezTo>
                <a:lnTo>
                  <a:pt x="365" y="204"/>
                </a:lnTo>
                <a:lnTo>
                  <a:pt x="277" y="150"/>
                </a:lnTo>
                <a:lnTo>
                  <a:pt x="285" y="138"/>
                </a:lnTo>
                <a:close/>
              </a:path>
            </a:pathLst>
          </a:cu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a0da"/>
              </a:solidFill>
              <a:latin typeface="Arial"/>
            </a:endParaRPr>
          </a:p>
        </p:txBody>
      </p:sp>
      <p:sp>
        <p:nvSpPr>
          <p:cNvPr id="299" name="直接连接符 27"/>
          <p:cNvSpPr/>
          <p:nvPr/>
        </p:nvSpPr>
        <p:spPr>
          <a:xfrm>
            <a:off x="1258920" y="598320"/>
            <a:ext cx="9569520" cy="0"/>
          </a:xfrm>
          <a:prstGeom prst="line">
            <a:avLst/>
          </a:prstGeom>
          <a:ln w="9360">
            <a:solidFill>
              <a:srgbClr val="949494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aa0da"/>
              </a:solidFill>
              <a:latin typeface="Arial"/>
            </a:endParaRPr>
          </a:p>
        </p:txBody>
      </p:sp>
      <p:pic>
        <p:nvPicPr>
          <p:cNvPr id="300" name="图片 36" descr="国家奖学金"/>
          <p:cNvPicPr/>
          <p:nvPr/>
        </p:nvPicPr>
        <p:blipFill>
          <a:blip r:embed="rId1"/>
          <a:srcRect l="1086" t="0" r="18826" b="0"/>
          <a:stretch/>
        </p:blipFill>
        <p:spPr>
          <a:xfrm>
            <a:off x="355680" y="1684440"/>
            <a:ext cx="4213080" cy="2828880"/>
          </a:xfrm>
          <a:prstGeom prst="rect">
            <a:avLst/>
          </a:prstGeom>
          <a:ln w="0">
            <a:noFill/>
          </a:ln>
        </p:spPr>
      </p:pic>
      <p:pic>
        <p:nvPicPr>
          <p:cNvPr id="301" name="图片 64" descr="扫描宝文档创建于2020年9月17日 10_01_22_00"/>
          <p:cNvPicPr/>
          <p:nvPr/>
        </p:nvPicPr>
        <p:blipFill>
          <a:blip r:embed="rId2">
            <a:lum contrast="6000"/>
          </a:blip>
          <a:srcRect l="3898" t="2558" r="2887" b="28135"/>
          <a:stretch/>
        </p:blipFill>
        <p:spPr>
          <a:xfrm>
            <a:off x="4782960" y="1684440"/>
            <a:ext cx="2521080" cy="2701800"/>
          </a:xfrm>
          <a:prstGeom prst="rect">
            <a:avLst/>
          </a:prstGeom>
          <a:ln w="0">
            <a:noFill/>
          </a:ln>
        </p:spPr>
      </p:pic>
      <p:pic>
        <p:nvPicPr>
          <p:cNvPr id="302" name="图片 78" descr="教师资格考试"/>
          <p:cNvPicPr/>
          <p:nvPr/>
        </p:nvPicPr>
        <p:blipFill>
          <a:blip r:embed="rId3"/>
          <a:srcRect l="2599" t="5104" r="3634" b="7299"/>
          <a:stretch/>
        </p:blipFill>
        <p:spPr>
          <a:xfrm>
            <a:off x="7304040" y="1488960"/>
            <a:ext cx="4840200" cy="3219480"/>
          </a:xfrm>
          <a:prstGeom prst="rect">
            <a:avLst/>
          </a:prstGeom>
          <a:ln w="0">
            <a:noFill/>
          </a:ln>
        </p:spPr>
      </p:pic>
      <p:sp>
        <p:nvSpPr>
          <p:cNvPr id="303" name="文本框 3"/>
          <p:cNvSpPr/>
          <p:nvPr/>
        </p:nvSpPr>
        <p:spPr>
          <a:xfrm>
            <a:off x="355680" y="4898880"/>
            <a:ext cx="11842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272727"/>
                </a:solidFill>
                <a:latin typeface="Arial"/>
                <a:ea typeface="宋体"/>
              </a:rPr>
              <a:t>国家奖学金证书尚未发放，是为公示。       研究生成绩排名                          教师资格证书</a:t>
            </a:r>
            <a:endParaRPr b="0" lang="en-US" sz="2000" spc="-1" strike="noStrike">
              <a:solidFill>
                <a:srgbClr val="1aa0d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272727"/>
                </a:solidFill>
                <a:latin typeface="Arial"/>
                <a:ea typeface="宋体"/>
              </a:rPr>
              <a:t>                                                                                                    </a:t>
            </a:r>
            <a:r>
              <a:rPr b="1" lang="zh-CN" sz="2000" spc="-1" strike="noStrike">
                <a:solidFill>
                  <a:srgbClr val="272727"/>
                </a:solidFill>
                <a:latin typeface="Arial"/>
                <a:ea typeface="宋体"/>
              </a:rPr>
              <a:t>已考上深圳教师编织，顺利解决就业问题</a:t>
            </a:r>
            <a:endParaRPr b="0" lang="en-US" sz="2000" spc="-1" strike="noStrike">
              <a:solidFill>
                <a:srgbClr val="1aa0da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TextBox 42"/>
          <p:cNvSpPr/>
          <p:nvPr/>
        </p:nvSpPr>
        <p:spPr>
          <a:xfrm>
            <a:off x="1258920" y="182520"/>
            <a:ext cx="36496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d4d4d"/>
                </a:solidFill>
                <a:latin typeface="微软雅黑"/>
                <a:ea typeface="微软雅黑"/>
              </a:rPr>
              <a:t>部分证书证明</a:t>
            </a:r>
            <a:endParaRPr b="0" lang="en-US" sz="2800" spc="-1" strike="noStrike">
              <a:solidFill>
                <a:srgbClr val="1aa0da"/>
              </a:solidFill>
              <a:latin typeface="Arial"/>
            </a:endParaRPr>
          </a:p>
        </p:txBody>
      </p:sp>
      <p:sp>
        <p:nvSpPr>
          <p:cNvPr id="305" name="Freeform 5"/>
          <p:cNvSpPr/>
          <p:nvPr/>
        </p:nvSpPr>
        <p:spPr>
          <a:xfrm>
            <a:off x="704880" y="138240"/>
            <a:ext cx="441360" cy="525240"/>
          </a:xfrm>
          <a:custGeom>
            <a:avLst/>
            <a:gdLst/>
            <a:ahLst/>
            <a:rect l="l" t="t" r="r" b="b"/>
            <a:pathLst>
              <a:path w="537" h="623">
                <a:moveTo>
                  <a:pt x="269" y="0"/>
                </a:moveTo>
                <a:lnTo>
                  <a:pt x="403" y="78"/>
                </a:lnTo>
                <a:lnTo>
                  <a:pt x="537" y="156"/>
                </a:lnTo>
                <a:lnTo>
                  <a:pt x="537" y="311"/>
                </a:lnTo>
                <a:lnTo>
                  <a:pt x="537" y="467"/>
                </a:lnTo>
                <a:lnTo>
                  <a:pt x="403" y="545"/>
                </a:lnTo>
                <a:lnTo>
                  <a:pt x="269" y="623"/>
                </a:lnTo>
                <a:lnTo>
                  <a:pt x="134" y="545"/>
                </a:lnTo>
                <a:lnTo>
                  <a:pt x="0" y="467"/>
                </a:lnTo>
                <a:lnTo>
                  <a:pt x="0" y="311"/>
                </a:lnTo>
                <a:lnTo>
                  <a:pt x="0" y="156"/>
                </a:lnTo>
                <a:lnTo>
                  <a:pt x="134" y="78"/>
                </a:lnTo>
                <a:lnTo>
                  <a:pt x="269" y="0"/>
                </a:lnTo>
                <a:close/>
                <a:moveTo>
                  <a:pt x="269" y="53"/>
                </a:moveTo>
                <a:lnTo>
                  <a:pt x="380" y="117"/>
                </a:lnTo>
                <a:lnTo>
                  <a:pt x="492" y="182"/>
                </a:lnTo>
                <a:lnTo>
                  <a:pt x="492" y="311"/>
                </a:lnTo>
                <a:lnTo>
                  <a:pt x="492" y="441"/>
                </a:lnTo>
                <a:lnTo>
                  <a:pt x="380" y="505"/>
                </a:lnTo>
                <a:lnTo>
                  <a:pt x="269" y="570"/>
                </a:lnTo>
                <a:lnTo>
                  <a:pt x="157" y="505"/>
                </a:lnTo>
                <a:lnTo>
                  <a:pt x="46" y="441"/>
                </a:lnTo>
                <a:lnTo>
                  <a:pt x="46" y="311"/>
                </a:lnTo>
                <a:lnTo>
                  <a:pt x="46" y="182"/>
                </a:lnTo>
                <a:lnTo>
                  <a:pt x="157" y="117"/>
                </a:lnTo>
                <a:lnTo>
                  <a:pt x="269" y="53"/>
                </a:lnTo>
                <a:close/>
                <a:moveTo>
                  <a:pt x="215" y="455"/>
                </a:moveTo>
                <a:lnTo>
                  <a:pt x="367" y="455"/>
                </a:lnTo>
                <a:cubicBezTo>
                  <a:pt x="371" y="455"/>
                  <a:pt x="375" y="458"/>
                  <a:pt x="375" y="463"/>
                </a:cubicBezTo>
                <a:cubicBezTo>
                  <a:pt x="375" y="467"/>
                  <a:pt x="371" y="471"/>
                  <a:pt x="367" y="471"/>
                </a:cubicBezTo>
                <a:lnTo>
                  <a:pt x="215" y="471"/>
                </a:lnTo>
                <a:cubicBezTo>
                  <a:pt x="211" y="471"/>
                  <a:pt x="207" y="467"/>
                  <a:pt x="207" y="463"/>
                </a:cubicBezTo>
                <a:cubicBezTo>
                  <a:pt x="207" y="458"/>
                  <a:pt x="211" y="455"/>
                  <a:pt x="215" y="455"/>
                </a:cubicBezTo>
                <a:close/>
                <a:moveTo>
                  <a:pt x="218" y="380"/>
                </a:moveTo>
                <a:lnTo>
                  <a:pt x="302" y="242"/>
                </a:lnTo>
                <a:lnTo>
                  <a:pt x="331" y="260"/>
                </a:lnTo>
                <a:lnTo>
                  <a:pt x="248" y="398"/>
                </a:lnTo>
                <a:lnTo>
                  <a:pt x="218" y="380"/>
                </a:lnTo>
                <a:close/>
                <a:moveTo>
                  <a:pt x="159" y="344"/>
                </a:moveTo>
                <a:lnTo>
                  <a:pt x="243" y="207"/>
                </a:lnTo>
                <a:lnTo>
                  <a:pt x="272" y="224"/>
                </a:lnTo>
                <a:lnTo>
                  <a:pt x="189" y="362"/>
                </a:lnTo>
                <a:lnTo>
                  <a:pt x="159" y="344"/>
                </a:lnTo>
                <a:close/>
                <a:moveTo>
                  <a:pt x="146" y="456"/>
                </a:moveTo>
                <a:lnTo>
                  <a:pt x="154" y="387"/>
                </a:lnTo>
                <a:lnTo>
                  <a:pt x="211" y="422"/>
                </a:lnTo>
                <a:lnTo>
                  <a:pt x="155" y="461"/>
                </a:lnTo>
                <a:cubicBezTo>
                  <a:pt x="149" y="465"/>
                  <a:pt x="145" y="463"/>
                  <a:pt x="146" y="456"/>
                </a:cubicBezTo>
                <a:close/>
                <a:moveTo>
                  <a:pt x="266" y="168"/>
                </a:moveTo>
                <a:lnTo>
                  <a:pt x="253" y="188"/>
                </a:lnTo>
                <a:lnTo>
                  <a:pt x="342" y="242"/>
                </a:lnTo>
                <a:lnTo>
                  <a:pt x="354" y="222"/>
                </a:lnTo>
                <a:lnTo>
                  <a:pt x="266" y="168"/>
                </a:lnTo>
                <a:close/>
                <a:moveTo>
                  <a:pt x="285" y="138"/>
                </a:moveTo>
                <a:cubicBezTo>
                  <a:pt x="290" y="129"/>
                  <a:pt x="302" y="126"/>
                  <a:pt x="311" y="131"/>
                </a:cubicBezTo>
                <a:lnTo>
                  <a:pt x="366" y="165"/>
                </a:lnTo>
                <a:cubicBezTo>
                  <a:pt x="375" y="170"/>
                  <a:pt x="378" y="182"/>
                  <a:pt x="373" y="191"/>
                </a:cubicBezTo>
                <a:lnTo>
                  <a:pt x="365" y="204"/>
                </a:lnTo>
                <a:lnTo>
                  <a:pt x="277" y="150"/>
                </a:lnTo>
                <a:lnTo>
                  <a:pt x="285" y="138"/>
                </a:lnTo>
                <a:close/>
              </a:path>
            </a:pathLst>
          </a:cu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a0da"/>
              </a:solidFill>
              <a:latin typeface="Arial"/>
            </a:endParaRPr>
          </a:p>
        </p:txBody>
      </p:sp>
      <p:sp>
        <p:nvSpPr>
          <p:cNvPr id="306" name="直接连接符 27"/>
          <p:cNvSpPr/>
          <p:nvPr/>
        </p:nvSpPr>
        <p:spPr>
          <a:xfrm>
            <a:off x="1258920" y="598320"/>
            <a:ext cx="9569520" cy="0"/>
          </a:xfrm>
          <a:prstGeom prst="line">
            <a:avLst/>
          </a:prstGeom>
          <a:ln w="9360">
            <a:solidFill>
              <a:srgbClr val="949494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aa0da"/>
              </a:solidFill>
              <a:latin typeface="Arial"/>
            </a:endParaRPr>
          </a:p>
        </p:txBody>
      </p:sp>
      <p:pic>
        <p:nvPicPr>
          <p:cNvPr id="307" name="图片 1" descr=""/>
          <p:cNvPicPr/>
          <p:nvPr/>
        </p:nvPicPr>
        <p:blipFill>
          <a:blip r:embed="rId1"/>
          <a:stretch/>
        </p:blipFill>
        <p:spPr>
          <a:xfrm>
            <a:off x="630360" y="619200"/>
            <a:ext cx="5316480" cy="6006960"/>
          </a:xfrm>
          <a:prstGeom prst="rect">
            <a:avLst/>
          </a:prstGeom>
          <a:ln w="0">
            <a:noFill/>
          </a:ln>
        </p:spPr>
      </p:pic>
      <p:pic>
        <p:nvPicPr>
          <p:cNvPr id="308" name="图片 2" descr=""/>
          <p:cNvPicPr/>
          <p:nvPr/>
        </p:nvPicPr>
        <p:blipFill>
          <a:blip r:embed="rId2"/>
          <a:stretch/>
        </p:blipFill>
        <p:spPr>
          <a:xfrm>
            <a:off x="5931000" y="619200"/>
            <a:ext cx="5049720" cy="600696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TextBox 7"/>
          <p:cNvSpPr/>
          <p:nvPr/>
        </p:nvSpPr>
        <p:spPr>
          <a:xfrm>
            <a:off x="4111560" y="900000"/>
            <a:ext cx="6329520" cy="11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论文被上海外国语大学英语学院比较文学学科组论文集《跨学科阅读》收录，拟由复旦大学出版社出版；</a:t>
            </a:r>
            <a:endParaRPr b="0" lang="en-US" sz="2000" spc="-1" strike="noStrike">
              <a:solidFill>
                <a:srgbClr val="1aa0da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aa0da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aa0da"/>
              </a:solidFill>
              <a:latin typeface="Arial"/>
            </a:endParaRPr>
          </a:p>
        </p:txBody>
      </p:sp>
      <p:sp>
        <p:nvSpPr>
          <p:cNvPr id="310" name="Oval 10"/>
          <p:cNvSpPr/>
          <p:nvPr/>
        </p:nvSpPr>
        <p:spPr>
          <a:xfrm>
            <a:off x="3494160" y="1179360"/>
            <a:ext cx="463320" cy="463680"/>
          </a:xfrm>
          <a:prstGeom prst="ellipse">
            <a:avLst/>
          </a:prstGeom>
          <a:solidFill>
            <a:srgbClr val="1aa0da"/>
          </a:solidFill>
          <a:ln w="19080">
            <a:solidFill>
              <a:srgbClr val="ffffff"/>
            </a:solidFill>
            <a:round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8f8f8"/>
                </a:solidFill>
                <a:latin typeface="Lifeline JL"/>
                <a:ea typeface="微软雅黑"/>
              </a:rPr>
              <a:t>1</a:t>
            </a:r>
            <a:endParaRPr b="0" lang="en-US" sz="1800" spc="-1" strike="noStrike">
              <a:solidFill>
                <a:srgbClr val="1aa0da"/>
              </a:solidFill>
              <a:latin typeface="Arial"/>
            </a:endParaRPr>
          </a:p>
        </p:txBody>
      </p:sp>
      <p:sp>
        <p:nvSpPr>
          <p:cNvPr id="311" name="Freeform 5"/>
          <p:cNvSpPr/>
          <p:nvPr/>
        </p:nvSpPr>
        <p:spPr>
          <a:xfrm rot="924600">
            <a:off x="-441000" y="2076120"/>
            <a:ext cx="3759120" cy="3657600"/>
          </a:xfrm>
          <a:custGeom>
            <a:avLst/>
            <a:gdLst/>
            <a:ahLst/>
            <a:rect l="l" t="t" r="r" b="b"/>
            <a:pathLst>
              <a:path w="4280" h="4280">
                <a:moveTo>
                  <a:pt x="50" y="3831"/>
                </a:moveTo>
                <a:cubicBezTo>
                  <a:pt x="0" y="3881"/>
                  <a:pt x="4" y="3966"/>
                  <a:pt x="59" y="4021"/>
                </a:cubicBezTo>
                <a:lnTo>
                  <a:pt x="259" y="4221"/>
                </a:lnTo>
                <a:cubicBezTo>
                  <a:pt x="314" y="4276"/>
                  <a:pt x="399" y="4280"/>
                  <a:pt x="449" y="4230"/>
                </a:cubicBezTo>
                <a:lnTo>
                  <a:pt x="1047" y="3632"/>
                </a:lnTo>
                <a:cubicBezTo>
                  <a:pt x="1096" y="3583"/>
                  <a:pt x="1092" y="3498"/>
                  <a:pt x="1038" y="3443"/>
                </a:cubicBezTo>
                <a:lnTo>
                  <a:pt x="837" y="3242"/>
                </a:lnTo>
                <a:cubicBezTo>
                  <a:pt x="782" y="3188"/>
                  <a:pt x="697" y="3184"/>
                  <a:pt x="648" y="3233"/>
                </a:cubicBezTo>
                <a:lnTo>
                  <a:pt x="50" y="3831"/>
                </a:lnTo>
                <a:close/>
                <a:moveTo>
                  <a:pt x="2717" y="3126"/>
                </a:moveTo>
                <a:cubicBezTo>
                  <a:pt x="3134" y="3126"/>
                  <a:pt x="3527" y="2964"/>
                  <a:pt x="3822" y="2669"/>
                </a:cubicBezTo>
                <a:cubicBezTo>
                  <a:pt x="4117" y="2373"/>
                  <a:pt x="4280" y="1981"/>
                  <a:pt x="4280" y="1563"/>
                </a:cubicBezTo>
                <a:cubicBezTo>
                  <a:pt x="4280" y="1146"/>
                  <a:pt x="4117" y="753"/>
                  <a:pt x="3822" y="458"/>
                </a:cubicBezTo>
                <a:cubicBezTo>
                  <a:pt x="3527" y="163"/>
                  <a:pt x="3134" y="0"/>
                  <a:pt x="2717" y="0"/>
                </a:cubicBezTo>
                <a:cubicBezTo>
                  <a:pt x="2299" y="0"/>
                  <a:pt x="1907" y="163"/>
                  <a:pt x="1611" y="458"/>
                </a:cubicBezTo>
                <a:cubicBezTo>
                  <a:pt x="1076" y="993"/>
                  <a:pt x="1011" y="1824"/>
                  <a:pt x="1417" y="2431"/>
                </a:cubicBezTo>
                <a:cubicBezTo>
                  <a:pt x="1399" y="2438"/>
                  <a:pt x="1383" y="2448"/>
                  <a:pt x="1369" y="2462"/>
                </a:cubicBezTo>
                <a:lnTo>
                  <a:pt x="1360" y="2472"/>
                </a:lnTo>
                <a:cubicBezTo>
                  <a:pt x="1305" y="2526"/>
                  <a:pt x="1305" y="2615"/>
                  <a:pt x="1360" y="2670"/>
                </a:cubicBezTo>
                <a:lnTo>
                  <a:pt x="1610" y="2920"/>
                </a:lnTo>
                <a:cubicBezTo>
                  <a:pt x="1665" y="2975"/>
                  <a:pt x="1754" y="2975"/>
                  <a:pt x="1808" y="2920"/>
                </a:cubicBezTo>
                <a:lnTo>
                  <a:pt x="1818" y="2911"/>
                </a:lnTo>
                <a:cubicBezTo>
                  <a:pt x="1832" y="2897"/>
                  <a:pt x="1842" y="2881"/>
                  <a:pt x="1849" y="2864"/>
                </a:cubicBezTo>
                <a:cubicBezTo>
                  <a:pt x="2104" y="3035"/>
                  <a:pt x="2403" y="3126"/>
                  <a:pt x="2717" y="3126"/>
                </a:cubicBezTo>
                <a:close/>
                <a:moveTo>
                  <a:pt x="2717" y="291"/>
                </a:moveTo>
                <a:cubicBezTo>
                  <a:pt x="3057" y="291"/>
                  <a:pt x="3376" y="423"/>
                  <a:pt x="3617" y="663"/>
                </a:cubicBezTo>
                <a:cubicBezTo>
                  <a:pt x="3857" y="904"/>
                  <a:pt x="3989" y="1223"/>
                  <a:pt x="3989" y="1563"/>
                </a:cubicBezTo>
                <a:cubicBezTo>
                  <a:pt x="3989" y="1903"/>
                  <a:pt x="3857" y="2223"/>
                  <a:pt x="3617" y="2463"/>
                </a:cubicBezTo>
                <a:cubicBezTo>
                  <a:pt x="3376" y="2703"/>
                  <a:pt x="3057" y="2836"/>
                  <a:pt x="2717" y="2836"/>
                </a:cubicBezTo>
                <a:cubicBezTo>
                  <a:pt x="2377" y="2836"/>
                  <a:pt x="2057" y="2703"/>
                  <a:pt x="1817" y="2463"/>
                </a:cubicBezTo>
                <a:cubicBezTo>
                  <a:pt x="1321" y="1967"/>
                  <a:pt x="1321" y="1160"/>
                  <a:pt x="1817" y="663"/>
                </a:cubicBezTo>
                <a:cubicBezTo>
                  <a:pt x="2057" y="423"/>
                  <a:pt x="2377" y="291"/>
                  <a:pt x="2717" y="291"/>
                </a:cubicBezTo>
                <a:close/>
                <a:moveTo>
                  <a:pt x="1036" y="2894"/>
                </a:moveTo>
                <a:cubicBezTo>
                  <a:pt x="940" y="2991"/>
                  <a:pt x="940" y="3147"/>
                  <a:pt x="1036" y="3244"/>
                </a:cubicBezTo>
                <a:cubicBezTo>
                  <a:pt x="1133" y="3340"/>
                  <a:pt x="1289" y="3340"/>
                  <a:pt x="1386" y="3244"/>
                </a:cubicBezTo>
                <a:cubicBezTo>
                  <a:pt x="1482" y="3147"/>
                  <a:pt x="1482" y="2991"/>
                  <a:pt x="1386" y="2894"/>
                </a:cubicBezTo>
                <a:cubicBezTo>
                  <a:pt x="1289" y="2798"/>
                  <a:pt x="1133" y="2798"/>
                  <a:pt x="1036" y="2894"/>
                </a:cubicBezTo>
                <a:close/>
              </a:path>
            </a:pathLst>
          </a:custGeom>
          <a:solidFill>
            <a:srgbClr val="1aa0da"/>
          </a:solidFill>
          <a:ln w="3816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a0da"/>
              </a:solidFill>
              <a:latin typeface="Arial"/>
            </a:endParaRPr>
          </a:p>
        </p:txBody>
      </p:sp>
      <p:sp>
        <p:nvSpPr>
          <p:cNvPr id="312" name="Freeform 26"/>
          <p:cNvSpPr/>
          <p:nvPr/>
        </p:nvSpPr>
        <p:spPr>
          <a:xfrm>
            <a:off x="1258920" y="2684520"/>
            <a:ext cx="1633680" cy="1515960"/>
          </a:xfrm>
          <a:custGeom>
            <a:avLst/>
            <a:gdLst/>
            <a:ahLst/>
            <a:rect l="l" t="t" r="r" b="b"/>
            <a:pathLst>
              <a:path w="678" h="630">
                <a:moveTo>
                  <a:pt x="301" y="551"/>
                </a:moveTo>
                <a:lnTo>
                  <a:pt x="373" y="551"/>
                </a:lnTo>
                <a:lnTo>
                  <a:pt x="398" y="593"/>
                </a:lnTo>
                <a:lnTo>
                  <a:pt x="280" y="593"/>
                </a:lnTo>
                <a:lnTo>
                  <a:pt x="301" y="551"/>
                </a:lnTo>
                <a:close/>
                <a:moveTo>
                  <a:pt x="190" y="21"/>
                </a:moveTo>
                <a:lnTo>
                  <a:pt x="207" y="32"/>
                </a:lnTo>
                <a:cubicBezTo>
                  <a:pt x="208" y="32"/>
                  <a:pt x="209" y="33"/>
                  <a:pt x="210" y="34"/>
                </a:cubicBezTo>
                <a:lnTo>
                  <a:pt x="366" y="14"/>
                </a:lnTo>
                <a:cubicBezTo>
                  <a:pt x="362" y="5"/>
                  <a:pt x="353" y="0"/>
                  <a:pt x="342" y="1"/>
                </a:cubicBezTo>
                <a:lnTo>
                  <a:pt x="190" y="21"/>
                </a:lnTo>
                <a:close/>
                <a:moveTo>
                  <a:pt x="169" y="25"/>
                </a:moveTo>
                <a:lnTo>
                  <a:pt x="199" y="44"/>
                </a:lnTo>
                <a:cubicBezTo>
                  <a:pt x="203" y="47"/>
                  <a:pt x="207" y="55"/>
                  <a:pt x="207" y="62"/>
                </a:cubicBezTo>
                <a:lnTo>
                  <a:pt x="207" y="333"/>
                </a:lnTo>
                <a:cubicBezTo>
                  <a:pt x="207" y="340"/>
                  <a:pt x="203" y="343"/>
                  <a:pt x="199" y="340"/>
                </a:cubicBezTo>
                <a:lnTo>
                  <a:pt x="169" y="322"/>
                </a:lnTo>
                <a:cubicBezTo>
                  <a:pt x="165" y="319"/>
                  <a:pt x="161" y="311"/>
                  <a:pt x="161" y="304"/>
                </a:cubicBezTo>
                <a:lnTo>
                  <a:pt x="161" y="33"/>
                </a:lnTo>
                <a:cubicBezTo>
                  <a:pt x="161" y="26"/>
                  <a:pt x="165" y="23"/>
                  <a:pt x="169" y="25"/>
                </a:cubicBezTo>
                <a:close/>
                <a:moveTo>
                  <a:pt x="291" y="109"/>
                </a:moveTo>
                <a:lnTo>
                  <a:pt x="309" y="120"/>
                </a:lnTo>
                <a:cubicBezTo>
                  <a:pt x="310" y="121"/>
                  <a:pt x="310" y="122"/>
                  <a:pt x="311" y="122"/>
                </a:cubicBezTo>
                <a:lnTo>
                  <a:pt x="467" y="102"/>
                </a:lnTo>
                <a:cubicBezTo>
                  <a:pt x="464" y="94"/>
                  <a:pt x="454" y="88"/>
                  <a:pt x="443" y="90"/>
                </a:cubicBezTo>
                <a:lnTo>
                  <a:pt x="291" y="109"/>
                </a:lnTo>
                <a:close/>
                <a:moveTo>
                  <a:pt x="270" y="114"/>
                </a:moveTo>
                <a:lnTo>
                  <a:pt x="300" y="133"/>
                </a:lnTo>
                <a:cubicBezTo>
                  <a:pt x="304" y="136"/>
                  <a:pt x="308" y="144"/>
                  <a:pt x="308" y="151"/>
                </a:cubicBezTo>
                <a:lnTo>
                  <a:pt x="308" y="422"/>
                </a:lnTo>
                <a:cubicBezTo>
                  <a:pt x="308" y="428"/>
                  <a:pt x="304" y="432"/>
                  <a:pt x="300" y="429"/>
                </a:cubicBezTo>
                <a:lnTo>
                  <a:pt x="270" y="410"/>
                </a:lnTo>
                <a:cubicBezTo>
                  <a:pt x="266" y="407"/>
                  <a:pt x="263" y="400"/>
                  <a:pt x="263" y="393"/>
                </a:cubicBezTo>
                <a:lnTo>
                  <a:pt x="263" y="122"/>
                </a:lnTo>
                <a:cubicBezTo>
                  <a:pt x="263" y="115"/>
                  <a:pt x="266" y="111"/>
                  <a:pt x="270" y="114"/>
                </a:cubicBezTo>
                <a:close/>
                <a:moveTo>
                  <a:pt x="322" y="145"/>
                </a:moveTo>
                <a:lnTo>
                  <a:pt x="486" y="124"/>
                </a:lnTo>
                <a:cubicBezTo>
                  <a:pt x="500" y="122"/>
                  <a:pt x="511" y="131"/>
                  <a:pt x="511" y="145"/>
                </a:cubicBezTo>
                <a:lnTo>
                  <a:pt x="511" y="378"/>
                </a:lnTo>
                <a:cubicBezTo>
                  <a:pt x="511" y="391"/>
                  <a:pt x="500" y="404"/>
                  <a:pt x="486" y="406"/>
                </a:cubicBezTo>
                <a:lnTo>
                  <a:pt x="322" y="426"/>
                </a:lnTo>
                <a:lnTo>
                  <a:pt x="322" y="145"/>
                </a:lnTo>
                <a:close/>
                <a:moveTo>
                  <a:pt x="354" y="183"/>
                </a:moveTo>
                <a:lnTo>
                  <a:pt x="481" y="166"/>
                </a:lnTo>
                <a:lnTo>
                  <a:pt x="481" y="224"/>
                </a:lnTo>
                <a:lnTo>
                  <a:pt x="354" y="240"/>
                </a:lnTo>
                <a:lnTo>
                  <a:pt x="354" y="183"/>
                </a:lnTo>
                <a:close/>
                <a:moveTo>
                  <a:pt x="221" y="56"/>
                </a:moveTo>
                <a:lnTo>
                  <a:pt x="384" y="35"/>
                </a:lnTo>
                <a:cubicBezTo>
                  <a:pt x="398" y="33"/>
                  <a:pt x="410" y="43"/>
                  <a:pt x="410" y="56"/>
                </a:cubicBezTo>
                <a:lnTo>
                  <a:pt x="410" y="63"/>
                </a:lnTo>
                <a:lnTo>
                  <a:pt x="255" y="83"/>
                </a:lnTo>
                <a:cubicBezTo>
                  <a:pt x="244" y="86"/>
                  <a:pt x="240" y="93"/>
                  <a:pt x="240" y="107"/>
                </a:cubicBezTo>
                <a:lnTo>
                  <a:pt x="240" y="335"/>
                </a:lnTo>
                <a:lnTo>
                  <a:pt x="221" y="338"/>
                </a:lnTo>
                <a:lnTo>
                  <a:pt x="221" y="56"/>
                </a:lnTo>
                <a:close/>
                <a:moveTo>
                  <a:pt x="101" y="188"/>
                </a:moveTo>
                <a:lnTo>
                  <a:pt x="134" y="188"/>
                </a:lnTo>
                <a:lnTo>
                  <a:pt x="134" y="135"/>
                </a:lnTo>
                <a:lnTo>
                  <a:pt x="104" y="135"/>
                </a:lnTo>
                <a:cubicBezTo>
                  <a:pt x="76" y="135"/>
                  <a:pt x="54" y="158"/>
                  <a:pt x="54" y="186"/>
                </a:cubicBezTo>
                <a:lnTo>
                  <a:pt x="54" y="467"/>
                </a:lnTo>
                <a:cubicBezTo>
                  <a:pt x="54" y="490"/>
                  <a:pt x="69" y="509"/>
                  <a:pt x="90" y="515"/>
                </a:cubicBezTo>
                <a:lnTo>
                  <a:pt x="90" y="515"/>
                </a:lnTo>
                <a:lnTo>
                  <a:pt x="0" y="586"/>
                </a:lnTo>
                <a:lnTo>
                  <a:pt x="0" y="630"/>
                </a:lnTo>
                <a:lnTo>
                  <a:pt x="678" y="630"/>
                </a:lnTo>
                <a:lnTo>
                  <a:pt x="678" y="586"/>
                </a:lnTo>
                <a:lnTo>
                  <a:pt x="582" y="516"/>
                </a:lnTo>
                <a:cubicBezTo>
                  <a:pt x="604" y="511"/>
                  <a:pt x="621" y="491"/>
                  <a:pt x="621" y="467"/>
                </a:cubicBezTo>
                <a:lnTo>
                  <a:pt x="621" y="186"/>
                </a:lnTo>
                <a:cubicBezTo>
                  <a:pt x="621" y="158"/>
                  <a:pt x="598" y="135"/>
                  <a:pt x="571" y="135"/>
                </a:cubicBezTo>
                <a:lnTo>
                  <a:pt x="541" y="135"/>
                </a:lnTo>
                <a:lnTo>
                  <a:pt x="541" y="188"/>
                </a:lnTo>
                <a:lnTo>
                  <a:pt x="573" y="188"/>
                </a:lnTo>
                <a:lnTo>
                  <a:pt x="573" y="474"/>
                </a:lnTo>
                <a:lnTo>
                  <a:pt x="101" y="474"/>
                </a:lnTo>
                <a:lnTo>
                  <a:pt x="101" y="188"/>
                </a:lnTo>
                <a:close/>
              </a:path>
            </a:pathLst>
          </a:cu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a0da"/>
              </a:solidFill>
              <a:latin typeface="Arial"/>
            </a:endParaRPr>
          </a:p>
        </p:txBody>
      </p:sp>
      <p:sp>
        <p:nvSpPr>
          <p:cNvPr id="313" name="TextBox 42"/>
          <p:cNvSpPr/>
          <p:nvPr/>
        </p:nvSpPr>
        <p:spPr>
          <a:xfrm>
            <a:off x="1258920" y="168120"/>
            <a:ext cx="36496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d4d4d"/>
                </a:solidFill>
                <a:latin typeface="微软雅黑"/>
                <a:ea typeface="微软雅黑"/>
              </a:rPr>
              <a:t>科研相关</a:t>
            </a:r>
            <a:endParaRPr b="0" lang="en-US" sz="2800" spc="-1" strike="noStrike">
              <a:solidFill>
                <a:srgbClr val="1aa0da"/>
              </a:solidFill>
              <a:latin typeface="Arial"/>
            </a:endParaRPr>
          </a:p>
        </p:txBody>
      </p:sp>
      <p:sp>
        <p:nvSpPr>
          <p:cNvPr id="314" name="Freeform 5"/>
          <p:cNvSpPr/>
          <p:nvPr/>
        </p:nvSpPr>
        <p:spPr>
          <a:xfrm>
            <a:off x="704880" y="138240"/>
            <a:ext cx="441360" cy="525240"/>
          </a:xfrm>
          <a:custGeom>
            <a:avLst/>
            <a:gdLst/>
            <a:ahLst/>
            <a:rect l="l" t="t" r="r" b="b"/>
            <a:pathLst>
              <a:path w="537" h="623">
                <a:moveTo>
                  <a:pt x="269" y="0"/>
                </a:moveTo>
                <a:lnTo>
                  <a:pt x="403" y="78"/>
                </a:lnTo>
                <a:lnTo>
                  <a:pt x="537" y="156"/>
                </a:lnTo>
                <a:lnTo>
                  <a:pt x="537" y="311"/>
                </a:lnTo>
                <a:lnTo>
                  <a:pt x="537" y="467"/>
                </a:lnTo>
                <a:lnTo>
                  <a:pt x="403" y="545"/>
                </a:lnTo>
                <a:lnTo>
                  <a:pt x="269" y="623"/>
                </a:lnTo>
                <a:lnTo>
                  <a:pt x="134" y="545"/>
                </a:lnTo>
                <a:lnTo>
                  <a:pt x="0" y="467"/>
                </a:lnTo>
                <a:lnTo>
                  <a:pt x="0" y="311"/>
                </a:lnTo>
                <a:lnTo>
                  <a:pt x="0" y="156"/>
                </a:lnTo>
                <a:lnTo>
                  <a:pt x="134" y="78"/>
                </a:lnTo>
                <a:lnTo>
                  <a:pt x="269" y="0"/>
                </a:lnTo>
                <a:close/>
                <a:moveTo>
                  <a:pt x="269" y="53"/>
                </a:moveTo>
                <a:lnTo>
                  <a:pt x="380" y="117"/>
                </a:lnTo>
                <a:lnTo>
                  <a:pt x="492" y="182"/>
                </a:lnTo>
                <a:lnTo>
                  <a:pt x="492" y="311"/>
                </a:lnTo>
                <a:lnTo>
                  <a:pt x="492" y="441"/>
                </a:lnTo>
                <a:lnTo>
                  <a:pt x="380" y="505"/>
                </a:lnTo>
                <a:lnTo>
                  <a:pt x="269" y="570"/>
                </a:lnTo>
                <a:lnTo>
                  <a:pt x="157" y="505"/>
                </a:lnTo>
                <a:lnTo>
                  <a:pt x="46" y="441"/>
                </a:lnTo>
                <a:lnTo>
                  <a:pt x="46" y="311"/>
                </a:lnTo>
                <a:lnTo>
                  <a:pt x="46" y="182"/>
                </a:lnTo>
                <a:lnTo>
                  <a:pt x="157" y="117"/>
                </a:lnTo>
                <a:lnTo>
                  <a:pt x="269" y="53"/>
                </a:lnTo>
                <a:close/>
                <a:moveTo>
                  <a:pt x="215" y="455"/>
                </a:moveTo>
                <a:lnTo>
                  <a:pt x="367" y="455"/>
                </a:lnTo>
                <a:cubicBezTo>
                  <a:pt x="371" y="455"/>
                  <a:pt x="375" y="458"/>
                  <a:pt x="375" y="463"/>
                </a:cubicBezTo>
                <a:cubicBezTo>
                  <a:pt x="375" y="467"/>
                  <a:pt x="371" y="471"/>
                  <a:pt x="367" y="471"/>
                </a:cubicBezTo>
                <a:lnTo>
                  <a:pt x="215" y="471"/>
                </a:lnTo>
                <a:cubicBezTo>
                  <a:pt x="211" y="471"/>
                  <a:pt x="207" y="467"/>
                  <a:pt x="207" y="463"/>
                </a:cubicBezTo>
                <a:cubicBezTo>
                  <a:pt x="207" y="458"/>
                  <a:pt x="211" y="455"/>
                  <a:pt x="215" y="455"/>
                </a:cubicBezTo>
                <a:close/>
                <a:moveTo>
                  <a:pt x="218" y="380"/>
                </a:moveTo>
                <a:lnTo>
                  <a:pt x="302" y="242"/>
                </a:lnTo>
                <a:lnTo>
                  <a:pt x="331" y="260"/>
                </a:lnTo>
                <a:lnTo>
                  <a:pt x="248" y="398"/>
                </a:lnTo>
                <a:lnTo>
                  <a:pt x="218" y="380"/>
                </a:lnTo>
                <a:close/>
                <a:moveTo>
                  <a:pt x="159" y="344"/>
                </a:moveTo>
                <a:lnTo>
                  <a:pt x="243" y="207"/>
                </a:lnTo>
                <a:lnTo>
                  <a:pt x="272" y="224"/>
                </a:lnTo>
                <a:lnTo>
                  <a:pt x="189" y="362"/>
                </a:lnTo>
                <a:lnTo>
                  <a:pt x="159" y="344"/>
                </a:lnTo>
                <a:close/>
                <a:moveTo>
                  <a:pt x="146" y="456"/>
                </a:moveTo>
                <a:lnTo>
                  <a:pt x="154" y="387"/>
                </a:lnTo>
                <a:lnTo>
                  <a:pt x="211" y="422"/>
                </a:lnTo>
                <a:lnTo>
                  <a:pt x="155" y="461"/>
                </a:lnTo>
                <a:cubicBezTo>
                  <a:pt x="149" y="465"/>
                  <a:pt x="145" y="463"/>
                  <a:pt x="146" y="456"/>
                </a:cubicBezTo>
                <a:close/>
                <a:moveTo>
                  <a:pt x="266" y="168"/>
                </a:moveTo>
                <a:lnTo>
                  <a:pt x="253" y="188"/>
                </a:lnTo>
                <a:lnTo>
                  <a:pt x="342" y="242"/>
                </a:lnTo>
                <a:lnTo>
                  <a:pt x="354" y="222"/>
                </a:lnTo>
                <a:lnTo>
                  <a:pt x="266" y="168"/>
                </a:lnTo>
                <a:close/>
                <a:moveTo>
                  <a:pt x="285" y="138"/>
                </a:moveTo>
                <a:cubicBezTo>
                  <a:pt x="290" y="129"/>
                  <a:pt x="302" y="126"/>
                  <a:pt x="311" y="131"/>
                </a:cubicBezTo>
                <a:lnTo>
                  <a:pt x="366" y="165"/>
                </a:lnTo>
                <a:cubicBezTo>
                  <a:pt x="375" y="170"/>
                  <a:pt x="378" y="182"/>
                  <a:pt x="373" y="191"/>
                </a:cubicBezTo>
                <a:lnTo>
                  <a:pt x="365" y="204"/>
                </a:lnTo>
                <a:lnTo>
                  <a:pt x="277" y="150"/>
                </a:lnTo>
                <a:lnTo>
                  <a:pt x="285" y="138"/>
                </a:lnTo>
                <a:close/>
              </a:path>
            </a:pathLst>
          </a:cu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a0da"/>
              </a:solidFill>
              <a:latin typeface="Arial"/>
            </a:endParaRPr>
          </a:p>
        </p:txBody>
      </p:sp>
      <p:sp>
        <p:nvSpPr>
          <p:cNvPr id="315" name="直接连接符 24"/>
          <p:cNvSpPr/>
          <p:nvPr/>
        </p:nvSpPr>
        <p:spPr>
          <a:xfrm>
            <a:off x="1258920" y="598320"/>
            <a:ext cx="9569520" cy="0"/>
          </a:xfrm>
          <a:prstGeom prst="line">
            <a:avLst/>
          </a:prstGeom>
          <a:ln w="9360">
            <a:solidFill>
              <a:srgbClr val="949494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aa0da"/>
              </a:solidFill>
              <a:latin typeface="Arial"/>
            </a:endParaRPr>
          </a:p>
        </p:txBody>
      </p:sp>
      <p:pic>
        <p:nvPicPr>
          <p:cNvPr id="316" name="图片 3" descr="《跨学科阅读》录稿证明"/>
          <p:cNvPicPr/>
          <p:nvPr/>
        </p:nvPicPr>
        <p:blipFill>
          <a:blip r:embed="rId1"/>
          <a:srcRect l="6747" t="2633" r="5824" b="19931"/>
          <a:stretch/>
        </p:blipFill>
        <p:spPr>
          <a:xfrm>
            <a:off x="5877000" y="2232000"/>
            <a:ext cx="3522600" cy="437832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TextBox 7"/>
          <p:cNvSpPr/>
          <p:nvPr/>
        </p:nvSpPr>
        <p:spPr>
          <a:xfrm>
            <a:off x="3978360" y="1309680"/>
            <a:ext cx="7753320" cy="38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</a:t>
            </a:r>
            <a:r>
              <a:rPr b="0" lang="zh-CN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论文被评为华东师范大学“技术时代的人文学术”跨学科博士生学术论坛优秀论文三等奖；</a:t>
            </a:r>
            <a:endParaRPr b="0" lang="en-US" sz="2000" spc="-1" strike="noStrike">
              <a:solidFill>
                <a:srgbClr val="1aa0da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aa0da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《 </a:t>
            </a:r>
            <a:r>
              <a:rPr b="0" lang="zh-CN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&lt;</a:t>
            </a:r>
            <a:r>
              <a:rPr b="0" lang="zh-CN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棋王</a:t>
            </a:r>
            <a:r>
              <a:rPr b="0" lang="zh-CN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&gt;</a:t>
            </a:r>
            <a:r>
              <a:rPr b="0" lang="zh-CN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中的棋、食与生 》发表于《俪人教师》；</a:t>
            </a:r>
            <a:endParaRPr b="0" lang="en-US" sz="2000" spc="-1" strike="noStrike">
              <a:solidFill>
                <a:srgbClr val="1aa0da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aa0da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《 </a:t>
            </a:r>
            <a:r>
              <a:rPr b="0" lang="zh-CN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&lt;</a:t>
            </a:r>
            <a:r>
              <a:rPr b="0" lang="zh-CN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伤逝</a:t>
            </a:r>
            <a:r>
              <a:rPr b="0" lang="zh-CN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&gt;</a:t>
            </a:r>
            <a:r>
              <a:rPr b="0" lang="zh-CN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：时代启蒙之艰 》发表于《青春岁月》；</a:t>
            </a:r>
            <a:endParaRPr b="0" lang="en-US" sz="2000" spc="-1" strike="noStrike">
              <a:solidFill>
                <a:srgbClr val="1aa0da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aa0da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2016</a:t>
            </a:r>
            <a:r>
              <a:rPr b="0" lang="zh-CN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年主持“银种子”校级科研课题项目，顺利结项；</a:t>
            </a:r>
            <a:endParaRPr b="0" lang="en-US" sz="2000" spc="-1" strike="noStrike">
              <a:solidFill>
                <a:srgbClr val="1aa0da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aa0da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2016</a:t>
            </a:r>
            <a:r>
              <a:rPr b="0" lang="zh-CN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年下乡阳春市调研报告被评为校级暑期社会实践一等奖与“优秀实践成果”；</a:t>
            </a:r>
            <a:endParaRPr b="0" lang="en-US" sz="2000" spc="-1" strike="noStrike">
              <a:solidFill>
                <a:srgbClr val="1aa0da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aa0da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aa0da"/>
              </a:solidFill>
              <a:latin typeface="Arial"/>
            </a:endParaRPr>
          </a:p>
        </p:txBody>
      </p:sp>
      <p:sp>
        <p:nvSpPr>
          <p:cNvPr id="318" name="Oval 10"/>
          <p:cNvSpPr/>
          <p:nvPr/>
        </p:nvSpPr>
        <p:spPr>
          <a:xfrm>
            <a:off x="3502080" y="1517760"/>
            <a:ext cx="463320" cy="463320"/>
          </a:xfrm>
          <a:prstGeom prst="ellipse">
            <a:avLst/>
          </a:prstGeom>
          <a:solidFill>
            <a:srgbClr val="1aa0da"/>
          </a:solidFill>
          <a:ln w="19080">
            <a:solidFill>
              <a:srgbClr val="ffffff"/>
            </a:solidFill>
            <a:round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8f8f8"/>
                </a:solidFill>
                <a:latin typeface="Lifeline JL"/>
                <a:ea typeface="微软雅黑"/>
              </a:rPr>
              <a:t>2</a:t>
            </a:r>
            <a:endParaRPr b="0" lang="en-US" sz="1800" spc="-1" strike="noStrike">
              <a:solidFill>
                <a:srgbClr val="1aa0da"/>
              </a:solidFill>
              <a:latin typeface="Arial"/>
            </a:endParaRPr>
          </a:p>
        </p:txBody>
      </p:sp>
      <p:sp>
        <p:nvSpPr>
          <p:cNvPr id="319" name="Oval 13"/>
          <p:cNvSpPr/>
          <p:nvPr/>
        </p:nvSpPr>
        <p:spPr>
          <a:xfrm>
            <a:off x="3513240" y="2486160"/>
            <a:ext cx="465120" cy="463320"/>
          </a:xfrm>
          <a:prstGeom prst="ellipse">
            <a:avLst/>
          </a:prstGeom>
          <a:solidFill>
            <a:srgbClr val="1aa0da"/>
          </a:solidFill>
          <a:ln w="19080">
            <a:solidFill>
              <a:srgbClr val="ffffff"/>
            </a:solidFill>
            <a:round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8f8f8"/>
                </a:solidFill>
                <a:latin typeface="Lifeline JL"/>
                <a:ea typeface="微软雅黑"/>
              </a:rPr>
              <a:t>3</a:t>
            </a:r>
            <a:endParaRPr b="0" lang="en-US" sz="1800" spc="-1" strike="noStrike">
              <a:solidFill>
                <a:srgbClr val="1aa0da"/>
              </a:solidFill>
              <a:latin typeface="Arial"/>
            </a:endParaRPr>
          </a:p>
        </p:txBody>
      </p:sp>
      <p:sp>
        <p:nvSpPr>
          <p:cNvPr id="320" name="Oval 13"/>
          <p:cNvSpPr/>
          <p:nvPr/>
        </p:nvSpPr>
        <p:spPr>
          <a:xfrm>
            <a:off x="3513240" y="3211560"/>
            <a:ext cx="465120" cy="463680"/>
          </a:xfrm>
          <a:prstGeom prst="ellipse">
            <a:avLst/>
          </a:prstGeom>
          <a:solidFill>
            <a:srgbClr val="1aa0da"/>
          </a:solidFill>
          <a:ln w="19080">
            <a:solidFill>
              <a:srgbClr val="ffffff"/>
            </a:solidFill>
            <a:round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8f8f8"/>
                </a:solidFill>
                <a:latin typeface="Lifeline JL"/>
                <a:ea typeface="微软雅黑"/>
              </a:rPr>
              <a:t>4</a:t>
            </a:r>
            <a:endParaRPr b="0" lang="en-US" sz="1800" spc="-1" strike="noStrike">
              <a:solidFill>
                <a:srgbClr val="1aa0da"/>
              </a:solidFill>
              <a:latin typeface="Arial"/>
            </a:endParaRPr>
          </a:p>
        </p:txBody>
      </p:sp>
      <p:sp>
        <p:nvSpPr>
          <p:cNvPr id="321" name="Oval 13"/>
          <p:cNvSpPr/>
          <p:nvPr/>
        </p:nvSpPr>
        <p:spPr>
          <a:xfrm>
            <a:off x="3513240" y="3832200"/>
            <a:ext cx="463320" cy="463680"/>
          </a:xfrm>
          <a:prstGeom prst="ellipse">
            <a:avLst/>
          </a:prstGeom>
          <a:solidFill>
            <a:srgbClr val="1aa0da"/>
          </a:solidFill>
          <a:ln w="19080">
            <a:solidFill>
              <a:srgbClr val="ffffff"/>
            </a:solidFill>
            <a:round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8f8f8"/>
                </a:solidFill>
                <a:latin typeface="Lifeline JL"/>
                <a:ea typeface="微软雅黑"/>
              </a:rPr>
              <a:t>5</a:t>
            </a:r>
            <a:endParaRPr b="0" lang="en-US" sz="1800" spc="-1" strike="noStrike">
              <a:solidFill>
                <a:srgbClr val="1aa0da"/>
              </a:solidFill>
              <a:latin typeface="Arial"/>
            </a:endParaRPr>
          </a:p>
        </p:txBody>
      </p:sp>
      <p:sp>
        <p:nvSpPr>
          <p:cNvPr id="322" name="Oval 13"/>
          <p:cNvSpPr/>
          <p:nvPr/>
        </p:nvSpPr>
        <p:spPr>
          <a:xfrm>
            <a:off x="3513240" y="4624560"/>
            <a:ext cx="465120" cy="461880"/>
          </a:xfrm>
          <a:prstGeom prst="ellipse">
            <a:avLst/>
          </a:prstGeom>
          <a:solidFill>
            <a:srgbClr val="1aa0da"/>
          </a:solidFill>
          <a:ln w="19080">
            <a:solidFill>
              <a:srgbClr val="ffffff"/>
            </a:solidFill>
            <a:round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8f8f8"/>
                </a:solidFill>
                <a:latin typeface="Lifeline JL"/>
                <a:ea typeface="微软雅黑"/>
              </a:rPr>
              <a:t>6</a:t>
            </a:r>
            <a:endParaRPr b="0" lang="en-US" sz="1800" spc="-1" strike="noStrike">
              <a:solidFill>
                <a:srgbClr val="1aa0da"/>
              </a:solidFill>
              <a:latin typeface="Arial"/>
            </a:endParaRPr>
          </a:p>
        </p:txBody>
      </p:sp>
      <p:sp>
        <p:nvSpPr>
          <p:cNvPr id="323" name="Freeform 5"/>
          <p:cNvSpPr/>
          <p:nvPr/>
        </p:nvSpPr>
        <p:spPr>
          <a:xfrm rot="924600">
            <a:off x="-441000" y="2076120"/>
            <a:ext cx="3759120" cy="3657600"/>
          </a:xfrm>
          <a:custGeom>
            <a:avLst/>
            <a:gdLst/>
            <a:ahLst/>
            <a:rect l="l" t="t" r="r" b="b"/>
            <a:pathLst>
              <a:path w="4280" h="4280">
                <a:moveTo>
                  <a:pt x="50" y="3831"/>
                </a:moveTo>
                <a:cubicBezTo>
                  <a:pt x="0" y="3881"/>
                  <a:pt x="4" y="3966"/>
                  <a:pt x="59" y="4021"/>
                </a:cubicBezTo>
                <a:lnTo>
                  <a:pt x="259" y="4221"/>
                </a:lnTo>
                <a:cubicBezTo>
                  <a:pt x="314" y="4276"/>
                  <a:pt x="399" y="4280"/>
                  <a:pt x="449" y="4230"/>
                </a:cubicBezTo>
                <a:lnTo>
                  <a:pt x="1047" y="3632"/>
                </a:lnTo>
                <a:cubicBezTo>
                  <a:pt x="1096" y="3583"/>
                  <a:pt x="1092" y="3498"/>
                  <a:pt x="1038" y="3443"/>
                </a:cubicBezTo>
                <a:lnTo>
                  <a:pt x="837" y="3242"/>
                </a:lnTo>
                <a:cubicBezTo>
                  <a:pt x="782" y="3188"/>
                  <a:pt x="697" y="3184"/>
                  <a:pt x="648" y="3233"/>
                </a:cubicBezTo>
                <a:lnTo>
                  <a:pt x="50" y="3831"/>
                </a:lnTo>
                <a:close/>
                <a:moveTo>
                  <a:pt x="2717" y="3126"/>
                </a:moveTo>
                <a:cubicBezTo>
                  <a:pt x="3134" y="3126"/>
                  <a:pt x="3527" y="2964"/>
                  <a:pt x="3822" y="2669"/>
                </a:cubicBezTo>
                <a:cubicBezTo>
                  <a:pt x="4117" y="2373"/>
                  <a:pt x="4280" y="1981"/>
                  <a:pt x="4280" y="1563"/>
                </a:cubicBezTo>
                <a:cubicBezTo>
                  <a:pt x="4280" y="1146"/>
                  <a:pt x="4117" y="753"/>
                  <a:pt x="3822" y="458"/>
                </a:cubicBezTo>
                <a:cubicBezTo>
                  <a:pt x="3527" y="163"/>
                  <a:pt x="3134" y="0"/>
                  <a:pt x="2717" y="0"/>
                </a:cubicBezTo>
                <a:cubicBezTo>
                  <a:pt x="2299" y="0"/>
                  <a:pt x="1907" y="163"/>
                  <a:pt x="1611" y="458"/>
                </a:cubicBezTo>
                <a:cubicBezTo>
                  <a:pt x="1076" y="993"/>
                  <a:pt x="1011" y="1824"/>
                  <a:pt x="1417" y="2431"/>
                </a:cubicBezTo>
                <a:cubicBezTo>
                  <a:pt x="1399" y="2438"/>
                  <a:pt x="1383" y="2448"/>
                  <a:pt x="1369" y="2462"/>
                </a:cubicBezTo>
                <a:lnTo>
                  <a:pt x="1360" y="2472"/>
                </a:lnTo>
                <a:cubicBezTo>
                  <a:pt x="1305" y="2526"/>
                  <a:pt x="1305" y="2615"/>
                  <a:pt x="1360" y="2670"/>
                </a:cubicBezTo>
                <a:lnTo>
                  <a:pt x="1610" y="2920"/>
                </a:lnTo>
                <a:cubicBezTo>
                  <a:pt x="1665" y="2975"/>
                  <a:pt x="1754" y="2975"/>
                  <a:pt x="1808" y="2920"/>
                </a:cubicBezTo>
                <a:lnTo>
                  <a:pt x="1818" y="2911"/>
                </a:lnTo>
                <a:cubicBezTo>
                  <a:pt x="1832" y="2897"/>
                  <a:pt x="1842" y="2881"/>
                  <a:pt x="1849" y="2864"/>
                </a:cubicBezTo>
                <a:cubicBezTo>
                  <a:pt x="2104" y="3035"/>
                  <a:pt x="2403" y="3126"/>
                  <a:pt x="2717" y="3126"/>
                </a:cubicBezTo>
                <a:close/>
                <a:moveTo>
                  <a:pt x="2717" y="291"/>
                </a:moveTo>
                <a:cubicBezTo>
                  <a:pt x="3057" y="291"/>
                  <a:pt x="3376" y="423"/>
                  <a:pt x="3617" y="663"/>
                </a:cubicBezTo>
                <a:cubicBezTo>
                  <a:pt x="3857" y="904"/>
                  <a:pt x="3989" y="1223"/>
                  <a:pt x="3989" y="1563"/>
                </a:cubicBezTo>
                <a:cubicBezTo>
                  <a:pt x="3989" y="1903"/>
                  <a:pt x="3857" y="2223"/>
                  <a:pt x="3617" y="2463"/>
                </a:cubicBezTo>
                <a:cubicBezTo>
                  <a:pt x="3376" y="2703"/>
                  <a:pt x="3057" y="2836"/>
                  <a:pt x="2717" y="2836"/>
                </a:cubicBezTo>
                <a:cubicBezTo>
                  <a:pt x="2377" y="2836"/>
                  <a:pt x="2057" y="2703"/>
                  <a:pt x="1817" y="2463"/>
                </a:cubicBezTo>
                <a:cubicBezTo>
                  <a:pt x="1321" y="1967"/>
                  <a:pt x="1321" y="1160"/>
                  <a:pt x="1817" y="663"/>
                </a:cubicBezTo>
                <a:cubicBezTo>
                  <a:pt x="2057" y="423"/>
                  <a:pt x="2377" y="291"/>
                  <a:pt x="2717" y="291"/>
                </a:cubicBezTo>
                <a:close/>
                <a:moveTo>
                  <a:pt x="1036" y="2894"/>
                </a:moveTo>
                <a:cubicBezTo>
                  <a:pt x="940" y="2991"/>
                  <a:pt x="940" y="3147"/>
                  <a:pt x="1036" y="3244"/>
                </a:cubicBezTo>
                <a:cubicBezTo>
                  <a:pt x="1133" y="3340"/>
                  <a:pt x="1289" y="3340"/>
                  <a:pt x="1386" y="3244"/>
                </a:cubicBezTo>
                <a:cubicBezTo>
                  <a:pt x="1482" y="3147"/>
                  <a:pt x="1482" y="2991"/>
                  <a:pt x="1386" y="2894"/>
                </a:cubicBezTo>
                <a:cubicBezTo>
                  <a:pt x="1289" y="2798"/>
                  <a:pt x="1133" y="2798"/>
                  <a:pt x="1036" y="2894"/>
                </a:cubicBezTo>
                <a:close/>
              </a:path>
            </a:pathLst>
          </a:custGeom>
          <a:solidFill>
            <a:srgbClr val="1aa0da"/>
          </a:solidFill>
          <a:ln w="3816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a0da"/>
              </a:solidFill>
              <a:latin typeface="Arial"/>
            </a:endParaRPr>
          </a:p>
        </p:txBody>
      </p:sp>
      <p:sp>
        <p:nvSpPr>
          <p:cNvPr id="324" name="Freeform 26"/>
          <p:cNvSpPr/>
          <p:nvPr/>
        </p:nvSpPr>
        <p:spPr>
          <a:xfrm>
            <a:off x="1258920" y="2684520"/>
            <a:ext cx="1633680" cy="1515960"/>
          </a:xfrm>
          <a:custGeom>
            <a:avLst/>
            <a:gdLst/>
            <a:ahLst/>
            <a:rect l="l" t="t" r="r" b="b"/>
            <a:pathLst>
              <a:path w="678" h="630">
                <a:moveTo>
                  <a:pt x="301" y="551"/>
                </a:moveTo>
                <a:lnTo>
                  <a:pt x="373" y="551"/>
                </a:lnTo>
                <a:lnTo>
                  <a:pt x="398" y="593"/>
                </a:lnTo>
                <a:lnTo>
                  <a:pt x="280" y="593"/>
                </a:lnTo>
                <a:lnTo>
                  <a:pt x="301" y="551"/>
                </a:lnTo>
                <a:close/>
                <a:moveTo>
                  <a:pt x="190" y="21"/>
                </a:moveTo>
                <a:lnTo>
                  <a:pt x="207" y="32"/>
                </a:lnTo>
                <a:cubicBezTo>
                  <a:pt x="208" y="32"/>
                  <a:pt x="209" y="33"/>
                  <a:pt x="210" y="34"/>
                </a:cubicBezTo>
                <a:lnTo>
                  <a:pt x="366" y="14"/>
                </a:lnTo>
                <a:cubicBezTo>
                  <a:pt x="362" y="5"/>
                  <a:pt x="353" y="0"/>
                  <a:pt x="342" y="1"/>
                </a:cubicBezTo>
                <a:lnTo>
                  <a:pt x="190" y="21"/>
                </a:lnTo>
                <a:close/>
                <a:moveTo>
                  <a:pt x="169" y="25"/>
                </a:moveTo>
                <a:lnTo>
                  <a:pt x="199" y="44"/>
                </a:lnTo>
                <a:cubicBezTo>
                  <a:pt x="203" y="47"/>
                  <a:pt x="207" y="55"/>
                  <a:pt x="207" y="62"/>
                </a:cubicBezTo>
                <a:lnTo>
                  <a:pt x="207" y="333"/>
                </a:lnTo>
                <a:cubicBezTo>
                  <a:pt x="207" y="340"/>
                  <a:pt x="203" y="343"/>
                  <a:pt x="199" y="340"/>
                </a:cubicBezTo>
                <a:lnTo>
                  <a:pt x="169" y="322"/>
                </a:lnTo>
                <a:cubicBezTo>
                  <a:pt x="165" y="319"/>
                  <a:pt x="161" y="311"/>
                  <a:pt x="161" y="304"/>
                </a:cubicBezTo>
                <a:lnTo>
                  <a:pt x="161" y="33"/>
                </a:lnTo>
                <a:cubicBezTo>
                  <a:pt x="161" y="26"/>
                  <a:pt x="165" y="23"/>
                  <a:pt x="169" y="25"/>
                </a:cubicBezTo>
                <a:close/>
                <a:moveTo>
                  <a:pt x="291" y="109"/>
                </a:moveTo>
                <a:lnTo>
                  <a:pt x="309" y="120"/>
                </a:lnTo>
                <a:cubicBezTo>
                  <a:pt x="310" y="121"/>
                  <a:pt x="310" y="122"/>
                  <a:pt x="311" y="122"/>
                </a:cubicBezTo>
                <a:lnTo>
                  <a:pt x="467" y="102"/>
                </a:lnTo>
                <a:cubicBezTo>
                  <a:pt x="464" y="94"/>
                  <a:pt x="454" y="88"/>
                  <a:pt x="443" y="90"/>
                </a:cubicBezTo>
                <a:lnTo>
                  <a:pt x="291" y="109"/>
                </a:lnTo>
                <a:close/>
                <a:moveTo>
                  <a:pt x="270" y="114"/>
                </a:moveTo>
                <a:lnTo>
                  <a:pt x="300" y="133"/>
                </a:lnTo>
                <a:cubicBezTo>
                  <a:pt x="304" y="136"/>
                  <a:pt x="308" y="144"/>
                  <a:pt x="308" y="151"/>
                </a:cubicBezTo>
                <a:lnTo>
                  <a:pt x="308" y="422"/>
                </a:lnTo>
                <a:cubicBezTo>
                  <a:pt x="308" y="428"/>
                  <a:pt x="304" y="432"/>
                  <a:pt x="300" y="429"/>
                </a:cubicBezTo>
                <a:lnTo>
                  <a:pt x="270" y="410"/>
                </a:lnTo>
                <a:cubicBezTo>
                  <a:pt x="266" y="407"/>
                  <a:pt x="263" y="400"/>
                  <a:pt x="263" y="393"/>
                </a:cubicBezTo>
                <a:lnTo>
                  <a:pt x="263" y="122"/>
                </a:lnTo>
                <a:cubicBezTo>
                  <a:pt x="263" y="115"/>
                  <a:pt x="266" y="111"/>
                  <a:pt x="270" y="114"/>
                </a:cubicBezTo>
                <a:close/>
                <a:moveTo>
                  <a:pt x="322" y="145"/>
                </a:moveTo>
                <a:lnTo>
                  <a:pt x="486" y="124"/>
                </a:lnTo>
                <a:cubicBezTo>
                  <a:pt x="500" y="122"/>
                  <a:pt x="511" y="131"/>
                  <a:pt x="511" y="145"/>
                </a:cubicBezTo>
                <a:lnTo>
                  <a:pt x="511" y="378"/>
                </a:lnTo>
                <a:cubicBezTo>
                  <a:pt x="511" y="391"/>
                  <a:pt x="500" y="404"/>
                  <a:pt x="486" y="406"/>
                </a:cubicBezTo>
                <a:lnTo>
                  <a:pt x="322" y="426"/>
                </a:lnTo>
                <a:lnTo>
                  <a:pt x="322" y="145"/>
                </a:lnTo>
                <a:close/>
                <a:moveTo>
                  <a:pt x="354" y="183"/>
                </a:moveTo>
                <a:lnTo>
                  <a:pt x="481" y="166"/>
                </a:lnTo>
                <a:lnTo>
                  <a:pt x="481" y="224"/>
                </a:lnTo>
                <a:lnTo>
                  <a:pt x="354" y="240"/>
                </a:lnTo>
                <a:lnTo>
                  <a:pt x="354" y="183"/>
                </a:lnTo>
                <a:close/>
                <a:moveTo>
                  <a:pt x="221" y="56"/>
                </a:moveTo>
                <a:lnTo>
                  <a:pt x="384" y="35"/>
                </a:lnTo>
                <a:cubicBezTo>
                  <a:pt x="398" y="33"/>
                  <a:pt x="410" y="43"/>
                  <a:pt x="410" y="56"/>
                </a:cubicBezTo>
                <a:lnTo>
                  <a:pt x="410" y="63"/>
                </a:lnTo>
                <a:lnTo>
                  <a:pt x="255" y="83"/>
                </a:lnTo>
                <a:cubicBezTo>
                  <a:pt x="244" y="86"/>
                  <a:pt x="240" y="93"/>
                  <a:pt x="240" y="107"/>
                </a:cubicBezTo>
                <a:lnTo>
                  <a:pt x="240" y="335"/>
                </a:lnTo>
                <a:lnTo>
                  <a:pt x="221" y="338"/>
                </a:lnTo>
                <a:lnTo>
                  <a:pt x="221" y="56"/>
                </a:lnTo>
                <a:close/>
                <a:moveTo>
                  <a:pt x="101" y="188"/>
                </a:moveTo>
                <a:lnTo>
                  <a:pt x="134" y="188"/>
                </a:lnTo>
                <a:lnTo>
                  <a:pt x="134" y="135"/>
                </a:lnTo>
                <a:lnTo>
                  <a:pt x="104" y="135"/>
                </a:lnTo>
                <a:cubicBezTo>
                  <a:pt x="76" y="135"/>
                  <a:pt x="54" y="158"/>
                  <a:pt x="54" y="186"/>
                </a:cubicBezTo>
                <a:lnTo>
                  <a:pt x="54" y="467"/>
                </a:lnTo>
                <a:cubicBezTo>
                  <a:pt x="54" y="490"/>
                  <a:pt x="69" y="509"/>
                  <a:pt x="90" y="515"/>
                </a:cubicBezTo>
                <a:lnTo>
                  <a:pt x="90" y="515"/>
                </a:lnTo>
                <a:lnTo>
                  <a:pt x="0" y="586"/>
                </a:lnTo>
                <a:lnTo>
                  <a:pt x="0" y="630"/>
                </a:lnTo>
                <a:lnTo>
                  <a:pt x="678" y="630"/>
                </a:lnTo>
                <a:lnTo>
                  <a:pt x="678" y="586"/>
                </a:lnTo>
                <a:lnTo>
                  <a:pt x="582" y="516"/>
                </a:lnTo>
                <a:cubicBezTo>
                  <a:pt x="604" y="511"/>
                  <a:pt x="621" y="491"/>
                  <a:pt x="621" y="467"/>
                </a:cubicBezTo>
                <a:lnTo>
                  <a:pt x="621" y="186"/>
                </a:lnTo>
                <a:cubicBezTo>
                  <a:pt x="621" y="158"/>
                  <a:pt x="598" y="135"/>
                  <a:pt x="571" y="135"/>
                </a:cubicBezTo>
                <a:lnTo>
                  <a:pt x="541" y="135"/>
                </a:lnTo>
                <a:lnTo>
                  <a:pt x="541" y="188"/>
                </a:lnTo>
                <a:lnTo>
                  <a:pt x="573" y="188"/>
                </a:lnTo>
                <a:lnTo>
                  <a:pt x="573" y="474"/>
                </a:lnTo>
                <a:lnTo>
                  <a:pt x="101" y="474"/>
                </a:lnTo>
                <a:lnTo>
                  <a:pt x="101" y="188"/>
                </a:lnTo>
                <a:close/>
              </a:path>
            </a:pathLst>
          </a:cu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a0da"/>
              </a:solidFill>
              <a:latin typeface="Arial"/>
            </a:endParaRPr>
          </a:p>
        </p:txBody>
      </p:sp>
      <p:sp>
        <p:nvSpPr>
          <p:cNvPr id="325" name="TextBox 42"/>
          <p:cNvSpPr/>
          <p:nvPr/>
        </p:nvSpPr>
        <p:spPr>
          <a:xfrm>
            <a:off x="1258920" y="168120"/>
            <a:ext cx="36496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d4d4d"/>
                </a:solidFill>
                <a:latin typeface="微软雅黑"/>
                <a:ea typeface="微软雅黑"/>
              </a:rPr>
              <a:t>科研相关</a:t>
            </a:r>
            <a:endParaRPr b="0" lang="en-US" sz="2800" spc="-1" strike="noStrike">
              <a:solidFill>
                <a:srgbClr val="1aa0da"/>
              </a:solidFill>
              <a:latin typeface="Arial"/>
            </a:endParaRPr>
          </a:p>
        </p:txBody>
      </p:sp>
      <p:sp>
        <p:nvSpPr>
          <p:cNvPr id="326" name="Freeform 5"/>
          <p:cNvSpPr/>
          <p:nvPr/>
        </p:nvSpPr>
        <p:spPr>
          <a:xfrm>
            <a:off x="704880" y="138240"/>
            <a:ext cx="441360" cy="525240"/>
          </a:xfrm>
          <a:custGeom>
            <a:avLst/>
            <a:gdLst/>
            <a:ahLst/>
            <a:rect l="l" t="t" r="r" b="b"/>
            <a:pathLst>
              <a:path w="537" h="623">
                <a:moveTo>
                  <a:pt x="269" y="0"/>
                </a:moveTo>
                <a:lnTo>
                  <a:pt x="403" y="78"/>
                </a:lnTo>
                <a:lnTo>
                  <a:pt x="537" y="156"/>
                </a:lnTo>
                <a:lnTo>
                  <a:pt x="537" y="311"/>
                </a:lnTo>
                <a:lnTo>
                  <a:pt x="537" y="467"/>
                </a:lnTo>
                <a:lnTo>
                  <a:pt x="403" y="545"/>
                </a:lnTo>
                <a:lnTo>
                  <a:pt x="269" y="623"/>
                </a:lnTo>
                <a:lnTo>
                  <a:pt x="134" y="545"/>
                </a:lnTo>
                <a:lnTo>
                  <a:pt x="0" y="467"/>
                </a:lnTo>
                <a:lnTo>
                  <a:pt x="0" y="311"/>
                </a:lnTo>
                <a:lnTo>
                  <a:pt x="0" y="156"/>
                </a:lnTo>
                <a:lnTo>
                  <a:pt x="134" y="78"/>
                </a:lnTo>
                <a:lnTo>
                  <a:pt x="269" y="0"/>
                </a:lnTo>
                <a:close/>
                <a:moveTo>
                  <a:pt x="269" y="53"/>
                </a:moveTo>
                <a:lnTo>
                  <a:pt x="380" y="117"/>
                </a:lnTo>
                <a:lnTo>
                  <a:pt x="492" y="182"/>
                </a:lnTo>
                <a:lnTo>
                  <a:pt x="492" y="311"/>
                </a:lnTo>
                <a:lnTo>
                  <a:pt x="492" y="441"/>
                </a:lnTo>
                <a:lnTo>
                  <a:pt x="380" y="505"/>
                </a:lnTo>
                <a:lnTo>
                  <a:pt x="269" y="570"/>
                </a:lnTo>
                <a:lnTo>
                  <a:pt x="157" y="505"/>
                </a:lnTo>
                <a:lnTo>
                  <a:pt x="46" y="441"/>
                </a:lnTo>
                <a:lnTo>
                  <a:pt x="46" y="311"/>
                </a:lnTo>
                <a:lnTo>
                  <a:pt x="46" y="182"/>
                </a:lnTo>
                <a:lnTo>
                  <a:pt x="157" y="117"/>
                </a:lnTo>
                <a:lnTo>
                  <a:pt x="269" y="53"/>
                </a:lnTo>
                <a:close/>
                <a:moveTo>
                  <a:pt x="215" y="455"/>
                </a:moveTo>
                <a:lnTo>
                  <a:pt x="367" y="455"/>
                </a:lnTo>
                <a:cubicBezTo>
                  <a:pt x="371" y="455"/>
                  <a:pt x="375" y="458"/>
                  <a:pt x="375" y="463"/>
                </a:cubicBezTo>
                <a:cubicBezTo>
                  <a:pt x="375" y="467"/>
                  <a:pt x="371" y="471"/>
                  <a:pt x="367" y="471"/>
                </a:cubicBezTo>
                <a:lnTo>
                  <a:pt x="215" y="471"/>
                </a:lnTo>
                <a:cubicBezTo>
                  <a:pt x="211" y="471"/>
                  <a:pt x="207" y="467"/>
                  <a:pt x="207" y="463"/>
                </a:cubicBezTo>
                <a:cubicBezTo>
                  <a:pt x="207" y="458"/>
                  <a:pt x="211" y="455"/>
                  <a:pt x="215" y="455"/>
                </a:cubicBezTo>
                <a:close/>
                <a:moveTo>
                  <a:pt x="218" y="380"/>
                </a:moveTo>
                <a:lnTo>
                  <a:pt x="302" y="242"/>
                </a:lnTo>
                <a:lnTo>
                  <a:pt x="331" y="260"/>
                </a:lnTo>
                <a:lnTo>
                  <a:pt x="248" y="398"/>
                </a:lnTo>
                <a:lnTo>
                  <a:pt x="218" y="380"/>
                </a:lnTo>
                <a:close/>
                <a:moveTo>
                  <a:pt x="159" y="344"/>
                </a:moveTo>
                <a:lnTo>
                  <a:pt x="243" y="207"/>
                </a:lnTo>
                <a:lnTo>
                  <a:pt x="272" y="224"/>
                </a:lnTo>
                <a:lnTo>
                  <a:pt x="189" y="362"/>
                </a:lnTo>
                <a:lnTo>
                  <a:pt x="159" y="344"/>
                </a:lnTo>
                <a:close/>
                <a:moveTo>
                  <a:pt x="146" y="456"/>
                </a:moveTo>
                <a:lnTo>
                  <a:pt x="154" y="387"/>
                </a:lnTo>
                <a:lnTo>
                  <a:pt x="211" y="422"/>
                </a:lnTo>
                <a:lnTo>
                  <a:pt x="155" y="461"/>
                </a:lnTo>
                <a:cubicBezTo>
                  <a:pt x="149" y="465"/>
                  <a:pt x="145" y="463"/>
                  <a:pt x="146" y="456"/>
                </a:cubicBezTo>
                <a:close/>
                <a:moveTo>
                  <a:pt x="266" y="168"/>
                </a:moveTo>
                <a:lnTo>
                  <a:pt x="253" y="188"/>
                </a:lnTo>
                <a:lnTo>
                  <a:pt x="342" y="242"/>
                </a:lnTo>
                <a:lnTo>
                  <a:pt x="354" y="222"/>
                </a:lnTo>
                <a:lnTo>
                  <a:pt x="266" y="168"/>
                </a:lnTo>
                <a:close/>
                <a:moveTo>
                  <a:pt x="285" y="138"/>
                </a:moveTo>
                <a:cubicBezTo>
                  <a:pt x="290" y="129"/>
                  <a:pt x="302" y="126"/>
                  <a:pt x="311" y="131"/>
                </a:cubicBezTo>
                <a:lnTo>
                  <a:pt x="366" y="165"/>
                </a:lnTo>
                <a:cubicBezTo>
                  <a:pt x="375" y="170"/>
                  <a:pt x="378" y="182"/>
                  <a:pt x="373" y="191"/>
                </a:cubicBezTo>
                <a:lnTo>
                  <a:pt x="365" y="204"/>
                </a:lnTo>
                <a:lnTo>
                  <a:pt x="277" y="150"/>
                </a:lnTo>
                <a:lnTo>
                  <a:pt x="285" y="138"/>
                </a:lnTo>
                <a:close/>
              </a:path>
            </a:pathLst>
          </a:cu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a0da"/>
              </a:solidFill>
              <a:latin typeface="Arial"/>
            </a:endParaRPr>
          </a:p>
        </p:txBody>
      </p:sp>
      <p:sp>
        <p:nvSpPr>
          <p:cNvPr id="327" name="直接连接符 24"/>
          <p:cNvSpPr/>
          <p:nvPr/>
        </p:nvSpPr>
        <p:spPr>
          <a:xfrm>
            <a:off x="1258920" y="598320"/>
            <a:ext cx="9569520" cy="0"/>
          </a:xfrm>
          <a:prstGeom prst="line">
            <a:avLst/>
          </a:prstGeom>
          <a:ln w="9360">
            <a:solidFill>
              <a:srgbClr val="949494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aa0da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41320" y="590400"/>
            <a:ext cx="10515600" cy="63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329" name="图片 150" descr="《俪人教师》论文正文"/>
          <p:cNvPicPr/>
          <p:nvPr/>
        </p:nvPicPr>
        <p:blipFill>
          <a:blip r:embed="rId1"/>
          <a:srcRect l="0" t="0" r="0" b="8174"/>
          <a:stretch/>
        </p:blipFill>
        <p:spPr>
          <a:xfrm>
            <a:off x="6278400" y="264960"/>
            <a:ext cx="2365560" cy="3483000"/>
          </a:xfrm>
          <a:prstGeom prst="rect">
            <a:avLst/>
          </a:prstGeom>
          <a:ln w="0">
            <a:noFill/>
          </a:ln>
        </p:spPr>
      </p:pic>
      <p:pic>
        <p:nvPicPr>
          <p:cNvPr id="330" name="图片 159" descr="《青春岁月》论文正文"/>
          <p:cNvPicPr/>
          <p:nvPr/>
        </p:nvPicPr>
        <p:blipFill>
          <a:blip r:embed="rId2"/>
          <a:stretch/>
        </p:blipFill>
        <p:spPr>
          <a:xfrm>
            <a:off x="8645400" y="407880"/>
            <a:ext cx="2408400" cy="3346560"/>
          </a:xfrm>
          <a:prstGeom prst="rect">
            <a:avLst/>
          </a:prstGeom>
          <a:ln w="0">
            <a:noFill/>
          </a:ln>
        </p:spPr>
      </p:pic>
      <p:pic>
        <p:nvPicPr>
          <p:cNvPr id="331" name="图片 18" descr="C:/Users/lenovo/AppData/Local/Temp/picturescale_20200913201754/output_20200913201756.jpgoutput_20200913201756"/>
          <p:cNvPicPr/>
          <p:nvPr/>
        </p:nvPicPr>
        <p:blipFill>
          <a:blip r:embed="rId3"/>
          <a:srcRect l="5534" t="0" r="5902" b="0"/>
          <a:stretch/>
        </p:blipFill>
        <p:spPr>
          <a:xfrm>
            <a:off x="7016760" y="3990960"/>
            <a:ext cx="3367080" cy="2695680"/>
          </a:xfrm>
          <a:prstGeom prst="rect">
            <a:avLst/>
          </a:prstGeom>
          <a:ln w="0">
            <a:noFill/>
          </a:ln>
        </p:spPr>
      </p:pic>
      <p:pic>
        <p:nvPicPr>
          <p:cNvPr id="332" name="图片 3" descr="华师博士论坛三等奖的副本"/>
          <p:cNvPicPr/>
          <p:nvPr/>
        </p:nvPicPr>
        <p:blipFill>
          <a:blip r:embed="rId4"/>
          <a:srcRect l="724" t="0" r="0" b="0"/>
          <a:stretch/>
        </p:blipFill>
        <p:spPr>
          <a:xfrm rot="16200000">
            <a:off x="1290600" y="-506520"/>
            <a:ext cx="3827520" cy="5446800"/>
          </a:xfrm>
          <a:prstGeom prst="rect">
            <a:avLst/>
          </a:prstGeom>
          <a:ln w="0">
            <a:noFill/>
          </a:ln>
        </p:spPr>
      </p:pic>
      <p:sp>
        <p:nvSpPr>
          <p:cNvPr id="333" name="Oval 10"/>
          <p:cNvSpPr/>
          <p:nvPr/>
        </p:nvSpPr>
        <p:spPr>
          <a:xfrm>
            <a:off x="2936880" y="264960"/>
            <a:ext cx="463680" cy="463680"/>
          </a:xfrm>
          <a:prstGeom prst="ellipse">
            <a:avLst/>
          </a:prstGeom>
          <a:solidFill>
            <a:srgbClr val="1aa0da"/>
          </a:solidFill>
          <a:ln w="19080">
            <a:solidFill>
              <a:srgbClr val="ffffff"/>
            </a:solidFill>
            <a:round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8f8f8"/>
                </a:solidFill>
                <a:latin typeface="Lifeline JL"/>
                <a:ea typeface="微软雅黑"/>
              </a:rPr>
              <a:t>2</a:t>
            </a:r>
            <a:endParaRPr b="0" lang="en-US" sz="1800" spc="-1" strike="noStrike">
              <a:solidFill>
                <a:srgbClr val="1aa0da"/>
              </a:solidFill>
              <a:latin typeface="Arial"/>
            </a:endParaRPr>
          </a:p>
        </p:txBody>
      </p:sp>
      <p:sp>
        <p:nvSpPr>
          <p:cNvPr id="334" name="Oval 10"/>
          <p:cNvSpPr/>
          <p:nvPr/>
        </p:nvSpPr>
        <p:spPr>
          <a:xfrm>
            <a:off x="7489800" y="3440160"/>
            <a:ext cx="463680" cy="463680"/>
          </a:xfrm>
          <a:prstGeom prst="ellipse">
            <a:avLst/>
          </a:prstGeom>
          <a:solidFill>
            <a:srgbClr val="1aa0da"/>
          </a:solidFill>
          <a:ln w="19080">
            <a:solidFill>
              <a:srgbClr val="ffffff"/>
            </a:solidFill>
            <a:round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8f8f8"/>
                </a:solidFill>
                <a:latin typeface="Lifeline JL"/>
                <a:ea typeface="微软雅黑"/>
              </a:rPr>
              <a:t>3</a:t>
            </a:r>
            <a:endParaRPr b="0" lang="en-US" sz="1800" spc="-1" strike="noStrike">
              <a:solidFill>
                <a:srgbClr val="1aa0da"/>
              </a:solidFill>
              <a:latin typeface="Arial"/>
            </a:endParaRPr>
          </a:p>
        </p:txBody>
      </p:sp>
      <p:sp>
        <p:nvSpPr>
          <p:cNvPr id="335" name="Oval 10"/>
          <p:cNvSpPr/>
          <p:nvPr/>
        </p:nvSpPr>
        <p:spPr>
          <a:xfrm>
            <a:off x="9513720" y="3440160"/>
            <a:ext cx="463680" cy="463680"/>
          </a:xfrm>
          <a:prstGeom prst="ellipse">
            <a:avLst/>
          </a:prstGeom>
          <a:solidFill>
            <a:srgbClr val="1aa0da"/>
          </a:solidFill>
          <a:ln w="19080">
            <a:solidFill>
              <a:srgbClr val="ffffff"/>
            </a:solidFill>
            <a:round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8f8f8"/>
                </a:solidFill>
                <a:latin typeface="Lifeline JL"/>
                <a:ea typeface="微软雅黑"/>
              </a:rPr>
              <a:t>4</a:t>
            </a:r>
            <a:endParaRPr b="0" lang="en-US" sz="1800" spc="-1" strike="noStrike">
              <a:solidFill>
                <a:srgbClr val="1aa0da"/>
              </a:solidFill>
              <a:latin typeface="Arial"/>
            </a:endParaRPr>
          </a:p>
        </p:txBody>
      </p:sp>
      <p:sp>
        <p:nvSpPr>
          <p:cNvPr id="336" name="Oval 10"/>
          <p:cNvSpPr/>
          <p:nvPr/>
        </p:nvSpPr>
        <p:spPr>
          <a:xfrm>
            <a:off x="6553080" y="5310360"/>
            <a:ext cx="463680" cy="463320"/>
          </a:xfrm>
          <a:prstGeom prst="ellipse">
            <a:avLst/>
          </a:prstGeom>
          <a:solidFill>
            <a:srgbClr val="1aa0da"/>
          </a:solidFill>
          <a:ln w="19080">
            <a:solidFill>
              <a:srgbClr val="ffffff"/>
            </a:solidFill>
            <a:round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8f8f8"/>
                </a:solidFill>
                <a:latin typeface="Lifeline JL"/>
                <a:ea typeface="微软雅黑"/>
              </a:rPr>
              <a:t>6</a:t>
            </a:r>
            <a:endParaRPr b="0" lang="en-US" sz="1800" spc="-1" strike="noStrike">
              <a:solidFill>
                <a:srgbClr val="1aa0da"/>
              </a:solidFill>
              <a:latin typeface="Arial"/>
            </a:endParaRPr>
          </a:p>
        </p:txBody>
      </p:sp>
      <p:pic>
        <p:nvPicPr>
          <p:cNvPr id="337" name="图片 114" descr="校级科研项目结题"/>
          <p:cNvPicPr/>
          <p:nvPr/>
        </p:nvPicPr>
        <p:blipFill>
          <a:blip r:embed="rId5"/>
          <a:srcRect l="2048" t="6951" r="4068" b="22796"/>
          <a:stretch/>
        </p:blipFill>
        <p:spPr>
          <a:xfrm>
            <a:off x="1982880" y="4395960"/>
            <a:ext cx="2442960" cy="2290680"/>
          </a:xfrm>
          <a:prstGeom prst="rect">
            <a:avLst/>
          </a:prstGeom>
          <a:ln w="0">
            <a:noFill/>
          </a:ln>
        </p:spPr>
      </p:pic>
      <p:sp>
        <p:nvSpPr>
          <p:cNvPr id="338" name="Oval 10"/>
          <p:cNvSpPr/>
          <p:nvPr/>
        </p:nvSpPr>
        <p:spPr>
          <a:xfrm>
            <a:off x="1362240" y="5310360"/>
            <a:ext cx="463320" cy="463320"/>
          </a:xfrm>
          <a:prstGeom prst="ellipse">
            <a:avLst/>
          </a:prstGeom>
          <a:solidFill>
            <a:srgbClr val="1aa0da"/>
          </a:solidFill>
          <a:ln w="19080">
            <a:solidFill>
              <a:srgbClr val="ffffff"/>
            </a:solidFill>
            <a:round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8f8f8"/>
                </a:solidFill>
                <a:latin typeface="Lifeline JL"/>
                <a:ea typeface="微软雅黑"/>
              </a:rPr>
              <a:t>5</a:t>
            </a:r>
            <a:endParaRPr b="0" lang="en-US" sz="1800" spc="-1" strike="noStrike">
              <a:solidFill>
                <a:srgbClr val="1aa0da"/>
              </a:solidFill>
              <a:latin typeface="Arial"/>
            </a:endParaRPr>
          </a:p>
        </p:txBody>
      </p:sp>
    </p:spTree>
  </p:cSld>
  <p:transition spd="slow" advTm="10000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4-08T14:19:00Z</dcterms:created>
  <dc:creator/>
  <dc:description/>
  <dc:language>en-US</dc:language>
  <cp:lastModifiedBy>a123</cp:lastModifiedBy>
  <dcterms:modified xsi:type="dcterms:W3CDTF">2021-04-08T15:00:26Z</dcterms:modified>
  <cp:revision>18</cp:revision>
  <dc:subject/>
  <dc:title>100045.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3.3.1.5149</vt:lpwstr>
  </property>
</Properties>
</file>